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8FC-2879-4C59-8B8A-72A42071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5BD1-56E2-4C65-8804-992B4AE4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2DF-78E6-4DF3-B444-9B5AE49A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28C-AF94-466F-8457-66B85074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20A1-D718-42B8-BC25-64E47A85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FB81-7CD3-4058-8607-20BC6644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0FD1-B1DE-4291-BA6B-E27E4BF2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61EB-3ABE-47B3-A650-AED4B531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987E-5E3F-4976-968F-9BFA65AA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5CC8-CE1C-4A9B-8307-1D39BA0D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553D-B0A0-40F4-9873-89F317B8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2A0-CC76-4557-9DB0-1DF2525C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65FD-9134-423B-A647-24DC7F9C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F540-DF2E-47DC-8A81-2D1D73C1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338A-A07E-4D04-ABC9-AB61384E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A2C8-B776-43AF-BBD0-7C928122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703C-784E-4313-8B8D-F077CD7C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5CE-B8CF-4863-A329-E5B86DE2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46C-6A80-4544-A75B-A8694991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066-A9F2-43D4-91BC-AF2A89CC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33E-F98E-4F18-8396-48E72852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8C4-A9C9-4D46-A8FB-79555F92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772B-E1B0-4534-9EBC-41637ABB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58B8-7361-426F-9A72-062D0BD3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C88A-7021-4C30-A06E-40764363CA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89AE-051D-4E24-8C4D-7F669443FE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can find the equation of a line from the gradient and the y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can solve equations by drawing associated lines on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60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05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25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6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5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4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65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4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8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07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38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604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d8e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Finding equations of straight li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284720" y="1483920"/>
            <a:ext cx="0" cy="537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124000" y="1699920"/>
            <a:ext cx="4753080" cy="4753080"/>
          </a:xfrm>
          <a:prstGeom prst="line">
            <a:avLst/>
          </a:prstGeom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2133720"/>
            <a:ext cx="7634160" cy="251928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419640" y="4723920"/>
            <a:ext cx="3457440" cy="172908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1700280"/>
            <a:ext cx="1728720" cy="5157720"/>
          </a:xfrm>
          <a:prstGeom prst="line">
            <a:avLst/>
          </a:prstGeom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42080" y="1598760"/>
            <a:ext cx="196920" cy="295200"/>
          </a:xfrm>
          <a:custGeom>
            <a:avLst/>
            <a:gdLst/>
            <a:ahLst/>
            <a:rect l="l" t="t" r="r" b="b"/>
            <a:pathLst>
              <a:path w="546" h="820">
                <a:moveTo>
                  <a:pt x="18752" y="5060"/>
                </a:moveTo>
                <a:cubicBezTo>
                  <a:pt x="18745" y="5090"/>
                  <a:pt x="18735" y="5105"/>
                  <a:pt x="18728" y="5135"/>
                </a:cubicBezTo>
                <a:cubicBezTo>
                  <a:pt x="18728" y="5095"/>
                  <a:pt x="18734" y="5067"/>
                  <a:pt x="18752" y="5035"/>
                </a:cubicBezTo>
                <a:cubicBezTo>
                  <a:pt x="18793" y="4961"/>
                  <a:pt x="18853" y="4884"/>
                  <a:pt x="18901" y="4812"/>
                </a:cubicBezTo>
                <a:cubicBezTo>
                  <a:pt x="18964" y="4718"/>
                  <a:pt x="19042" y="4638"/>
                  <a:pt x="19100" y="4539"/>
                </a:cubicBezTo>
                <a:cubicBezTo>
                  <a:pt x="19131" y="4486"/>
                  <a:pt x="19166" y="4454"/>
                  <a:pt x="19224" y="4440"/>
                </a:cubicBezTo>
                <a:cubicBezTo>
                  <a:pt x="19235" y="4516"/>
                  <a:pt x="19248" y="4577"/>
                  <a:pt x="19248" y="4663"/>
                </a:cubicBezTo>
                <a:cubicBezTo>
                  <a:pt x="19248" y="4783"/>
                  <a:pt x="19236" y="4895"/>
                  <a:pt x="19224" y="5011"/>
                </a:cubicBezTo>
                <a:cubicBezTo>
                  <a:pt x="19216" y="5092"/>
                  <a:pt x="19224" y="5177"/>
                  <a:pt x="19224" y="5259"/>
                </a:cubicBezTo>
              </a:path>
              <a:path w="546" h="820">
                <a:moveTo>
                  <a:pt x="19273" y="5011"/>
                </a:moveTo>
                <a:cubicBezTo>
                  <a:pt x="19255" y="4968"/>
                  <a:pt x="19247" y="4921"/>
                  <a:pt x="19199" y="4911"/>
                </a:cubicBezTo>
                <a:cubicBezTo>
                  <a:pt x="19109" y="4892"/>
                  <a:pt x="19019" y="4866"/>
                  <a:pt x="18926" y="4862"/>
                </a:cubicBezTo>
                <a:cubicBezTo>
                  <a:pt x="18909" y="4862"/>
                  <a:pt x="18893" y="4862"/>
                  <a:pt x="18876" y="48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74880" y="6357960"/>
            <a:ext cx="169920" cy="258840"/>
          </a:xfrm>
          <a:custGeom>
            <a:avLst/>
            <a:gdLst/>
            <a:ahLst/>
            <a:rect l="l" t="t" r="r" b="b"/>
            <a:pathLst>
              <a:path w="472" h="720">
                <a:moveTo>
                  <a:pt x="5209" y="18207"/>
                </a:moveTo>
                <a:cubicBezTo>
                  <a:pt x="5209" y="18215"/>
                  <a:pt x="5209" y="18223"/>
                  <a:pt x="5209" y="18231"/>
                </a:cubicBezTo>
                <a:cubicBezTo>
                  <a:pt x="5248" y="18218"/>
                  <a:pt x="5236" y="18193"/>
                  <a:pt x="5259" y="18157"/>
                </a:cubicBezTo>
                <a:cubicBezTo>
                  <a:pt x="5295" y="18102"/>
                  <a:pt x="5308" y="18005"/>
                  <a:pt x="5333" y="17934"/>
                </a:cubicBezTo>
                <a:cubicBezTo>
                  <a:pt x="5360" y="17855"/>
                  <a:pt x="5393" y="17780"/>
                  <a:pt x="5432" y="17711"/>
                </a:cubicBezTo>
                <a:cubicBezTo>
                  <a:pt x="5443" y="17692"/>
                  <a:pt x="5508" y="17609"/>
                  <a:pt x="5531" y="17686"/>
                </a:cubicBezTo>
                <a:cubicBezTo>
                  <a:pt x="5555" y="17765"/>
                  <a:pt x="5563" y="17853"/>
                  <a:pt x="5581" y="17934"/>
                </a:cubicBezTo>
                <a:cubicBezTo>
                  <a:pt x="5603" y="18031"/>
                  <a:pt x="5606" y="18137"/>
                  <a:pt x="5631" y="18231"/>
                </a:cubicBezTo>
                <a:cubicBezTo>
                  <a:pt x="5645" y="18283"/>
                  <a:pt x="5669" y="18327"/>
                  <a:pt x="5680" y="18380"/>
                </a:cubicBezTo>
              </a:path>
              <a:path w="472" h="720">
                <a:moveTo>
                  <a:pt x="5631" y="18157"/>
                </a:moveTo>
                <a:cubicBezTo>
                  <a:pt x="5617" y="18060"/>
                  <a:pt x="5612" y="18101"/>
                  <a:pt x="5531" y="18083"/>
                </a:cubicBezTo>
                <a:cubicBezTo>
                  <a:pt x="5443" y="18063"/>
                  <a:pt x="5375" y="18058"/>
                  <a:pt x="5283" y="180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9000" y="1955880"/>
            <a:ext cx="162000" cy="276120"/>
          </a:xfrm>
          <a:custGeom>
            <a:avLst/>
            <a:gdLst/>
            <a:ahLst/>
            <a:rect l="l" t="t" r="r" b="b"/>
            <a:pathLst>
              <a:path w="448" h="770">
                <a:moveTo>
                  <a:pt x="3051" y="5581"/>
                </a:moveTo>
                <a:cubicBezTo>
                  <a:pt x="3051" y="5540"/>
                  <a:pt x="3051" y="5614"/>
                  <a:pt x="3051" y="5655"/>
                </a:cubicBezTo>
                <a:cubicBezTo>
                  <a:pt x="3051" y="5738"/>
                  <a:pt x="3026" y="5815"/>
                  <a:pt x="3026" y="5904"/>
                </a:cubicBezTo>
                <a:cubicBezTo>
                  <a:pt x="3026" y="5983"/>
                  <a:pt x="3051" y="6048"/>
                  <a:pt x="3051" y="6127"/>
                </a:cubicBezTo>
                <a:cubicBezTo>
                  <a:pt x="3051" y="6135"/>
                  <a:pt x="3051" y="6144"/>
                  <a:pt x="3051" y="6152"/>
                </a:cubicBezTo>
              </a:path>
              <a:path w="448" h="770">
                <a:moveTo>
                  <a:pt x="3026" y="5705"/>
                </a:moveTo>
                <a:cubicBezTo>
                  <a:pt x="3026" y="5654"/>
                  <a:pt x="3037" y="5647"/>
                  <a:pt x="3051" y="5606"/>
                </a:cubicBezTo>
                <a:cubicBezTo>
                  <a:pt x="3070" y="5550"/>
                  <a:pt x="3104" y="5494"/>
                  <a:pt x="3150" y="5457"/>
                </a:cubicBezTo>
                <a:cubicBezTo>
                  <a:pt x="3170" y="5441"/>
                  <a:pt x="3244" y="5415"/>
                  <a:pt x="3274" y="5432"/>
                </a:cubicBezTo>
                <a:cubicBezTo>
                  <a:pt x="3327" y="5462"/>
                  <a:pt x="3324" y="5503"/>
                  <a:pt x="3324" y="5556"/>
                </a:cubicBezTo>
                <a:cubicBezTo>
                  <a:pt x="3324" y="5631"/>
                  <a:pt x="3251" y="5700"/>
                  <a:pt x="3200" y="5755"/>
                </a:cubicBezTo>
                <a:cubicBezTo>
                  <a:pt x="3160" y="5798"/>
                  <a:pt x="3136" y="5847"/>
                  <a:pt x="3125" y="5904"/>
                </a:cubicBezTo>
                <a:cubicBezTo>
                  <a:pt x="3162" y="5931"/>
                  <a:pt x="3227" y="5945"/>
                  <a:pt x="3274" y="5953"/>
                </a:cubicBezTo>
                <a:cubicBezTo>
                  <a:pt x="3334" y="5963"/>
                  <a:pt x="3401" y="5965"/>
                  <a:pt x="3448" y="6003"/>
                </a:cubicBezTo>
                <a:cubicBezTo>
                  <a:pt x="3486" y="6033"/>
                  <a:pt x="3489" y="6099"/>
                  <a:pt x="3448" y="6127"/>
                </a:cubicBezTo>
                <a:cubicBezTo>
                  <a:pt x="3387" y="6170"/>
                  <a:pt x="3294" y="6192"/>
                  <a:pt x="3225" y="6201"/>
                </a:cubicBezTo>
                <a:cubicBezTo>
                  <a:pt x="3159" y="6201"/>
                  <a:pt x="3142" y="6201"/>
                  <a:pt x="3101" y="6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599320" y="4429080"/>
            <a:ext cx="196920" cy="285840"/>
          </a:xfrm>
          <a:custGeom>
            <a:avLst/>
            <a:gdLst/>
            <a:ahLst/>
            <a:rect l="l" t="t" r="r" b="b"/>
            <a:pathLst>
              <a:path w="547" h="795">
                <a:moveTo>
                  <a:pt x="24284" y="12402"/>
                </a:moveTo>
                <a:cubicBezTo>
                  <a:pt x="24239" y="12458"/>
                  <a:pt x="24232" y="12510"/>
                  <a:pt x="24209" y="12576"/>
                </a:cubicBezTo>
                <a:cubicBezTo>
                  <a:pt x="24173" y="12682"/>
                  <a:pt x="24153" y="12794"/>
                  <a:pt x="24110" y="12898"/>
                </a:cubicBezTo>
                <a:cubicBezTo>
                  <a:pt x="24090" y="12947"/>
                  <a:pt x="24085" y="12981"/>
                  <a:pt x="24061" y="13022"/>
                </a:cubicBezTo>
              </a:path>
              <a:path w="547" h="795">
                <a:moveTo>
                  <a:pt x="24160" y="12502"/>
                </a:moveTo>
                <a:cubicBezTo>
                  <a:pt x="24143" y="12480"/>
                  <a:pt x="24116" y="12435"/>
                  <a:pt x="24135" y="12402"/>
                </a:cubicBezTo>
                <a:cubicBezTo>
                  <a:pt x="24163" y="12352"/>
                  <a:pt x="24180" y="12350"/>
                  <a:pt x="24234" y="12328"/>
                </a:cubicBezTo>
                <a:cubicBezTo>
                  <a:pt x="24311" y="12297"/>
                  <a:pt x="24313" y="12307"/>
                  <a:pt x="24383" y="12328"/>
                </a:cubicBezTo>
                <a:cubicBezTo>
                  <a:pt x="24411" y="12336"/>
                  <a:pt x="24425" y="12412"/>
                  <a:pt x="24408" y="12452"/>
                </a:cubicBezTo>
                <a:cubicBezTo>
                  <a:pt x="24385" y="12508"/>
                  <a:pt x="24302" y="12521"/>
                  <a:pt x="24259" y="12551"/>
                </a:cubicBezTo>
                <a:cubicBezTo>
                  <a:pt x="24235" y="12568"/>
                  <a:pt x="24176" y="12617"/>
                  <a:pt x="24185" y="12650"/>
                </a:cubicBezTo>
                <a:cubicBezTo>
                  <a:pt x="24207" y="12731"/>
                  <a:pt x="24309" y="12742"/>
                  <a:pt x="24358" y="12799"/>
                </a:cubicBezTo>
                <a:cubicBezTo>
                  <a:pt x="24382" y="12827"/>
                  <a:pt x="24443" y="12936"/>
                  <a:pt x="24433" y="12973"/>
                </a:cubicBezTo>
                <a:cubicBezTo>
                  <a:pt x="24414" y="13042"/>
                  <a:pt x="24298" y="13087"/>
                  <a:pt x="24234" y="13097"/>
                </a:cubicBezTo>
                <a:cubicBezTo>
                  <a:pt x="24117" y="13115"/>
                  <a:pt x="24041" y="13069"/>
                  <a:pt x="23937" y="13047"/>
                </a:cubicBezTo>
                <a:cubicBezTo>
                  <a:pt x="23920" y="13047"/>
                  <a:pt x="23904" y="13047"/>
                  <a:pt x="23887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1880" y="1527120"/>
            <a:ext cx="2768400" cy="1187640"/>
          </a:xfrm>
          <a:custGeom>
            <a:avLst/>
            <a:gdLst/>
            <a:ahLst/>
            <a:rect l="l" t="t" r="r" b="b"/>
            <a:pathLst>
              <a:path w="7691" h="3300">
                <a:moveTo>
                  <a:pt x="11013" y="4341"/>
                </a:moveTo>
                <a:cubicBezTo>
                  <a:pt x="11021" y="4341"/>
                  <a:pt x="11030" y="4341"/>
                  <a:pt x="11038" y="4341"/>
                </a:cubicBezTo>
                <a:cubicBezTo>
                  <a:pt x="11038" y="4261"/>
                  <a:pt x="11022" y="4294"/>
                  <a:pt x="10964" y="4266"/>
                </a:cubicBezTo>
                <a:cubicBezTo>
                  <a:pt x="10896" y="4233"/>
                  <a:pt x="10851" y="4273"/>
                  <a:pt x="10790" y="4316"/>
                </a:cubicBezTo>
                <a:cubicBezTo>
                  <a:pt x="10695" y="4383"/>
                  <a:pt x="10619" y="4457"/>
                  <a:pt x="10567" y="4564"/>
                </a:cubicBezTo>
                <a:cubicBezTo>
                  <a:pt x="10540" y="4621"/>
                  <a:pt x="10483" y="4748"/>
                  <a:pt x="10517" y="4812"/>
                </a:cubicBezTo>
                <a:cubicBezTo>
                  <a:pt x="10563" y="4899"/>
                  <a:pt x="10603" y="4911"/>
                  <a:pt x="10691" y="4911"/>
                </a:cubicBezTo>
                <a:cubicBezTo>
                  <a:pt x="10774" y="4911"/>
                  <a:pt x="10815" y="4899"/>
                  <a:pt x="10889" y="4862"/>
                </a:cubicBezTo>
                <a:cubicBezTo>
                  <a:pt x="10933" y="4840"/>
                  <a:pt x="10945" y="4837"/>
                  <a:pt x="10964" y="4812"/>
                </a:cubicBezTo>
              </a:path>
              <a:path w="7691" h="3300">
                <a:moveTo>
                  <a:pt x="5308" y="5482"/>
                </a:moveTo>
                <a:cubicBezTo>
                  <a:pt x="5295" y="5442"/>
                  <a:pt x="5296" y="5472"/>
                  <a:pt x="5283" y="5432"/>
                </a:cubicBezTo>
                <a:cubicBezTo>
                  <a:pt x="5283" y="5489"/>
                  <a:pt x="5299" y="5528"/>
                  <a:pt x="5308" y="5581"/>
                </a:cubicBezTo>
                <a:cubicBezTo>
                  <a:pt x="5313" y="5610"/>
                  <a:pt x="5308" y="5649"/>
                  <a:pt x="5308" y="5680"/>
                </a:cubicBezTo>
                <a:cubicBezTo>
                  <a:pt x="5333" y="5672"/>
                  <a:pt x="5351" y="5622"/>
                  <a:pt x="5358" y="5581"/>
                </a:cubicBezTo>
                <a:cubicBezTo>
                  <a:pt x="5370" y="5515"/>
                  <a:pt x="5366" y="5434"/>
                  <a:pt x="5407" y="5383"/>
                </a:cubicBezTo>
                <a:cubicBezTo>
                  <a:pt x="5415" y="5375"/>
                  <a:pt x="5424" y="5366"/>
                  <a:pt x="5432" y="5358"/>
                </a:cubicBezTo>
                <a:cubicBezTo>
                  <a:pt x="5469" y="5370"/>
                  <a:pt x="5484" y="5435"/>
                  <a:pt x="5507" y="5482"/>
                </a:cubicBezTo>
                <a:cubicBezTo>
                  <a:pt x="5531" y="5530"/>
                  <a:pt x="5531" y="5554"/>
                  <a:pt x="5531" y="5606"/>
                </a:cubicBezTo>
                <a:cubicBezTo>
                  <a:pt x="5542" y="5564"/>
                  <a:pt x="5560" y="5526"/>
                  <a:pt x="5581" y="5482"/>
                </a:cubicBezTo>
                <a:cubicBezTo>
                  <a:pt x="5612" y="5417"/>
                  <a:pt x="5635" y="5396"/>
                  <a:pt x="5705" y="5383"/>
                </a:cubicBezTo>
                <a:cubicBezTo>
                  <a:pt x="5740" y="5451"/>
                  <a:pt x="5788" y="5532"/>
                  <a:pt x="5804" y="5606"/>
                </a:cubicBezTo>
                <a:cubicBezTo>
                  <a:pt x="5804" y="5647"/>
                  <a:pt x="5804" y="5655"/>
                  <a:pt x="5804" y="5680"/>
                </a:cubicBezTo>
              </a:path>
              <a:path w="7691" h="3300">
                <a:moveTo>
                  <a:pt x="6176" y="5308"/>
                </a:moveTo>
                <a:cubicBezTo>
                  <a:pt x="6123" y="5308"/>
                  <a:pt x="6106" y="5328"/>
                  <a:pt x="6052" y="5333"/>
                </a:cubicBezTo>
                <a:cubicBezTo>
                  <a:pt x="6024" y="5333"/>
                  <a:pt x="6014" y="5336"/>
                  <a:pt x="6003" y="5358"/>
                </a:cubicBezTo>
              </a:path>
              <a:path w="7691" h="3300">
                <a:moveTo>
                  <a:pt x="6176" y="5432"/>
                </a:moveTo>
                <a:cubicBezTo>
                  <a:pt x="6221" y="5462"/>
                  <a:pt x="6258" y="5498"/>
                  <a:pt x="6176" y="5507"/>
                </a:cubicBezTo>
                <a:cubicBezTo>
                  <a:pt x="6144" y="5511"/>
                  <a:pt x="6110" y="5507"/>
                  <a:pt x="6077" y="5507"/>
                </a:cubicBezTo>
              </a:path>
              <a:path w="7691" h="3300">
                <a:moveTo>
                  <a:pt x="6623" y="5407"/>
                </a:moveTo>
                <a:cubicBezTo>
                  <a:pt x="6623" y="5415"/>
                  <a:pt x="6623" y="5424"/>
                  <a:pt x="6623" y="5432"/>
                </a:cubicBezTo>
                <a:cubicBezTo>
                  <a:pt x="6659" y="5432"/>
                  <a:pt x="6695" y="5425"/>
                  <a:pt x="6722" y="5407"/>
                </a:cubicBezTo>
                <a:cubicBezTo>
                  <a:pt x="6766" y="5379"/>
                  <a:pt x="6789" y="5383"/>
                  <a:pt x="6846" y="5383"/>
                </a:cubicBezTo>
              </a:path>
              <a:path w="7691" h="3300">
                <a:moveTo>
                  <a:pt x="7268" y="5035"/>
                </a:moveTo>
                <a:cubicBezTo>
                  <a:pt x="7260" y="5019"/>
                  <a:pt x="7251" y="5002"/>
                  <a:pt x="7243" y="4986"/>
                </a:cubicBezTo>
                <a:cubicBezTo>
                  <a:pt x="7243" y="5047"/>
                  <a:pt x="7265" y="5098"/>
                  <a:pt x="7268" y="5159"/>
                </a:cubicBezTo>
                <a:cubicBezTo>
                  <a:pt x="7271" y="5211"/>
                  <a:pt x="7282" y="5216"/>
                  <a:pt x="7293" y="5259"/>
                </a:cubicBezTo>
              </a:path>
              <a:path w="7691" h="3300">
                <a:moveTo>
                  <a:pt x="7491" y="5308"/>
                </a:moveTo>
                <a:cubicBezTo>
                  <a:pt x="7434" y="5308"/>
                  <a:pt x="7395" y="5324"/>
                  <a:pt x="7342" y="5333"/>
                </a:cubicBezTo>
                <a:cubicBezTo>
                  <a:pt x="7292" y="5341"/>
                  <a:pt x="7269" y="5358"/>
                  <a:pt x="7218" y="5358"/>
                </a:cubicBezTo>
                <a:cubicBezTo>
                  <a:pt x="7193" y="5358"/>
                  <a:pt x="7169" y="5358"/>
                  <a:pt x="7144" y="5358"/>
                </a:cubicBezTo>
              </a:path>
              <a:path w="7691" h="3300">
                <a:moveTo>
                  <a:pt x="7342" y="5531"/>
                </a:moveTo>
                <a:cubicBezTo>
                  <a:pt x="7342" y="5563"/>
                  <a:pt x="7350" y="5525"/>
                  <a:pt x="7392" y="5507"/>
                </a:cubicBezTo>
                <a:cubicBezTo>
                  <a:pt x="7449" y="5482"/>
                  <a:pt x="7468" y="5465"/>
                  <a:pt x="7516" y="5507"/>
                </a:cubicBezTo>
                <a:cubicBezTo>
                  <a:pt x="7556" y="5541"/>
                  <a:pt x="7547" y="5571"/>
                  <a:pt x="7516" y="5606"/>
                </a:cubicBezTo>
                <a:cubicBezTo>
                  <a:pt x="7495" y="5629"/>
                  <a:pt x="7452" y="5696"/>
                  <a:pt x="7466" y="5730"/>
                </a:cubicBezTo>
                <a:cubicBezTo>
                  <a:pt x="7476" y="5754"/>
                  <a:pt x="7544" y="5800"/>
                  <a:pt x="7565" y="5804"/>
                </a:cubicBezTo>
                <a:cubicBezTo>
                  <a:pt x="7596" y="5811"/>
                  <a:pt x="7675" y="5816"/>
                  <a:pt x="7640" y="5879"/>
                </a:cubicBezTo>
                <a:cubicBezTo>
                  <a:pt x="7612" y="5930"/>
                  <a:pt x="7514" y="5904"/>
                  <a:pt x="7466" y="5904"/>
                </a:cubicBezTo>
                <a:cubicBezTo>
                  <a:pt x="7450" y="5904"/>
                  <a:pt x="7433" y="5904"/>
                  <a:pt x="7417" y="5904"/>
                </a:cubicBezTo>
              </a:path>
              <a:path w="7691" h="3300">
                <a:moveTo>
                  <a:pt x="5407" y="6375"/>
                </a:moveTo>
                <a:cubicBezTo>
                  <a:pt x="5433" y="6368"/>
                  <a:pt x="5493" y="6354"/>
                  <a:pt x="5507" y="6325"/>
                </a:cubicBezTo>
                <a:cubicBezTo>
                  <a:pt x="5507" y="6317"/>
                  <a:pt x="5507" y="6308"/>
                  <a:pt x="5507" y="6300"/>
                </a:cubicBezTo>
                <a:cubicBezTo>
                  <a:pt x="5437" y="6317"/>
                  <a:pt x="5436" y="6358"/>
                  <a:pt x="5407" y="6424"/>
                </a:cubicBezTo>
                <a:cubicBezTo>
                  <a:pt x="5367" y="6515"/>
                  <a:pt x="5372" y="6572"/>
                  <a:pt x="5432" y="6648"/>
                </a:cubicBezTo>
                <a:cubicBezTo>
                  <a:pt x="5487" y="6718"/>
                  <a:pt x="5559" y="6699"/>
                  <a:pt x="5631" y="6672"/>
                </a:cubicBezTo>
                <a:cubicBezTo>
                  <a:pt x="5680" y="6648"/>
                  <a:pt x="5697" y="6639"/>
                  <a:pt x="5705" y="6598"/>
                </a:cubicBezTo>
              </a:path>
              <a:path w="7691" h="3300">
                <a:moveTo>
                  <a:pt x="6028" y="6276"/>
                </a:moveTo>
                <a:cubicBezTo>
                  <a:pt x="6068" y="6256"/>
                  <a:pt x="6084" y="6257"/>
                  <a:pt x="6077" y="6226"/>
                </a:cubicBezTo>
                <a:cubicBezTo>
                  <a:pt x="6040" y="6254"/>
                  <a:pt x="5995" y="6275"/>
                  <a:pt x="5953" y="6300"/>
                </a:cubicBezTo>
                <a:cubicBezTo>
                  <a:pt x="5910" y="6322"/>
                  <a:pt x="5898" y="6326"/>
                  <a:pt x="5879" y="6350"/>
                </a:cubicBezTo>
              </a:path>
              <a:path w="7691" h="3300">
                <a:moveTo>
                  <a:pt x="6077" y="6375"/>
                </a:moveTo>
                <a:cubicBezTo>
                  <a:pt x="6094" y="6375"/>
                  <a:pt x="6110" y="6375"/>
                  <a:pt x="6127" y="6375"/>
                </a:cubicBezTo>
                <a:cubicBezTo>
                  <a:pt x="6109" y="6447"/>
                  <a:pt x="6081" y="6422"/>
                  <a:pt x="6028" y="6449"/>
                </a:cubicBezTo>
                <a:cubicBezTo>
                  <a:pt x="6020" y="6457"/>
                  <a:pt x="6011" y="6466"/>
                  <a:pt x="6003" y="6474"/>
                </a:cubicBezTo>
              </a:path>
              <a:path w="7691" h="3300">
                <a:moveTo>
                  <a:pt x="6499" y="6251"/>
                </a:moveTo>
                <a:cubicBezTo>
                  <a:pt x="6451" y="6258"/>
                  <a:pt x="6441" y="6265"/>
                  <a:pt x="6400" y="6276"/>
                </a:cubicBezTo>
                <a:cubicBezTo>
                  <a:pt x="6400" y="6217"/>
                  <a:pt x="6420" y="6190"/>
                  <a:pt x="6474" y="6152"/>
                </a:cubicBezTo>
                <a:cubicBezTo>
                  <a:pt x="6520" y="6120"/>
                  <a:pt x="6597" y="6072"/>
                  <a:pt x="6648" y="6127"/>
                </a:cubicBezTo>
                <a:cubicBezTo>
                  <a:pt x="6688" y="6170"/>
                  <a:pt x="6685" y="6298"/>
                  <a:pt x="6672" y="6350"/>
                </a:cubicBezTo>
                <a:cubicBezTo>
                  <a:pt x="6653" y="6423"/>
                  <a:pt x="6604" y="6476"/>
                  <a:pt x="6598" y="6548"/>
                </a:cubicBezTo>
                <a:cubicBezTo>
                  <a:pt x="6594" y="6590"/>
                  <a:pt x="6599" y="6590"/>
                  <a:pt x="6623" y="6623"/>
                </a:cubicBezTo>
                <a:cubicBezTo>
                  <a:pt x="6662" y="6613"/>
                  <a:pt x="6708" y="6589"/>
                  <a:pt x="6747" y="6573"/>
                </a:cubicBezTo>
                <a:cubicBezTo>
                  <a:pt x="6803" y="6550"/>
                  <a:pt x="6872" y="6545"/>
                  <a:pt x="6921" y="6524"/>
                </a:cubicBezTo>
                <a:cubicBezTo>
                  <a:pt x="6929" y="6516"/>
                  <a:pt x="6937" y="6507"/>
                  <a:pt x="6945" y="6499"/>
                </a:cubicBezTo>
              </a:path>
              <a:path w="7691" h="3300">
                <a:moveTo>
                  <a:pt x="7094" y="6102"/>
                </a:moveTo>
                <a:cubicBezTo>
                  <a:pt x="7053" y="6102"/>
                  <a:pt x="7045" y="6102"/>
                  <a:pt x="7020" y="6102"/>
                </a:cubicBezTo>
                <a:cubicBezTo>
                  <a:pt x="7032" y="6066"/>
                  <a:pt x="7055" y="6068"/>
                  <a:pt x="7094" y="6052"/>
                </a:cubicBezTo>
                <a:cubicBezTo>
                  <a:pt x="7145" y="6031"/>
                  <a:pt x="7185" y="6005"/>
                  <a:pt x="7193" y="6077"/>
                </a:cubicBezTo>
                <a:cubicBezTo>
                  <a:pt x="7199" y="6133"/>
                  <a:pt x="7174" y="6112"/>
                  <a:pt x="7169" y="6152"/>
                </a:cubicBezTo>
                <a:cubicBezTo>
                  <a:pt x="7164" y="6192"/>
                  <a:pt x="7171" y="6195"/>
                  <a:pt x="7193" y="6226"/>
                </a:cubicBezTo>
                <a:cubicBezTo>
                  <a:pt x="7229" y="6190"/>
                  <a:pt x="7256" y="6179"/>
                  <a:pt x="7293" y="6152"/>
                </a:cubicBezTo>
              </a:path>
              <a:path w="7691" h="3300">
                <a:moveTo>
                  <a:pt x="7441" y="6300"/>
                </a:moveTo>
                <a:cubicBezTo>
                  <a:pt x="7395" y="6312"/>
                  <a:pt x="7338" y="6322"/>
                  <a:pt x="7293" y="6350"/>
                </a:cubicBezTo>
                <a:cubicBezTo>
                  <a:pt x="7255" y="6374"/>
                  <a:pt x="7229" y="6373"/>
                  <a:pt x="7193" y="6400"/>
                </a:cubicBezTo>
              </a:path>
              <a:path w="7691" h="3300">
                <a:moveTo>
                  <a:pt x="7293" y="6474"/>
                </a:moveTo>
                <a:cubicBezTo>
                  <a:pt x="7322" y="6466"/>
                  <a:pt x="7338" y="6456"/>
                  <a:pt x="7367" y="6449"/>
                </a:cubicBezTo>
                <a:cubicBezTo>
                  <a:pt x="7385" y="6394"/>
                  <a:pt x="7392" y="6436"/>
                  <a:pt x="7392" y="6474"/>
                </a:cubicBezTo>
                <a:cubicBezTo>
                  <a:pt x="7392" y="6514"/>
                  <a:pt x="7367" y="6528"/>
                  <a:pt x="7367" y="6573"/>
                </a:cubicBezTo>
                <a:cubicBezTo>
                  <a:pt x="7367" y="6581"/>
                  <a:pt x="7367" y="6590"/>
                  <a:pt x="7367" y="6598"/>
                </a:cubicBezTo>
                <a:cubicBezTo>
                  <a:pt x="7412" y="6609"/>
                  <a:pt x="7437" y="6623"/>
                  <a:pt x="7491" y="6623"/>
                </a:cubicBezTo>
                <a:cubicBezTo>
                  <a:pt x="7499" y="6623"/>
                  <a:pt x="7508" y="6623"/>
                  <a:pt x="7516" y="6623"/>
                </a:cubicBezTo>
                <a:cubicBezTo>
                  <a:pt x="7505" y="6667"/>
                  <a:pt x="7475" y="6688"/>
                  <a:pt x="7441" y="6722"/>
                </a:cubicBezTo>
                <a:cubicBezTo>
                  <a:pt x="7433" y="6730"/>
                  <a:pt x="7425" y="6739"/>
                  <a:pt x="7417" y="6747"/>
                </a:cubicBezTo>
              </a:path>
              <a:path w="7691" h="3300">
                <a:moveTo>
                  <a:pt x="7541" y="4787"/>
                </a:moveTo>
                <a:cubicBezTo>
                  <a:pt x="7516" y="4787"/>
                  <a:pt x="7508" y="4787"/>
                  <a:pt x="7491" y="4787"/>
                </a:cubicBezTo>
                <a:cubicBezTo>
                  <a:pt x="7541" y="4787"/>
                  <a:pt x="7540" y="4787"/>
                  <a:pt x="7590" y="4787"/>
                </a:cubicBezTo>
                <a:cubicBezTo>
                  <a:pt x="7673" y="4787"/>
                  <a:pt x="7714" y="4799"/>
                  <a:pt x="7789" y="4837"/>
                </a:cubicBezTo>
                <a:cubicBezTo>
                  <a:pt x="7890" y="4888"/>
                  <a:pt x="7904" y="4953"/>
                  <a:pt x="7962" y="5035"/>
                </a:cubicBezTo>
                <a:cubicBezTo>
                  <a:pt x="8010" y="5102"/>
                  <a:pt x="8032" y="5147"/>
                  <a:pt x="8037" y="5234"/>
                </a:cubicBezTo>
                <a:cubicBezTo>
                  <a:pt x="8044" y="5366"/>
                  <a:pt x="8014" y="5516"/>
                  <a:pt x="8062" y="5631"/>
                </a:cubicBezTo>
                <a:cubicBezTo>
                  <a:pt x="8103" y="5729"/>
                  <a:pt x="8091" y="5681"/>
                  <a:pt x="8161" y="5730"/>
                </a:cubicBezTo>
                <a:cubicBezTo>
                  <a:pt x="8196" y="5755"/>
                  <a:pt x="8244" y="5764"/>
                  <a:pt x="8260" y="5804"/>
                </a:cubicBezTo>
                <a:cubicBezTo>
                  <a:pt x="8276" y="5845"/>
                  <a:pt x="8263" y="5900"/>
                  <a:pt x="8235" y="5928"/>
                </a:cubicBezTo>
                <a:cubicBezTo>
                  <a:pt x="8201" y="5962"/>
                  <a:pt x="8146" y="5954"/>
                  <a:pt x="8111" y="5978"/>
                </a:cubicBezTo>
                <a:cubicBezTo>
                  <a:pt x="8079" y="5999"/>
                  <a:pt x="8044" y="6030"/>
                  <a:pt x="8037" y="6052"/>
                </a:cubicBezTo>
                <a:cubicBezTo>
                  <a:pt x="8037" y="6077"/>
                  <a:pt x="8037" y="6085"/>
                  <a:pt x="8037" y="6102"/>
                </a:cubicBezTo>
                <a:cubicBezTo>
                  <a:pt x="8078" y="6107"/>
                  <a:pt x="8126" y="6111"/>
                  <a:pt x="8161" y="6127"/>
                </a:cubicBezTo>
                <a:cubicBezTo>
                  <a:pt x="8218" y="6154"/>
                  <a:pt x="8270" y="6211"/>
                  <a:pt x="8285" y="6276"/>
                </a:cubicBezTo>
                <a:cubicBezTo>
                  <a:pt x="8300" y="6342"/>
                  <a:pt x="8329" y="6429"/>
                  <a:pt x="8310" y="6499"/>
                </a:cubicBezTo>
                <a:cubicBezTo>
                  <a:pt x="8296" y="6550"/>
                  <a:pt x="8226" y="6671"/>
                  <a:pt x="8186" y="6697"/>
                </a:cubicBezTo>
                <a:cubicBezTo>
                  <a:pt x="8134" y="6731"/>
                  <a:pt x="8040" y="6753"/>
                  <a:pt x="7987" y="6772"/>
                </a:cubicBezTo>
              </a:path>
              <a:path w="7691" h="3300">
                <a:moveTo>
                  <a:pt x="8582" y="5854"/>
                </a:moveTo>
                <a:cubicBezTo>
                  <a:pt x="8607" y="5854"/>
                  <a:pt x="8615" y="5854"/>
                  <a:pt x="8607" y="5829"/>
                </a:cubicBezTo>
                <a:cubicBezTo>
                  <a:pt x="8607" y="5879"/>
                  <a:pt x="8618" y="5888"/>
                  <a:pt x="8632" y="5928"/>
                </a:cubicBezTo>
                <a:cubicBezTo>
                  <a:pt x="8632" y="5953"/>
                  <a:pt x="8632" y="5961"/>
                  <a:pt x="8632" y="5978"/>
                </a:cubicBezTo>
                <a:cubicBezTo>
                  <a:pt x="8686" y="5960"/>
                  <a:pt x="8633" y="5947"/>
                  <a:pt x="8657" y="5904"/>
                </a:cubicBezTo>
                <a:cubicBezTo>
                  <a:pt x="8679" y="5865"/>
                  <a:pt x="8682" y="5875"/>
                  <a:pt x="8682" y="5829"/>
                </a:cubicBezTo>
                <a:cubicBezTo>
                  <a:pt x="8711" y="5839"/>
                  <a:pt x="8724" y="5872"/>
                  <a:pt x="8756" y="5904"/>
                </a:cubicBezTo>
                <a:cubicBezTo>
                  <a:pt x="8814" y="5961"/>
                  <a:pt x="8888" y="6029"/>
                  <a:pt x="8954" y="6077"/>
                </a:cubicBezTo>
                <a:cubicBezTo>
                  <a:pt x="9000" y="6110"/>
                  <a:pt x="9016" y="6129"/>
                  <a:pt x="9029" y="6102"/>
                </a:cubicBezTo>
                <a:cubicBezTo>
                  <a:pt x="9016" y="6076"/>
                  <a:pt x="8973" y="6109"/>
                  <a:pt x="8954" y="6152"/>
                </a:cubicBezTo>
                <a:cubicBezTo>
                  <a:pt x="8932" y="6200"/>
                  <a:pt x="8941" y="6229"/>
                  <a:pt x="8880" y="6251"/>
                </a:cubicBezTo>
                <a:cubicBezTo>
                  <a:pt x="8841" y="6265"/>
                  <a:pt x="8827" y="6269"/>
                  <a:pt x="8781" y="6276"/>
                </a:cubicBezTo>
              </a:path>
              <a:path w="7691" h="3300">
                <a:moveTo>
                  <a:pt x="9153" y="5730"/>
                </a:moveTo>
                <a:cubicBezTo>
                  <a:pt x="9161" y="5722"/>
                  <a:pt x="9170" y="5713"/>
                  <a:pt x="9178" y="5705"/>
                </a:cubicBezTo>
                <a:cubicBezTo>
                  <a:pt x="9135" y="5705"/>
                  <a:pt x="9140" y="5695"/>
                  <a:pt x="9128" y="5730"/>
                </a:cubicBezTo>
                <a:cubicBezTo>
                  <a:pt x="9100" y="5730"/>
                  <a:pt x="9089" y="5732"/>
                  <a:pt x="9079" y="5755"/>
                </a:cubicBezTo>
              </a:path>
              <a:path w="7691" h="3300">
                <a:moveTo>
                  <a:pt x="9227" y="5804"/>
                </a:moveTo>
                <a:cubicBezTo>
                  <a:pt x="9270" y="5861"/>
                  <a:pt x="9246" y="5850"/>
                  <a:pt x="9203" y="5879"/>
                </a:cubicBezTo>
                <a:cubicBezTo>
                  <a:pt x="9195" y="5887"/>
                  <a:pt x="9186" y="5896"/>
                  <a:pt x="9178" y="5904"/>
                </a:cubicBezTo>
              </a:path>
              <a:path w="7691" h="3300">
                <a:moveTo>
                  <a:pt x="9525" y="5705"/>
                </a:moveTo>
                <a:cubicBezTo>
                  <a:pt x="9525" y="5713"/>
                  <a:pt x="9525" y="5722"/>
                  <a:pt x="9525" y="5730"/>
                </a:cubicBezTo>
                <a:cubicBezTo>
                  <a:pt x="9580" y="5730"/>
                  <a:pt x="9595" y="5718"/>
                  <a:pt x="9649" y="5705"/>
                </a:cubicBezTo>
                <a:cubicBezTo>
                  <a:pt x="9670" y="5700"/>
                  <a:pt x="9701" y="5705"/>
                  <a:pt x="9723" y="5705"/>
                </a:cubicBezTo>
              </a:path>
              <a:path w="7691" h="3300">
                <a:moveTo>
                  <a:pt x="9971" y="5383"/>
                </a:moveTo>
                <a:cubicBezTo>
                  <a:pt x="10011" y="5396"/>
                  <a:pt x="10018" y="5430"/>
                  <a:pt x="10021" y="5482"/>
                </a:cubicBezTo>
                <a:cubicBezTo>
                  <a:pt x="10026" y="5565"/>
                  <a:pt x="10028" y="5628"/>
                  <a:pt x="10046" y="5705"/>
                </a:cubicBezTo>
                <a:cubicBezTo>
                  <a:pt x="10046" y="5713"/>
                  <a:pt x="10046" y="5722"/>
                  <a:pt x="10046" y="5730"/>
                </a:cubicBezTo>
              </a:path>
              <a:path w="7691" h="3300">
                <a:moveTo>
                  <a:pt x="10244" y="5730"/>
                </a:moveTo>
                <a:cubicBezTo>
                  <a:pt x="10244" y="5755"/>
                  <a:pt x="10244" y="5763"/>
                  <a:pt x="10244" y="5779"/>
                </a:cubicBezTo>
                <a:cubicBezTo>
                  <a:pt x="10219" y="5788"/>
                  <a:pt x="10180" y="5811"/>
                  <a:pt x="10145" y="5829"/>
                </a:cubicBezTo>
                <a:cubicBezTo>
                  <a:pt x="10095" y="5854"/>
                  <a:pt x="10083" y="5892"/>
                  <a:pt x="10021" y="5904"/>
                </a:cubicBezTo>
                <a:cubicBezTo>
                  <a:pt x="10009" y="5938"/>
                  <a:pt x="9983" y="5925"/>
                  <a:pt x="9947" y="5953"/>
                </a:cubicBezTo>
              </a:path>
              <a:path w="7691" h="3300">
                <a:moveTo>
                  <a:pt x="10046" y="6028"/>
                </a:moveTo>
                <a:cubicBezTo>
                  <a:pt x="10090" y="6017"/>
                  <a:pt x="10111" y="5987"/>
                  <a:pt x="10145" y="5953"/>
                </a:cubicBezTo>
                <a:cubicBezTo>
                  <a:pt x="10178" y="5920"/>
                  <a:pt x="10199" y="5928"/>
                  <a:pt x="10244" y="5928"/>
                </a:cubicBezTo>
                <a:cubicBezTo>
                  <a:pt x="10244" y="5993"/>
                  <a:pt x="10225" y="6038"/>
                  <a:pt x="10220" y="6102"/>
                </a:cubicBezTo>
                <a:cubicBezTo>
                  <a:pt x="10218" y="6129"/>
                  <a:pt x="10208" y="6190"/>
                  <a:pt x="10244" y="6201"/>
                </a:cubicBezTo>
                <a:cubicBezTo>
                  <a:pt x="10284" y="6213"/>
                  <a:pt x="10344" y="6176"/>
                  <a:pt x="10368" y="6226"/>
                </a:cubicBezTo>
                <a:cubicBezTo>
                  <a:pt x="10387" y="6266"/>
                  <a:pt x="10294" y="6319"/>
                  <a:pt x="10269" y="6325"/>
                </a:cubicBezTo>
                <a:cubicBezTo>
                  <a:pt x="10253" y="6325"/>
                  <a:pt x="10236" y="6325"/>
                  <a:pt x="10220" y="6325"/>
                </a:cubicBezTo>
              </a:path>
              <a:path w="7691" h="3300">
                <a:moveTo>
                  <a:pt x="10517" y="5904"/>
                </a:moveTo>
                <a:cubicBezTo>
                  <a:pt x="10517" y="5870"/>
                  <a:pt x="10504" y="5823"/>
                  <a:pt x="10542" y="5804"/>
                </a:cubicBezTo>
                <a:cubicBezTo>
                  <a:pt x="10609" y="5770"/>
                  <a:pt x="10641" y="5833"/>
                  <a:pt x="10666" y="5879"/>
                </a:cubicBezTo>
                <a:cubicBezTo>
                  <a:pt x="10689" y="5923"/>
                  <a:pt x="10721" y="6018"/>
                  <a:pt x="10666" y="6052"/>
                </a:cubicBezTo>
                <a:cubicBezTo>
                  <a:pt x="10627" y="6076"/>
                  <a:pt x="10570" y="6037"/>
                  <a:pt x="10542" y="6028"/>
                </a:cubicBezTo>
                <a:cubicBezTo>
                  <a:pt x="10534" y="6028"/>
                  <a:pt x="10525" y="6028"/>
                  <a:pt x="10517" y="6028"/>
                </a:cubicBezTo>
              </a:path>
              <a:path w="7691" h="3300">
                <a:moveTo>
                  <a:pt x="10790" y="5680"/>
                </a:moveTo>
                <a:cubicBezTo>
                  <a:pt x="10790" y="5672"/>
                  <a:pt x="10790" y="5663"/>
                  <a:pt x="10790" y="5655"/>
                </a:cubicBezTo>
                <a:cubicBezTo>
                  <a:pt x="10757" y="5710"/>
                  <a:pt x="10743" y="5784"/>
                  <a:pt x="10740" y="5854"/>
                </a:cubicBezTo>
                <a:cubicBezTo>
                  <a:pt x="10736" y="5938"/>
                  <a:pt x="10768" y="6032"/>
                  <a:pt x="10864" y="6052"/>
                </a:cubicBezTo>
                <a:cubicBezTo>
                  <a:pt x="10958" y="6072"/>
                  <a:pt x="11025" y="6008"/>
                  <a:pt x="11088" y="5953"/>
                </a:cubicBezTo>
              </a:path>
              <a:path w="7691" h="3300">
                <a:moveTo>
                  <a:pt x="11509" y="5829"/>
                </a:moveTo>
                <a:cubicBezTo>
                  <a:pt x="11564" y="5829"/>
                  <a:pt x="11479" y="5806"/>
                  <a:pt x="11460" y="5804"/>
                </a:cubicBezTo>
                <a:cubicBezTo>
                  <a:pt x="11390" y="5796"/>
                  <a:pt x="11347" y="5823"/>
                  <a:pt x="11286" y="5854"/>
                </a:cubicBezTo>
                <a:cubicBezTo>
                  <a:pt x="11237" y="5879"/>
                  <a:pt x="11205" y="5878"/>
                  <a:pt x="11162" y="5904"/>
                </a:cubicBezTo>
              </a:path>
              <a:path w="7691" h="3300">
                <a:moveTo>
                  <a:pt x="11261" y="5680"/>
                </a:moveTo>
                <a:cubicBezTo>
                  <a:pt x="11342" y="5734"/>
                  <a:pt x="11314" y="5783"/>
                  <a:pt x="11336" y="5879"/>
                </a:cubicBezTo>
                <a:cubicBezTo>
                  <a:pt x="11351" y="5948"/>
                  <a:pt x="11361" y="5982"/>
                  <a:pt x="11361" y="6052"/>
                </a:cubicBezTo>
              </a:path>
              <a:path w="7691" h="3300">
                <a:moveTo>
                  <a:pt x="11881" y="5655"/>
                </a:moveTo>
                <a:cubicBezTo>
                  <a:pt x="11842" y="5668"/>
                  <a:pt x="11871" y="5667"/>
                  <a:pt x="11832" y="5680"/>
                </a:cubicBezTo>
                <a:cubicBezTo>
                  <a:pt x="11832" y="5624"/>
                  <a:pt x="11831" y="5602"/>
                  <a:pt x="11857" y="5556"/>
                </a:cubicBezTo>
                <a:cubicBezTo>
                  <a:pt x="11901" y="5478"/>
                  <a:pt x="11912" y="5459"/>
                  <a:pt x="11981" y="5407"/>
                </a:cubicBezTo>
                <a:cubicBezTo>
                  <a:pt x="12029" y="5371"/>
                  <a:pt x="12070" y="5376"/>
                  <a:pt x="12105" y="5432"/>
                </a:cubicBezTo>
                <a:cubicBezTo>
                  <a:pt x="12153" y="5508"/>
                  <a:pt x="12154" y="5568"/>
                  <a:pt x="12154" y="5655"/>
                </a:cubicBezTo>
                <a:cubicBezTo>
                  <a:pt x="12154" y="5749"/>
                  <a:pt x="12151" y="5839"/>
                  <a:pt x="12129" y="5928"/>
                </a:cubicBezTo>
                <a:cubicBezTo>
                  <a:pt x="12108" y="6015"/>
                  <a:pt x="12080" y="6061"/>
                  <a:pt x="12080" y="6152"/>
                </a:cubicBezTo>
                <a:cubicBezTo>
                  <a:pt x="12080" y="6197"/>
                  <a:pt x="12078" y="6220"/>
                  <a:pt x="12129" y="6226"/>
                </a:cubicBezTo>
                <a:cubicBezTo>
                  <a:pt x="12174" y="6231"/>
                  <a:pt x="12244" y="6178"/>
                  <a:pt x="12278" y="6152"/>
                </a:cubicBezTo>
                <a:cubicBezTo>
                  <a:pt x="12300" y="6135"/>
                  <a:pt x="12368" y="6098"/>
                  <a:pt x="12378" y="6077"/>
                </a:cubicBezTo>
                <a:cubicBezTo>
                  <a:pt x="12387" y="6059"/>
                  <a:pt x="12402" y="6009"/>
                  <a:pt x="12402" y="6052"/>
                </a:cubicBezTo>
              </a:path>
              <a:path w="7691" h="3300">
                <a:moveTo>
                  <a:pt x="12427" y="5432"/>
                </a:moveTo>
                <a:cubicBezTo>
                  <a:pt x="12405" y="5425"/>
                  <a:pt x="12382" y="5394"/>
                  <a:pt x="12402" y="5358"/>
                </a:cubicBezTo>
                <a:cubicBezTo>
                  <a:pt x="12418" y="5328"/>
                  <a:pt x="12474" y="5292"/>
                  <a:pt x="12502" y="5283"/>
                </a:cubicBezTo>
                <a:cubicBezTo>
                  <a:pt x="12545" y="5268"/>
                  <a:pt x="12573" y="5293"/>
                  <a:pt x="12576" y="5333"/>
                </a:cubicBezTo>
                <a:cubicBezTo>
                  <a:pt x="12580" y="5396"/>
                  <a:pt x="12566" y="5431"/>
                  <a:pt x="12551" y="5482"/>
                </a:cubicBezTo>
                <a:cubicBezTo>
                  <a:pt x="12544" y="5507"/>
                  <a:pt x="12496" y="5564"/>
                  <a:pt x="12551" y="5581"/>
                </a:cubicBezTo>
                <a:cubicBezTo>
                  <a:pt x="12611" y="5599"/>
                  <a:pt x="12679" y="5570"/>
                  <a:pt x="12725" y="5556"/>
                </a:cubicBezTo>
                <a:cubicBezTo>
                  <a:pt x="12733" y="5556"/>
                  <a:pt x="12742" y="5556"/>
                  <a:pt x="12750" y="5556"/>
                </a:cubicBezTo>
              </a:path>
              <a:path w="7691" h="3300">
                <a:moveTo>
                  <a:pt x="12874" y="5730"/>
                </a:moveTo>
                <a:cubicBezTo>
                  <a:pt x="12841" y="5779"/>
                  <a:pt x="12793" y="5739"/>
                  <a:pt x="12725" y="5755"/>
                </a:cubicBezTo>
                <a:cubicBezTo>
                  <a:pt x="12653" y="5772"/>
                  <a:pt x="12571" y="5781"/>
                  <a:pt x="12502" y="5804"/>
                </a:cubicBezTo>
                <a:cubicBezTo>
                  <a:pt x="12461" y="5824"/>
                  <a:pt x="12455" y="5833"/>
                  <a:pt x="12427" y="5829"/>
                </a:cubicBezTo>
              </a:path>
              <a:path w="7691" h="3300">
                <a:moveTo>
                  <a:pt x="12650" y="5978"/>
                </a:moveTo>
                <a:cubicBezTo>
                  <a:pt x="12701" y="5978"/>
                  <a:pt x="12709" y="5967"/>
                  <a:pt x="12750" y="5953"/>
                </a:cubicBezTo>
                <a:cubicBezTo>
                  <a:pt x="12794" y="5938"/>
                  <a:pt x="12821" y="5928"/>
                  <a:pt x="12874" y="5928"/>
                </a:cubicBezTo>
                <a:cubicBezTo>
                  <a:pt x="12874" y="5981"/>
                  <a:pt x="12862" y="5990"/>
                  <a:pt x="12824" y="6028"/>
                </a:cubicBezTo>
                <a:cubicBezTo>
                  <a:pt x="12798" y="6054"/>
                  <a:pt x="12737" y="6096"/>
                  <a:pt x="12799" y="6127"/>
                </a:cubicBezTo>
                <a:cubicBezTo>
                  <a:pt x="12844" y="6149"/>
                  <a:pt x="12905" y="6135"/>
                  <a:pt x="12948" y="6152"/>
                </a:cubicBezTo>
                <a:cubicBezTo>
                  <a:pt x="12999" y="6173"/>
                  <a:pt x="12967" y="6248"/>
                  <a:pt x="12948" y="6276"/>
                </a:cubicBezTo>
                <a:cubicBezTo>
                  <a:pt x="12910" y="6332"/>
                  <a:pt x="12856" y="6320"/>
                  <a:pt x="12799" y="6325"/>
                </a:cubicBezTo>
              </a:path>
              <a:path w="7691" h="3300">
                <a:moveTo>
                  <a:pt x="12080" y="7119"/>
                </a:moveTo>
                <a:cubicBezTo>
                  <a:pt x="11956" y="7119"/>
                  <a:pt x="11832" y="7119"/>
                  <a:pt x="11708" y="7119"/>
                </a:cubicBezTo>
              </a:path>
              <a:path w="7691" h="3300">
                <a:moveTo>
                  <a:pt x="11162" y="6871"/>
                </a:moveTo>
                <a:cubicBezTo>
                  <a:pt x="11162" y="6814"/>
                  <a:pt x="11139" y="6911"/>
                  <a:pt x="11137" y="6921"/>
                </a:cubicBezTo>
                <a:cubicBezTo>
                  <a:pt x="11115" y="7023"/>
                  <a:pt x="11120" y="7199"/>
                  <a:pt x="11162" y="7293"/>
                </a:cubicBezTo>
                <a:cubicBezTo>
                  <a:pt x="11196" y="7368"/>
                  <a:pt x="11211" y="7367"/>
                  <a:pt x="11286" y="7367"/>
                </a:cubicBezTo>
                <a:cubicBezTo>
                  <a:pt x="11349" y="7367"/>
                  <a:pt x="11376" y="7347"/>
                  <a:pt x="11435" y="7342"/>
                </a:cubicBezTo>
                <a:cubicBezTo>
                  <a:pt x="11475" y="7339"/>
                  <a:pt x="11514" y="7339"/>
                  <a:pt x="11534" y="7293"/>
                </a:cubicBezTo>
                <a:cubicBezTo>
                  <a:pt x="11552" y="7253"/>
                  <a:pt x="11504" y="7268"/>
                  <a:pt x="11485" y="7268"/>
                </a:cubicBezTo>
              </a:path>
              <a:path w="7691" h="3300">
                <a:moveTo>
                  <a:pt x="11361" y="7193"/>
                </a:moveTo>
                <a:cubicBezTo>
                  <a:pt x="11327" y="7283"/>
                  <a:pt x="11357" y="7322"/>
                  <a:pt x="11361" y="7417"/>
                </a:cubicBezTo>
                <a:cubicBezTo>
                  <a:pt x="11361" y="7485"/>
                  <a:pt x="11358" y="7504"/>
                  <a:pt x="11385" y="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99080" y="6483240"/>
            <a:ext cx="214200" cy="169920"/>
          </a:xfrm>
          <a:custGeom>
            <a:avLst/>
            <a:gdLst/>
            <a:ahLst/>
            <a:rect l="l" t="t" r="r" b="b"/>
            <a:pathLst>
              <a:path w="596" h="472">
                <a:moveTo>
                  <a:pt x="16024" y="18033"/>
                </a:moveTo>
                <a:cubicBezTo>
                  <a:pt x="16015" y="18005"/>
                  <a:pt x="15968" y="17990"/>
                  <a:pt x="15925" y="18008"/>
                </a:cubicBezTo>
                <a:cubicBezTo>
                  <a:pt x="15879" y="18027"/>
                  <a:pt x="15792" y="18076"/>
                  <a:pt x="15751" y="18107"/>
                </a:cubicBezTo>
                <a:cubicBezTo>
                  <a:pt x="15683" y="18160"/>
                  <a:pt x="15619" y="18204"/>
                  <a:pt x="15577" y="18281"/>
                </a:cubicBezTo>
                <a:cubicBezTo>
                  <a:pt x="15535" y="18359"/>
                  <a:pt x="15546" y="18379"/>
                  <a:pt x="15602" y="18430"/>
                </a:cubicBezTo>
                <a:cubicBezTo>
                  <a:pt x="15647" y="18471"/>
                  <a:pt x="15739" y="18476"/>
                  <a:pt x="15801" y="18479"/>
                </a:cubicBezTo>
                <a:cubicBezTo>
                  <a:pt x="15893" y="18483"/>
                  <a:pt x="15965" y="18444"/>
                  <a:pt x="16049" y="18430"/>
                </a:cubicBezTo>
                <a:cubicBezTo>
                  <a:pt x="16095" y="18422"/>
                  <a:pt x="16107" y="18415"/>
                  <a:pt x="16148" y="184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85000" y="4616280"/>
            <a:ext cx="196920" cy="258840"/>
          </a:xfrm>
          <a:custGeom>
            <a:avLst/>
            <a:gdLst/>
            <a:ahLst/>
            <a:rect l="l" t="t" r="r" b="b"/>
            <a:pathLst>
              <a:path w="547" h="720">
                <a:moveTo>
                  <a:pt x="19273" y="13047"/>
                </a:moveTo>
                <a:cubicBezTo>
                  <a:pt x="19273" y="13039"/>
                  <a:pt x="19273" y="13030"/>
                  <a:pt x="19273" y="13022"/>
                </a:cubicBezTo>
                <a:cubicBezTo>
                  <a:pt x="19299" y="13022"/>
                  <a:pt x="19274" y="13041"/>
                  <a:pt x="19248" y="13097"/>
                </a:cubicBezTo>
                <a:cubicBezTo>
                  <a:pt x="19212" y="13175"/>
                  <a:pt x="19206" y="13244"/>
                  <a:pt x="19174" y="13320"/>
                </a:cubicBezTo>
                <a:cubicBezTo>
                  <a:pt x="19157" y="13361"/>
                  <a:pt x="19136" y="13407"/>
                  <a:pt x="19124" y="13444"/>
                </a:cubicBezTo>
                <a:cubicBezTo>
                  <a:pt x="19124" y="13452"/>
                  <a:pt x="19124" y="13461"/>
                  <a:pt x="19124" y="13469"/>
                </a:cubicBezTo>
                <a:cubicBezTo>
                  <a:pt x="19150" y="13434"/>
                  <a:pt x="19158" y="13407"/>
                  <a:pt x="19174" y="13370"/>
                </a:cubicBezTo>
                <a:cubicBezTo>
                  <a:pt x="19209" y="13289"/>
                  <a:pt x="19212" y="13207"/>
                  <a:pt x="19248" y="13122"/>
                </a:cubicBezTo>
                <a:cubicBezTo>
                  <a:pt x="19281" y="13045"/>
                  <a:pt x="19272" y="12971"/>
                  <a:pt x="19323" y="12898"/>
                </a:cubicBezTo>
                <a:cubicBezTo>
                  <a:pt x="19346" y="12865"/>
                  <a:pt x="19384" y="12828"/>
                  <a:pt x="19422" y="12824"/>
                </a:cubicBezTo>
                <a:cubicBezTo>
                  <a:pt x="19459" y="12820"/>
                  <a:pt x="19498" y="12816"/>
                  <a:pt x="19521" y="12849"/>
                </a:cubicBezTo>
                <a:cubicBezTo>
                  <a:pt x="19563" y="12910"/>
                  <a:pt x="19595" y="12977"/>
                  <a:pt x="19621" y="13047"/>
                </a:cubicBezTo>
                <a:cubicBezTo>
                  <a:pt x="19653" y="13134"/>
                  <a:pt x="19670" y="13204"/>
                  <a:pt x="19670" y="13295"/>
                </a:cubicBezTo>
                <a:cubicBezTo>
                  <a:pt x="19670" y="13396"/>
                  <a:pt x="19671" y="13387"/>
                  <a:pt x="19596" y="13444"/>
                </a:cubicBezTo>
                <a:cubicBezTo>
                  <a:pt x="19555" y="13475"/>
                  <a:pt x="19499" y="13531"/>
                  <a:pt x="19447" y="13543"/>
                </a:cubicBezTo>
                <a:cubicBezTo>
                  <a:pt x="19351" y="13565"/>
                  <a:pt x="19223" y="13543"/>
                  <a:pt x="19124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03800" y="5197320"/>
            <a:ext cx="2019240" cy="946440"/>
          </a:xfrm>
          <a:custGeom>
            <a:avLst/>
            <a:gdLst/>
            <a:ahLst/>
            <a:rect l="l" t="t" r="r" b="b"/>
            <a:pathLst>
              <a:path w="5607" h="2631">
                <a:moveTo>
                  <a:pt x="13494" y="14684"/>
                </a:moveTo>
                <a:cubicBezTo>
                  <a:pt x="13494" y="14651"/>
                  <a:pt x="13494" y="14618"/>
                  <a:pt x="13494" y="14585"/>
                </a:cubicBezTo>
                <a:cubicBezTo>
                  <a:pt x="13494" y="14651"/>
                  <a:pt x="13477" y="14700"/>
                  <a:pt x="13469" y="14759"/>
                </a:cubicBezTo>
                <a:cubicBezTo>
                  <a:pt x="13462" y="14814"/>
                  <a:pt x="13469" y="14876"/>
                  <a:pt x="13469" y="14932"/>
                </a:cubicBezTo>
              </a:path>
              <a:path w="5607" h="2631">
                <a:moveTo>
                  <a:pt x="14213" y="15553"/>
                </a:moveTo>
                <a:cubicBezTo>
                  <a:pt x="14221" y="15553"/>
                  <a:pt x="14230" y="15553"/>
                  <a:pt x="14238" y="15553"/>
                </a:cubicBezTo>
              </a:path>
              <a:path w="5607" h="2631">
                <a:moveTo>
                  <a:pt x="14213" y="15553"/>
                </a:moveTo>
                <a:cubicBezTo>
                  <a:pt x="14275" y="15500"/>
                  <a:pt x="14266" y="15503"/>
                  <a:pt x="14337" y="15503"/>
                </a:cubicBezTo>
              </a:path>
              <a:path w="5607" h="2631">
                <a:moveTo>
                  <a:pt x="16446" y="15131"/>
                </a:moveTo>
                <a:lnTo>
                  <a:pt x="16446" y="15131"/>
                </a:lnTo>
              </a:path>
              <a:path w="5607" h="2631">
                <a:moveTo>
                  <a:pt x="16694" y="15180"/>
                </a:moveTo>
                <a:cubicBezTo>
                  <a:pt x="16741" y="15173"/>
                  <a:pt x="16752" y="15166"/>
                  <a:pt x="16793" y="15156"/>
                </a:cubicBezTo>
              </a:path>
              <a:path w="5607" h="2631">
                <a:moveTo>
                  <a:pt x="11956" y="16718"/>
                </a:moveTo>
                <a:cubicBezTo>
                  <a:pt x="12008" y="16705"/>
                  <a:pt x="12007" y="16698"/>
                  <a:pt x="12055" y="16669"/>
                </a:cubicBezTo>
                <a:cubicBezTo>
                  <a:pt x="12093" y="16646"/>
                  <a:pt x="12138" y="16616"/>
                  <a:pt x="12179" y="16594"/>
                </a:cubicBezTo>
                <a:cubicBezTo>
                  <a:pt x="12213" y="16575"/>
                  <a:pt x="12245" y="16562"/>
                  <a:pt x="12278" y="16545"/>
                </a:cubicBezTo>
                <a:cubicBezTo>
                  <a:pt x="12318" y="16525"/>
                  <a:pt x="12358" y="16502"/>
                  <a:pt x="12402" y="16495"/>
                </a:cubicBezTo>
                <a:cubicBezTo>
                  <a:pt x="12441" y="16488"/>
                  <a:pt x="12487" y="16495"/>
                  <a:pt x="12526" y="16495"/>
                </a:cubicBezTo>
                <a:cubicBezTo>
                  <a:pt x="12539" y="16485"/>
                  <a:pt x="12567" y="16454"/>
                  <a:pt x="12601" y="16446"/>
                </a:cubicBezTo>
                <a:cubicBezTo>
                  <a:pt x="12647" y="16435"/>
                  <a:pt x="12677" y="16424"/>
                  <a:pt x="12725" y="16421"/>
                </a:cubicBezTo>
                <a:cubicBezTo>
                  <a:pt x="12893" y="16412"/>
                  <a:pt x="13067" y="16422"/>
                  <a:pt x="13221" y="16396"/>
                </a:cubicBezTo>
                <a:cubicBezTo>
                  <a:pt x="13262" y="16389"/>
                  <a:pt x="13283" y="16377"/>
                  <a:pt x="13320" y="16371"/>
                </a:cubicBezTo>
                <a:cubicBezTo>
                  <a:pt x="13399" y="16358"/>
                  <a:pt x="13479" y="16387"/>
                  <a:pt x="13543" y="16396"/>
                </a:cubicBezTo>
                <a:cubicBezTo>
                  <a:pt x="13588" y="16402"/>
                  <a:pt x="13625" y="16408"/>
                  <a:pt x="13667" y="16421"/>
                </a:cubicBezTo>
                <a:cubicBezTo>
                  <a:pt x="13704" y="16433"/>
                  <a:pt x="13759" y="16463"/>
                  <a:pt x="13791" y="16470"/>
                </a:cubicBezTo>
                <a:cubicBezTo>
                  <a:pt x="13866" y="16485"/>
                  <a:pt x="13962" y="16470"/>
                  <a:pt x="14039" y="16470"/>
                </a:cubicBezTo>
              </a:path>
              <a:path w="5607" h="2631">
                <a:moveTo>
                  <a:pt x="16694" y="14436"/>
                </a:moveTo>
                <a:cubicBezTo>
                  <a:pt x="16697" y="14501"/>
                  <a:pt x="16709" y="14556"/>
                  <a:pt x="16718" y="14610"/>
                </a:cubicBezTo>
                <a:cubicBezTo>
                  <a:pt x="16727" y="14663"/>
                  <a:pt x="16739" y="14734"/>
                  <a:pt x="16743" y="14784"/>
                </a:cubicBezTo>
                <a:cubicBezTo>
                  <a:pt x="16748" y="14841"/>
                  <a:pt x="16764" y="14913"/>
                  <a:pt x="16768" y="14957"/>
                </a:cubicBezTo>
                <a:cubicBezTo>
                  <a:pt x="16795" y="15248"/>
                  <a:pt x="16773" y="15572"/>
                  <a:pt x="16793" y="15850"/>
                </a:cubicBezTo>
                <a:cubicBezTo>
                  <a:pt x="16802" y="15976"/>
                  <a:pt x="16810" y="16107"/>
                  <a:pt x="16818" y="16222"/>
                </a:cubicBezTo>
                <a:cubicBezTo>
                  <a:pt x="16823" y="16296"/>
                  <a:pt x="16818" y="16372"/>
                  <a:pt x="16818" y="16446"/>
                </a:cubicBezTo>
                <a:cubicBezTo>
                  <a:pt x="16818" y="16447"/>
                  <a:pt x="16841" y="16486"/>
                  <a:pt x="16842" y="16520"/>
                </a:cubicBezTo>
                <a:cubicBezTo>
                  <a:pt x="16843" y="16561"/>
                  <a:pt x="16840" y="16603"/>
                  <a:pt x="16842" y="16644"/>
                </a:cubicBezTo>
                <a:cubicBezTo>
                  <a:pt x="16792" y="16652"/>
                  <a:pt x="16736" y="16666"/>
                  <a:pt x="16694" y="16669"/>
                </a:cubicBezTo>
                <a:cubicBezTo>
                  <a:pt x="16653" y="16672"/>
                  <a:pt x="16611" y="16667"/>
                  <a:pt x="16570" y="16669"/>
                </a:cubicBezTo>
                <a:cubicBezTo>
                  <a:pt x="16538" y="16677"/>
                  <a:pt x="16528" y="16688"/>
                  <a:pt x="16495" y="16694"/>
                </a:cubicBezTo>
                <a:cubicBezTo>
                  <a:pt x="16447" y="16703"/>
                  <a:pt x="16387" y="16715"/>
                  <a:pt x="16346" y="16718"/>
                </a:cubicBezTo>
                <a:cubicBezTo>
                  <a:pt x="16284" y="16722"/>
                  <a:pt x="16219" y="16696"/>
                  <a:pt x="16173" y="16694"/>
                </a:cubicBezTo>
                <a:cubicBezTo>
                  <a:pt x="16008" y="16687"/>
                  <a:pt x="15842" y="16694"/>
                  <a:pt x="15677" y="16694"/>
                </a:cubicBezTo>
                <a:cubicBezTo>
                  <a:pt x="15645" y="16702"/>
                  <a:pt x="15634" y="16711"/>
                  <a:pt x="15602" y="16718"/>
                </a:cubicBezTo>
                <a:cubicBezTo>
                  <a:pt x="15563" y="16727"/>
                  <a:pt x="15546" y="16739"/>
                  <a:pt x="15503" y="16743"/>
                </a:cubicBezTo>
                <a:cubicBezTo>
                  <a:pt x="15432" y="16750"/>
                  <a:pt x="15337" y="16764"/>
                  <a:pt x="15280" y="16768"/>
                </a:cubicBezTo>
                <a:cubicBezTo>
                  <a:pt x="15139" y="16778"/>
                  <a:pt x="14933" y="16799"/>
                  <a:pt x="14808" y="16793"/>
                </a:cubicBezTo>
                <a:cubicBezTo>
                  <a:pt x="14752" y="16790"/>
                  <a:pt x="14706" y="16770"/>
                  <a:pt x="14660" y="16768"/>
                </a:cubicBezTo>
                <a:cubicBezTo>
                  <a:pt x="14517" y="16761"/>
                  <a:pt x="14365" y="16771"/>
                  <a:pt x="14238" y="16793"/>
                </a:cubicBezTo>
                <a:cubicBezTo>
                  <a:pt x="14183" y="16802"/>
                  <a:pt x="14116" y="16814"/>
                  <a:pt x="14064" y="16818"/>
                </a:cubicBezTo>
                <a:cubicBezTo>
                  <a:pt x="13981" y="16825"/>
                  <a:pt x="13910" y="16817"/>
                  <a:pt x="13841" y="16793"/>
                </a:cubicBezTo>
                <a:cubicBezTo>
                  <a:pt x="13802" y="16779"/>
                  <a:pt x="13762" y="16755"/>
                  <a:pt x="13717" y="16743"/>
                </a:cubicBezTo>
                <a:cubicBezTo>
                  <a:pt x="13682" y="16733"/>
                  <a:pt x="13628" y="16731"/>
                  <a:pt x="13593" y="16718"/>
                </a:cubicBezTo>
                <a:cubicBezTo>
                  <a:pt x="13555" y="16704"/>
                  <a:pt x="13536" y="16676"/>
                  <a:pt x="13494" y="16669"/>
                </a:cubicBezTo>
                <a:cubicBezTo>
                  <a:pt x="13386" y="16651"/>
                  <a:pt x="13276" y="16665"/>
                  <a:pt x="13171" y="16644"/>
                </a:cubicBezTo>
                <a:cubicBezTo>
                  <a:pt x="13132" y="16636"/>
                  <a:pt x="13109" y="16627"/>
                  <a:pt x="13072" y="16619"/>
                </a:cubicBezTo>
                <a:cubicBezTo>
                  <a:pt x="13028" y="16610"/>
                  <a:pt x="12993" y="16598"/>
                  <a:pt x="12948" y="16594"/>
                </a:cubicBezTo>
                <a:cubicBezTo>
                  <a:pt x="12806" y="16581"/>
                  <a:pt x="12660" y="16596"/>
                  <a:pt x="12526" y="16619"/>
                </a:cubicBezTo>
                <a:cubicBezTo>
                  <a:pt x="12462" y="16630"/>
                  <a:pt x="12413" y="16631"/>
                  <a:pt x="12353" y="16644"/>
                </a:cubicBezTo>
                <a:cubicBezTo>
                  <a:pt x="12299" y="16656"/>
                  <a:pt x="12253" y="16652"/>
                  <a:pt x="12204" y="16669"/>
                </a:cubicBezTo>
                <a:cubicBezTo>
                  <a:pt x="12181" y="16692"/>
                  <a:pt x="12177" y="16700"/>
                  <a:pt x="12154" y="16694"/>
                </a:cubicBezTo>
              </a:path>
              <a:path w="5607" h="2631">
                <a:moveTo>
                  <a:pt x="17165" y="15478"/>
                </a:moveTo>
                <a:cubicBezTo>
                  <a:pt x="17113" y="15478"/>
                  <a:pt x="17112" y="15483"/>
                  <a:pt x="17090" y="15453"/>
                </a:cubicBezTo>
                <a:cubicBezTo>
                  <a:pt x="17050" y="15399"/>
                  <a:pt x="17073" y="15407"/>
                  <a:pt x="17090" y="15354"/>
                </a:cubicBezTo>
                <a:cubicBezTo>
                  <a:pt x="17099" y="15327"/>
                  <a:pt x="17129" y="15265"/>
                  <a:pt x="17165" y="15255"/>
                </a:cubicBezTo>
                <a:cubicBezTo>
                  <a:pt x="17209" y="15242"/>
                  <a:pt x="17334" y="15243"/>
                  <a:pt x="17363" y="15280"/>
                </a:cubicBezTo>
                <a:cubicBezTo>
                  <a:pt x="17407" y="15337"/>
                  <a:pt x="17389" y="15395"/>
                  <a:pt x="17363" y="15453"/>
                </a:cubicBezTo>
                <a:cubicBezTo>
                  <a:pt x="17332" y="15523"/>
                  <a:pt x="17270" y="15565"/>
                  <a:pt x="17239" y="15627"/>
                </a:cubicBezTo>
                <a:cubicBezTo>
                  <a:pt x="17239" y="15652"/>
                  <a:pt x="17239" y="15660"/>
                  <a:pt x="17239" y="15677"/>
                </a:cubicBezTo>
                <a:cubicBezTo>
                  <a:pt x="17305" y="15664"/>
                  <a:pt x="17370" y="15637"/>
                  <a:pt x="17438" y="15627"/>
                </a:cubicBezTo>
                <a:cubicBezTo>
                  <a:pt x="17474" y="15622"/>
                  <a:pt x="17525" y="15627"/>
                  <a:pt x="17562" y="15627"/>
                </a:cubicBezTo>
              </a:path>
              <a:path w="5607" h="2631">
                <a:moveTo>
                  <a:pt x="14288" y="16446"/>
                </a:moveTo>
                <a:cubicBezTo>
                  <a:pt x="14288" y="16405"/>
                  <a:pt x="14279" y="16388"/>
                  <a:pt x="14312" y="16396"/>
                </a:cubicBezTo>
                <a:cubicBezTo>
                  <a:pt x="14312" y="16324"/>
                  <a:pt x="14289" y="16490"/>
                  <a:pt x="14288" y="16495"/>
                </a:cubicBezTo>
                <a:cubicBezTo>
                  <a:pt x="14277" y="16576"/>
                  <a:pt x="14290" y="16651"/>
                  <a:pt x="14337" y="16718"/>
                </a:cubicBezTo>
                <a:cubicBezTo>
                  <a:pt x="14378" y="16777"/>
                  <a:pt x="14420" y="16768"/>
                  <a:pt x="14486" y="16768"/>
                </a:cubicBezTo>
                <a:cubicBezTo>
                  <a:pt x="14583" y="16768"/>
                  <a:pt x="14621" y="16713"/>
                  <a:pt x="14709" y="16694"/>
                </a:cubicBezTo>
                <a:cubicBezTo>
                  <a:pt x="14726" y="16690"/>
                  <a:pt x="14852" y="16680"/>
                  <a:pt x="14833" y="16718"/>
                </a:cubicBezTo>
                <a:cubicBezTo>
                  <a:pt x="14825" y="16726"/>
                  <a:pt x="14816" y="16735"/>
                  <a:pt x="14808" y="16743"/>
                </a:cubicBezTo>
              </a:path>
              <a:path w="5607" h="2631">
                <a:moveTo>
                  <a:pt x="14610" y="16619"/>
                </a:moveTo>
                <a:cubicBezTo>
                  <a:pt x="14610" y="16545"/>
                  <a:pt x="14610" y="16742"/>
                  <a:pt x="14610" y="16743"/>
                </a:cubicBezTo>
                <a:cubicBezTo>
                  <a:pt x="14631" y="16853"/>
                  <a:pt x="14623" y="16971"/>
                  <a:pt x="14684" y="17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13720" y="5367240"/>
            <a:ext cx="1268280" cy="366840"/>
          </a:xfrm>
          <a:custGeom>
            <a:avLst/>
            <a:gdLst/>
            <a:ahLst/>
            <a:rect l="l" t="t" r="r" b="b"/>
            <a:pathLst>
              <a:path w="3523" h="1018">
                <a:moveTo>
                  <a:pt x="18926" y="15280"/>
                </a:moveTo>
                <a:cubicBezTo>
                  <a:pt x="18926" y="15272"/>
                  <a:pt x="18926" y="15263"/>
                  <a:pt x="18926" y="15255"/>
                </a:cubicBezTo>
                <a:cubicBezTo>
                  <a:pt x="18968" y="15269"/>
                  <a:pt x="18951" y="15303"/>
                  <a:pt x="18951" y="15354"/>
                </a:cubicBezTo>
                <a:cubicBezTo>
                  <a:pt x="18951" y="15412"/>
                  <a:pt x="18951" y="15470"/>
                  <a:pt x="18951" y="15528"/>
                </a:cubicBezTo>
                <a:cubicBezTo>
                  <a:pt x="18999" y="15512"/>
                  <a:pt x="18986" y="15457"/>
                  <a:pt x="19000" y="15404"/>
                </a:cubicBezTo>
                <a:cubicBezTo>
                  <a:pt x="19020" y="15328"/>
                  <a:pt x="19047" y="15283"/>
                  <a:pt x="19100" y="15230"/>
                </a:cubicBezTo>
                <a:cubicBezTo>
                  <a:pt x="19138" y="15279"/>
                  <a:pt x="19180" y="15343"/>
                  <a:pt x="19199" y="15404"/>
                </a:cubicBezTo>
                <a:cubicBezTo>
                  <a:pt x="19199" y="15432"/>
                  <a:pt x="19201" y="15443"/>
                  <a:pt x="19224" y="15453"/>
                </a:cubicBezTo>
                <a:cubicBezTo>
                  <a:pt x="19224" y="15387"/>
                  <a:pt x="19234" y="15337"/>
                  <a:pt x="19273" y="15280"/>
                </a:cubicBezTo>
                <a:cubicBezTo>
                  <a:pt x="19281" y="15272"/>
                  <a:pt x="19290" y="15263"/>
                  <a:pt x="19298" y="15255"/>
                </a:cubicBezTo>
                <a:cubicBezTo>
                  <a:pt x="19372" y="15274"/>
                  <a:pt x="19395" y="15334"/>
                  <a:pt x="19422" y="15404"/>
                </a:cubicBezTo>
                <a:cubicBezTo>
                  <a:pt x="19446" y="15465"/>
                  <a:pt x="19442" y="15504"/>
                  <a:pt x="19472" y="15553"/>
                </a:cubicBezTo>
              </a:path>
              <a:path w="3523" h="1018">
                <a:moveTo>
                  <a:pt x="19869" y="15255"/>
                </a:moveTo>
                <a:cubicBezTo>
                  <a:pt x="19806" y="15255"/>
                  <a:pt x="19777" y="15270"/>
                  <a:pt x="19720" y="15280"/>
                </a:cubicBezTo>
                <a:cubicBezTo>
                  <a:pt x="19703" y="15280"/>
                  <a:pt x="19687" y="15280"/>
                  <a:pt x="19670" y="15280"/>
                </a:cubicBezTo>
              </a:path>
              <a:path w="3523" h="1018">
                <a:moveTo>
                  <a:pt x="19893" y="15404"/>
                </a:moveTo>
                <a:cubicBezTo>
                  <a:pt x="19881" y="15454"/>
                  <a:pt x="19869" y="15453"/>
                  <a:pt x="19819" y="15453"/>
                </a:cubicBezTo>
                <a:cubicBezTo>
                  <a:pt x="19811" y="15453"/>
                  <a:pt x="19802" y="15453"/>
                  <a:pt x="19794" y="15453"/>
                </a:cubicBezTo>
              </a:path>
              <a:path w="3523" h="1018">
                <a:moveTo>
                  <a:pt x="20241" y="14982"/>
                </a:moveTo>
                <a:cubicBezTo>
                  <a:pt x="20241" y="14957"/>
                  <a:pt x="20241" y="14949"/>
                  <a:pt x="20216" y="14957"/>
                </a:cubicBezTo>
                <a:cubicBezTo>
                  <a:pt x="20245" y="14935"/>
                  <a:pt x="20299" y="14897"/>
                  <a:pt x="20340" y="14908"/>
                </a:cubicBezTo>
                <a:cubicBezTo>
                  <a:pt x="20391" y="14921"/>
                  <a:pt x="20452" y="14980"/>
                  <a:pt x="20464" y="15032"/>
                </a:cubicBezTo>
                <a:cubicBezTo>
                  <a:pt x="20474" y="15074"/>
                  <a:pt x="20427" y="15159"/>
                  <a:pt x="20389" y="15180"/>
                </a:cubicBezTo>
                <a:cubicBezTo>
                  <a:pt x="20355" y="15199"/>
                  <a:pt x="20351" y="15186"/>
                  <a:pt x="20340" y="15230"/>
                </a:cubicBezTo>
                <a:cubicBezTo>
                  <a:pt x="20398" y="15230"/>
                  <a:pt x="20443" y="15214"/>
                  <a:pt x="20489" y="15205"/>
                </a:cubicBezTo>
                <a:cubicBezTo>
                  <a:pt x="20530" y="15205"/>
                  <a:pt x="20538" y="15205"/>
                  <a:pt x="20563" y="15205"/>
                </a:cubicBezTo>
              </a:path>
              <a:path w="3523" h="1018">
                <a:moveTo>
                  <a:pt x="20662" y="15453"/>
                </a:moveTo>
                <a:cubicBezTo>
                  <a:pt x="20703" y="15453"/>
                  <a:pt x="20629" y="15453"/>
                  <a:pt x="20588" y="15453"/>
                </a:cubicBezTo>
                <a:cubicBezTo>
                  <a:pt x="20482" y="15453"/>
                  <a:pt x="20389" y="15445"/>
                  <a:pt x="20290" y="15429"/>
                </a:cubicBezTo>
                <a:cubicBezTo>
                  <a:pt x="20274" y="15429"/>
                  <a:pt x="20257" y="15429"/>
                  <a:pt x="20241" y="15429"/>
                </a:cubicBezTo>
              </a:path>
              <a:path w="3523" h="1018">
                <a:moveTo>
                  <a:pt x="20439" y="15528"/>
                </a:moveTo>
                <a:cubicBezTo>
                  <a:pt x="20406" y="15572"/>
                  <a:pt x="20414" y="15594"/>
                  <a:pt x="20414" y="15652"/>
                </a:cubicBezTo>
                <a:cubicBezTo>
                  <a:pt x="20414" y="15701"/>
                  <a:pt x="20409" y="15752"/>
                  <a:pt x="20464" y="15776"/>
                </a:cubicBezTo>
                <a:cubicBezTo>
                  <a:pt x="20523" y="15802"/>
                  <a:pt x="20647" y="15776"/>
                  <a:pt x="20712" y="15776"/>
                </a:cubicBezTo>
              </a:path>
              <a:path w="3523" h="1018">
                <a:moveTo>
                  <a:pt x="20588" y="15677"/>
                </a:moveTo>
                <a:cubicBezTo>
                  <a:pt x="20556" y="15719"/>
                  <a:pt x="20563" y="15745"/>
                  <a:pt x="20563" y="15801"/>
                </a:cubicBezTo>
                <a:cubicBezTo>
                  <a:pt x="20563" y="15842"/>
                  <a:pt x="20563" y="15850"/>
                  <a:pt x="20563" y="15875"/>
                </a:cubicBezTo>
              </a:path>
              <a:path w="3523" h="1018">
                <a:moveTo>
                  <a:pt x="21357" y="15429"/>
                </a:moveTo>
                <a:cubicBezTo>
                  <a:pt x="21401" y="15429"/>
                  <a:pt x="21396" y="15431"/>
                  <a:pt x="21431" y="15404"/>
                </a:cubicBezTo>
                <a:cubicBezTo>
                  <a:pt x="21369" y="15404"/>
                  <a:pt x="21341" y="15414"/>
                  <a:pt x="21282" y="15429"/>
                </a:cubicBezTo>
                <a:cubicBezTo>
                  <a:pt x="21261" y="15434"/>
                  <a:pt x="21230" y="15429"/>
                  <a:pt x="21208" y="15429"/>
                </a:cubicBezTo>
              </a:path>
              <a:path w="3523" h="1018">
                <a:moveTo>
                  <a:pt x="21307" y="15503"/>
                </a:moveTo>
                <a:cubicBezTo>
                  <a:pt x="21368" y="15521"/>
                  <a:pt x="21443" y="15524"/>
                  <a:pt x="21357" y="15553"/>
                </a:cubicBezTo>
                <a:cubicBezTo>
                  <a:pt x="21317" y="15566"/>
                  <a:pt x="21296" y="15555"/>
                  <a:pt x="21258" y="15577"/>
                </a:cubicBezTo>
              </a:path>
              <a:path w="3523" h="1018">
                <a:moveTo>
                  <a:pt x="22076" y="15007"/>
                </a:moveTo>
                <a:cubicBezTo>
                  <a:pt x="22068" y="15007"/>
                  <a:pt x="22059" y="15007"/>
                  <a:pt x="22051" y="15007"/>
                </a:cubicBezTo>
                <a:cubicBezTo>
                  <a:pt x="22051" y="15063"/>
                  <a:pt x="22035" y="15104"/>
                  <a:pt x="22027" y="15156"/>
                </a:cubicBezTo>
                <a:cubicBezTo>
                  <a:pt x="22019" y="15203"/>
                  <a:pt x="22027" y="15256"/>
                  <a:pt x="22027" y="15304"/>
                </a:cubicBezTo>
              </a:path>
              <a:path w="3523" h="1018">
                <a:moveTo>
                  <a:pt x="22200" y="15354"/>
                </a:moveTo>
                <a:cubicBezTo>
                  <a:pt x="22208" y="15354"/>
                  <a:pt x="22217" y="15354"/>
                  <a:pt x="22225" y="15354"/>
                </a:cubicBezTo>
                <a:cubicBezTo>
                  <a:pt x="22172" y="15354"/>
                  <a:pt x="22155" y="15374"/>
                  <a:pt x="22101" y="15379"/>
                </a:cubicBezTo>
                <a:cubicBezTo>
                  <a:pt x="22036" y="15384"/>
                  <a:pt x="21968" y="15379"/>
                  <a:pt x="21903" y="15379"/>
                </a:cubicBezTo>
              </a:path>
              <a:path w="3523" h="1018">
                <a:moveTo>
                  <a:pt x="22027" y="15602"/>
                </a:moveTo>
                <a:cubicBezTo>
                  <a:pt x="22027" y="15627"/>
                  <a:pt x="22027" y="15635"/>
                  <a:pt x="22002" y="15627"/>
                </a:cubicBezTo>
                <a:cubicBezTo>
                  <a:pt x="22033" y="15604"/>
                  <a:pt x="22062" y="15581"/>
                  <a:pt x="22101" y="15577"/>
                </a:cubicBezTo>
                <a:cubicBezTo>
                  <a:pt x="22126" y="15577"/>
                  <a:pt x="22134" y="15577"/>
                  <a:pt x="22151" y="15577"/>
                </a:cubicBezTo>
                <a:cubicBezTo>
                  <a:pt x="22151" y="15639"/>
                  <a:pt x="22114" y="15669"/>
                  <a:pt x="22101" y="15726"/>
                </a:cubicBezTo>
                <a:cubicBezTo>
                  <a:pt x="22088" y="15783"/>
                  <a:pt x="22061" y="15830"/>
                  <a:pt x="22101" y="15875"/>
                </a:cubicBezTo>
                <a:cubicBezTo>
                  <a:pt x="22144" y="15923"/>
                  <a:pt x="22183" y="15940"/>
                  <a:pt x="22250" y="15925"/>
                </a:cubicBezTo>
                <a:cubicBezTo>
                  <a:pt x="22325" y="15908"/>
                  <a:pt x="22378" y="15885"/>
                  <a:pt x="22448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35840" y="5830920"/>
            <a:ext cx="100080" cy="125280"/>
          </a:xfrm>
          <a:custGeom>
            <a:avLst/>
            <a:gdLst/>
            <a:ahLst/>
            <a:rect l="l" t="t" r="r" b="b"/>
            <a:pathLst>
              <a:path w="274" h="349">
                <a:moveTo>
                  <a:pt x="19695" y="16222"/>
                </a:moveTo>
                <a:cubicBezTo>
                  <a:pt x="19677" y="16186"/>
                  <a:pt x="19655" y="16238"/>
                  <a:pt x="19621" y="16272"/>
                </a:cubicBezTo>
                <a:cubicBezTo>
                  <a:pt x="19583" y="16310"/>
                  <a:pt x="19526" y="16382"/>
                  <a:pt x="19546" y="16446"/>
                </a:cubicBezTo>
                <a:cubicBezTo>
                  <a:pt x="19565" y="16506"/>
                  <a:pt x="19612" y="16542"/>
                  <a:pt x="19670" y="16545"/>
                </a:cubicBezTo>
                <a:cubicBezTo>
                  <a:pt x="19733" y="16549"/>
                  <a:pt x="19762" y="16542"/>
                  <a:pt x="19819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77040" y="5892840"/>
            <a:ext cx="63720" cy="63360"/>
          </a:xfrm>
          <a:custGeom>
            <a:avLst/>
            <a:gdLst/>
            <a:ahLst/>
            <a:rect l="l" t="t" r="r" b="b"/>
            <a:pathLst>
              <a:path w="174" h="175">
                <a:moveTo>
                  <a:pt x="20340" y="16396"/>
                </a:moveTo>
                <a:cubicBezTo>
                  <a:pt x="20348" y="16396"/>
                  <a:pt x="20357" y="16396"/>
                  <a:pt x="20365" y="16396"/>
                </a:cubicBezTo>
                <a:cubicBezTo>
                  <a:pt x="20355" y="16367"/>
                  <a:pt x="20306" y="16350"/>
                  <a:pt x="20265" y="16371"/>
                </a:cubicBezTo>
                <a:cubicBezTo>
                  <a:pt x="20243" y="16394"/>
                  <a:pt x="20238" y="16402"/>
                  <a:pt x="20216" y="16396"/>
                </a:cubicBezTo>
              </a:path>
              <a:path w="174" h="175">
                <a:moveTo>
                  <a:pt x="20365" y="16520"/>
                </a:moveTo>
                <a:cubicBezTo>
                  <a:pt x="20373" y="16520"/>
                  <a:pt x="20381" y="16520"/>
                  <a:pt x="20389" y="16520"/>
                </a:cubicBezTo>
                <a:cubicBezTo>
                  <a:pt x="20379" y="16551"/>
                  <a:pt x="20335" y="16559"/>
                  <a:pt x="20290" y="16545"/>
                </a:cubicBezTo>
                <a:cubicBezTo>
                  <a:pt x="20247" y="16523"/>
                  <a:pt x="20235" y="16519"/>
                  <a:pt x="20216" y="164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00960" y="5919840"/>
            <a:ext cx="88920" cy="9360"/>
          </a:xfrm>
          <a:custGeom>
            <a:avLst/>
            <a:gdLst/>
            <a:ahLst/>
            <a:rect l="l" t="t" r="r" b="b"/>
            <a:pathLst>
              <a:path w="249" h="25">
                <a:moveTo>
                  <a:pt x="21059" y="16446"/>
                </a:moveTo>
                <a:cubicBezTo>
                  <a:pt x="21129" y="16446"/>
                  <a:pt x="20971" y="16442"/>
                  <a:pt x="20960" y="16446"/>
                </a:cubicBezTo>
                <a:cubicBezTo>
                  <a:pt x="20914" y="16463"/>
                  <a:pt x="20894" y="16470"/>
                  <a:pt x="20836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05800" y="5840280"/>
            <a:ext cx="162000" cy="204840"/>
          </a:xfrm>
          <a:custGeom>
            <a:avLst/>
            <a:gdLst/>
            <a:ahLst/>
            <a:rect l="l" t="t" r="r" b="b"/>
            <a:pathLst>
              <a:path w="448" h="572">
                <a:moveTo>
                  <a:pt x="21406" y="16247"/>
                </a:moveTo>
                <a:cubicBezTo>
                  <a:pt x="21423" y="16239"/>
                  <a:pt x="21439" y="16230"/>
                  <a:pt x="21456" y="16222"/>
                </a:cubicBezTo>
                <a:cubicBezTo>
                  <a:pt x="21456" y="16275"/>
                  <a:pt x="21440" y="16296"/>
                  <a:pt x="21431" y="16346"/>
                </a:cubicBezTo>
                <a:cubicBezTo>
                  <a:pt x="21420" y="16406"/>
                  <a:pt x="21406" y="16457"/>
                  <a:pt x="21406" y="16520"/>
                </a:cubicBezTo>
                <a:cubicBezTo>
                  <a:pt x="21406" y="16545"/>
                  <a:pt x="21406" y="16553"/>
                  <a:pt x="21406" y="16570"/>
                </a:cubicBezTo>
                <a:cubicBezTo>
                  <a:pt x="21488" y="16570"/>
                  <a:pt x="21550" y="16583"/>
                  <a:pt x="21630" y="16594"/>
                </a:cubicBezTo>
                <a:cubicBezTo>
                  <a:pt x="21696" y="16603"/>
                  <a:pt x="21740" y="16603"/>
                  <a:pt x="21803" y="16619"/>
                </a:cubicBezTo>
                <a:cubicBezTo>
                  <a:pt x="21828" y="16619"/>
                  <a:pt x="21836" y="16619"/>
                  <a:pt x="21853" y="16619"/>
                </a:cubicBezTo>
              </a:path>
              <a:path w="448" h="572">
                <a:moveTo>
                  <a:pt x="21779" y="16570"/>
                </a:moveTo>
                <a:cubicBezTo>
                  <a:pt x="21683" y="16579"/>
                  <a:pt x="21667" y="16592"/>
                  <a:pt x="21654" y="16694"/>
                </a:cubicBezTo>
                <a:cubicBezTo>
                  <a:pt x="21654" y="16752"/>
                  <a:pt x="21654" y="16760"/>
                  <a:pt x="21654" y="16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77000" y="6180120"/>
            <a:ext cx="339840" cy="276120"/>
          </a:xfrm>
          <a:custGeom>
            <a:avLst/>
            <a:gdLst/>
            <a:ahLst/>
            <a:rect l="l" t="t" r="r" b="b"/>
            <a:pathLst>
              <a:path w="943" h="770">
                <a:moveTo>
                  <a:pt x="18852" y="17214"/>
                </a:moveTo>
                <a:cubicBezTo>
                  <a:pt x="18852" y="17190"/>
                  <a:pt x="18852" y="17181"/>
                  <a:pt x="18852" y="17165"/>
                </a:cubicBezTo>
                <a:cubicBezTo>
                  <a:pt x="18815" y="17214"/>
                  <a:pt x="18813" y="17300"/>
                  <a:pt x="18827" y="17363"/>
                </a:cubicBezTo>
                <a:cubicBezTo>
                  <a:pt x="18852" y="17474"/>
                  <a:pt x="18906" y="17503"/>
                  <a:pt x="19000" y="17462"/>
                </a:cubicBezTo>
                <a:cubicBezTo>
                  <a:pt x="19070" y="17432"/>
                  <a:pt x="19071" y="17367"/>
                  <a:pt x="19124" y="17314"/>
                </a:cubicBezTo>
                <a:cubicBezTo>
                  <a:pt x="19205" y="17410"/>
                  <a:pt x="19235" y="17509"/>
                  <a:pt x="19248" y="17636"/>
                </a:cubicBezTo>
                <a:cubicBezTo>
                  <a:pt x="19253" y="17685"/>
                  <a:pt x="19279" y="17909"/>
                  <a:pt x="19224" y="17934"/>
                </a:cubicBezTo>
                <a:cubicBezTo>
                  <a:pt x="19161" y="17963"/>
                  <a:pt x="19052" y="17914"/>
                  <a:pt x="19000" y="17884"/>
                </a:cubicBezTo>
                <a:cubicBezTo>
                  <a:pt x="18930" y="17844"/>
                  <a:pt x="18921" y="17816"/>
                  <a:pt x="18876" y="17760"/>
                </a:cubicBezTo>
              </a:path>
              <a:path w="943" h="770">
                <a:moveTo>
                  <a:pt x="19720" y="17388"/>
                </a:moveTo>
                <a:cubicBezTo>
                  <a:pt x="19761" y="17388"/>
                  <a:pt x="19777" y="17380"/>
                  <a:pt x="19769" y="17413"/>
                </a:cubicBezTo>
                <a:cubicBezTo>
                  <a:pt x="19695" y="17413"/>
                  <a:pt x="19620" y="17413"/>
                  <a:pt x="19546" y="17413"/>
                </a:cubicBezTo>
              </a:path>
              <a:path w="943" h="770">
                <a:moveTo>
                  <a:pt x="19695" y="17487"/>
                </a:moveTo>
                <a:cubicBezTo>
                  <a:pt x="19741" y="17526"/>
                  <a:pt x="19758" y="17527"/>
                  <a:pt x="19769" y="17562"/>
                </a:cubicBezTo>
                <a:cubicBezTo>
                  <a:pt x="19720" y="17562"/>
                  <a:pt x="19670" y="17562"/>
                  <a:pt x="19621" y="17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58040" y="6143760"/>
            <a:ext cx="492120" cy="303120"/>
          </a:xfrm>
          <a:custGeom>
            <a:avLst/>
            <a:gdLst/>
            <a:ahLst/>
            <a:rect l="l" t="t" r="r" b="b"/>
            <a:pathLst>
              <a:path w="1365" h="844">
                <a:moveTo>
                  <a:pt x="20588" y="17165"/>
                </a:moveTo>
                <a:cubicBezTo>
                  <a:pt x="20588" y="17132"/>
                  <a:pt x="20588" y="17099"/>
                  <a:pt x="20588" y="17066"/>
                </a:cubicBezTo>
                <a:cubicBezTo>
                  <a:pt x="20627" y="17092"/>
                  <a:pt x="20613" y="17153"/>
                  <a:pt x="20613" y="17214"/>
                </a:cubicBezTo>
                <a:cubicBezTo>
                  <a:pt x="20613" y="17272"/>
                  <a:pt x="20613" y="17330"/>
                  <a:pt x="20613" y="17388"/>
                </a:cubicBezTo>
              </a:path>
              <a:path w="1365" h="844">
                <a:moveTo>
                  <a:pt x="20910" y="17487"/>
                </a:moveTo>
                <a:cubicBezTo>
                  <a:pt x="20918" y="17504"/>
                  <a:pt x="20927" y="17520"/>
                  <a:pt x="20935" y="17537"/>
                </a:cubicBezTo>
                <a:cubicBezTo>
                  <a:pt x="20794" y="17537"/>
                  <a:pt x="20555" y="17582"/>
                  <a:pt x="20439" y="17512"/>
                </a:cubicBezTo>
              </a:path>
              <a:path w="1365" h="844">
                <a:moveTo>
                  <a:pt x="20638" y="17661"/>
                </a:moveTo>
                <a:cubicBezTo>
                  <a:pt x="20689" y="17654"/>
                  <a:pt x="20754" y="17614"/>
                  <a:pt x="20811" y="17636"/>
                </a:cubicBezTo>
                <a:cubicBezTo>
                  <a:pt x="20846" y="17650"/>
                  <a:pt x="20896" y="17723"/>
                  <a:pt x="20886" y="17760"/>
                </a:cubicBezTo>
                <a:cubicBezTo>
                  <a:pt x="20876" y="17799"/>
                  <a:pt x="20836" y="17856"/>
                  <a:pt x="20811" y="17884"/>
                </a:cubicBezTo>
                <a:cubicBezTo>
                  <a:pt x="20803" y="17892"/>
                  <a:pt x="20794" y="17901"/>
                  <a:pt x="20786" y="17909"/>
                </a:cubicBezTo>
                <a:cubicBezTo>
                  <a:pt x="20902" y="17909"/>
                  <a:pt x="21018" y="17909"/>
                  <a:pt x="21134" y="17909"/>
                </a:cubicBezTo>
              </a:path>
              <a:path w="1365" h="844">
                <a:moveTo>
                  <a:pt x="21382" y="17512"/>
                </a:moveTo>
                <a:cubicBezTo>
                  <a:pt x="21341" y="17492"/>
                  <a:pt x="21325" y="17494"/>
                  <a:pt x="21332" y="17462"/>
                </a:cubicBezTo>
                <a:cubicBezTo>
                  <a:pt x="21366" y="17437"/>
                  <a:pt x="21409" y="17423"/>
                  <a:pt x="21456" y="17438"/>
                </a:cubicBezTo>
                <a:cubicBezTo>
                  <a:pt x="21538" y="17464"/>
                  <a:pt x="21547" y="17560"/>
                  <a:pt x="21530" y="17636"/>
                </a:cubicBezTo>
                <a:cubicBezTo>
                  <a:pt x="21510" y="17721"/>
                  <a:pt x="21482" y="17735"/>
                  <a:pt x="21406" y="17735"/>
                </a:cubicBezTo>
                <a:cubicBezTo>
                  <a:pt x="21362" y="17735"/>
                  <a:pt x="21349" y="17738"/>
                  <a:pt x="21332" y="17711"/>
                </a:cubicBezTo>
              </a:path>
              <a:path w="1365" h="844">
                <a:moveTo>
                  <a:pt x="21654" y="17438"/>
                </a:moveTo>
                <a:cubicBezTo>
                  <a:pt x="21671" y="17438"/>
                  <a:pt x="21687" y="17438"/>
                  <a:pt x="21704" y="17438"/>
                </a:cubicBezTo>
                <a:cubicBezTo>
                  <a:pt x="21690" y="17505"/>
                  <a:pt x="21644" y="17541"/>
                  <a:pt x="21630" y="17611"/>
                </a:cubicBezTo>
                <a:cubicBezTo>
                  <a:pt x="21617" y="17679"/>
                  <a:pt x="21636" y="17706"/>
                  <a:pt x="21704" y="17711"/>
                </a:cubicBezTo>
                <a:cubicBezTo>
                  <a:pt x="21754" y="17711"/>
                  <a:pt x="21770" y="17711"/>
                  <a:pt x="21803" y="177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8000" y="6180120"/>
            <a:ext cx="419040" cy="258840"/>
          </a:xfrm>
          <a:custGeom>
            <a:avLst/>
            <a:gdLst/>
            <a:ahLst/>
            <a:rect l="l" t="t" r="r" b="b"/>
            <a:pathLst>
              <a:path w="1167" h="720">
                <a:moveTo>
                  <a:pt x="22299" y="17636"/>
                </a:moveTo>
                <a:cubicBezTo>
                  <a:pt x="22299" y="17584"/>
                  <a:pt x="22294" y="17584"/>
                  <a:pt x="22324" y="17562"/>
                </a:cubicBezTo>
                <a:cubicBezTo>
                  <a:pt x="22366" y="17530"/>
                  <a:pt x="22443" y="17520"/>
                  <a:pt x="22498" y="17512"/>
                </a:cubicBezTo>
                <a:cubicBezTo>
                  <a:pt x="22577" y="17501"/>
                  <a:pt x="22666" y="17512"/>
                  <a:pt x="22746" y="17512"/>
                </a:cubicBezTo>
              </a:path>
              <a:path w="1167" h="720">
                <a:moveTo>
                  <a:pt x="23093" y="17239"/>
                </a:moveTo>
                <a:cubicBezTo>
                  <a:pt x="23101" y="17214"/>
                  <a:pt x="23110" y="17190"/>
                  <a:pt x="23118" y="17165"/>
                </a:cubicBezTo>
                <a:cubicBezTo>
                  <a:pt x="23118" y="17254"/>
                  <a:pt x="23097" y="17303"/>
                  <a:pt x="23068" y="17388"/>
                </a:cubicBezTo>
                <a:cubicBezTo>
                  <a:pt x="23052" y="17434"/>
                  <a:pt x="22992" y="17535"/>
                  <a:pt x="23019" y="17587"/>
                </a:cubicBezTo>
                <a:cubicBezTo>
                  <a:pt x="23035" y="17619"/>
                  <a:pt x="23085" y="17659"/>
                  <a:pt x="23118" y="17661"/>
                </a:cubicBezTo>
                <a:cubicBezTo>
                  <a:pt x="23193" y="17666"/>
                  <a:pt x="23255" y="17657"/>
                  <a:pt x="23316" y="17636"/>
                </a:cubicBezTo>
                <a:cubicBezTo>
                  <a:pt x="23350" y="17625"/>
                  <a:pt x="23386" y="17631"/>
                  <a:pt x="23416" y="17611"/>
                </a:cubicBezTo>
                <a:cubicBezTo>
                  <a:pt x="23451" y="17588"/>
                  <a:pt x="23455" y="17593"/>
                  <a:pt x="23465" y="17562"/>
                </a:cubicBezTo>
              </a:path>
              <a:path w="1167" h="720">
                <a:moveTo>
                  <a:pt x="23366" y="17487"/>
                </a:moveTo>
                <a:cubicBezTo>
                  <a:pt x="23292" y="17549"/>
                  <a:pt x="23315" y="17588"/>
                  <a:pt x="23292" y="17686"/>
                </a:cubicBezTo>
                <a:cubicBezTo>
                  <a:pt x="23276" y="17756"/>
                  <a:pt x="23264" y="17818"/>
                  <a:pt x="23242" y="17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51160" y="6276960"/>
            <a:ext cx="231840" cy="260280"/>
          </a:xfrm>
          <a:custGeom>
            <a:avLst/>
            <a:gdLst/>
            <a:ahLst/>
            <a:rect l="l" t="t" r="r" b="b"/>
            <a:pathLst>
              <a:path w="646" h="720">
                <a:moveTo>
                  <a:pt x="9029" y="17661"/>
                </a:moveTo>
                <a:cubicBezTo>
                  <a:pt x="9046" y="17621"/>
                  <a:pt x="9054" y="17494"/>
                  <a:pt x="9054" y="17537"/>
                </a:cubicBezTo>
                <a:cubicBezTo>
                  <a:pt x="9054" y="17545"/>
                  <a:pt x="9054" y="17554"/>
                  <a:pt x="9054" y="17562"/>
                </a:cubicBezTo>
                <a:cubicBezTo>
                  <a:pt x="9083" y="17639"/>
                  <a:pt x="9079" y="17700"/>
                  <a:pt x="9079" y="17785"/>
                </a:cubicBezTo>
                <a:cubicBezTo>
                  <a:pt x="9079" y="17876"/>
                  <a:pt x="9079" y="17967"/>
                  <a:pt x="9079" y="18058"/>
                </a:cubicBezTo>
                <a:cubicBezTo>
                  <a:pt x="9079" y="17937"/>
                  <a:pt x="9085" y="17825"/>
                  <a:pt x="9103" y="17711"/>
                </a:cubicBezTo>
                <a:cubicBezTo>
                  <a:pt x="9113" y="17651"/>
                  <a:pt x="9115" y="17584"/>
                  <a:pt x="9153" y="17537"/>
                </a:cubicBezTo>
                <a:cubicBezTo>
                  <a:pt x="9182" y="17501"/>
                  <a:pt x="9206" y="17447"/>
                  <a:pt x="9252" y="17438"/>
                </a:cubicBezTo>
                <a:cubicBezTo>
                  <a:pt x="9309" y="17426"/>
                  <a:pt x="9404" y="17433"/>
                  <a:pt x="9451" y="17462"/>
                </a:cubicBezTo>
                <a:cubicBezTo>
                  <a:pt x="9512" y="17500"/>
                  <a:pt x="9532" y="17534"/>
                  <a:pt x="9575" y="17587"/>
                </a:cubicBezTo>
                <a:cubicBezTo>
                  <a:pt x="9619" y="17641"/>
                  <a:pt x="9661" y="17697"/>
                  <a:pt x="9674" y="17760"/>
                </a:cubicBezTo>
                <a:cubicBezTo>
                  <a:pt x="9685" y="17814"/>
                  <a:pt x="9680" y="17888"/>
                  <a:pt x="9649" y="17934"/>
                </a:cubicBezTo>
                <a:cubicBezTo>
                  <a:pt x="9605" y="18000"/>
                  <a:pt x="9518" y="18070"/>
                  <a:pt x="9451" y="18107"/>
                </a:cubicBezTo>
                <a:cubicBezTo>
                  <a:pt x="9394" y="18139"/>
                  <a:pt x="9316" y="18153"/>
                  <a:pt x="9252" y="18157"/>
                </a:cubicBezTo>
                <a:cubicBezTo>
                  <a:pt x="9187" y="18161"/>
                  <a:pt x="9120" y="18157"/>
                  <a:pt x="9054" y="181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5120" y="3081240"/>
            <a:ext cx="865080" cy="293760"/>
          </a:xfrm>
          <a:custGeom>
            <a:avLst/>
            <a:gdLst/>
            <a:ahLst/>
            <a:rect l="l" t="t" r="r" b="b"/>
            <a:pathLst>
              <a:path w="2407" h="819">
                <a:moveTo>
                  <a:pt x="1389" y="8731"/>
                </a:moveTo>
                <a:cubicBezTo>
                  <a:pt x="1409" y="8691"/>
                  <a:pt x="1418" y="8685"/>
                  <a:pt x="1414" y="8657"/>
                </a:cubicBezTo>
                <a:cubicBezTo>
                  <a:pt x="1371" y="8657"/>
                  <a:pt x="1354" y="8662"/>
                  <a:pt x="1339" y="8706"/>
                </a:cubicBezTo>
                <a:cubicBezTo>
                  <a:pt x="1315" y="8776"/>
                  <a:pt x="1336" y="8891"/>
                  <a:pt x="1364" y="8954"/>
                </a:cubicBezTo>
                <a:cubicBezTo>
                  <a:pt x="1388" y="9002"/>
                  <a:pt x="1394" y="9019"/>
                  <a:pt x="1439" y="9004"/>
                </a:cubicBezTo>
                <a:cubicBezTo>
                  <a:pt x="1488" y="8942"/>
                  <a:pt x="1507" y="8879"/>
                  <a:pt x="1538" y="8806"/>
                </a:cubicBezTo>
                <a:cubicBezTo>
                  <a:pt x="1570" y="8732"/>
                  <a:pt x="1569" y="8726"/>
                  <a:pt x="1637" y="8706"/>
                </a:cubicBezTo>
                <a:cubicBezTo>
                  <a:pt x="1690" y="8772"/>
                  <a:pt x="1713" y="8848"/>
                  <a:pt x="1736" y="8930"/>
                </a:cubicBezTo>
                <a:cubicBezTo>
                  <a:pt x="1765" y="9035"/>
                  <a:pt x="1774" y="9124"/>
                  <a:pt x="1736" y="9227"/>
                </a:cubicBezTo>
                <a:cubicBezTo>
                  <a:pt x="1705" y="9311"/>
                  <a:pt x="1625" y="9363"/>
                  <a:pt x="1538" y="9376"/>
                </a:cubicBezTo>
                <a:cubicBezTo>
                  <a:pt x="1472" y="9386"/>
                  <a:pt x="1365" y="9387"/>
                  <a:pt x="1315" y="9351"/>
                </a:cubicBezTo>
                <a:cubicBezTo>
                  <a:pt x="1307" y="9343"/>
                  <a:pt x="1298" y="9335"/>
                  <a:pt x="1290" y="9327"/>
                </a:cubicBezTo>
              </a:path>
              <a:path w="2407" h="819">
                <a:moveTo>
                  <a:pt x="2257" y="8706"/>
                </a:moveTo>
                <a:cubicBezTo>
                  <a:pt x="2265" y="8706"/>
                  <a:pt x="2274" y="8706"/>
                  <a:pt x="2282" y="8706"/>
                </a:cubicBezTo>
                <a:cubicBezTo>
                  <a:pt x="2213" y="8706"/>
                  <a:pt x="2173" y="8715"/>
                  <a:pt x="2108" y="8731"/>
                </a:cubicBezTo>
                <a:cubicBezTo>
                  <a:pt x="2079" y="8738"/>
                  <a:pt x="2039" y="8731"/>
                  <a:pt x="2009" y="8731"/>
                </a:cubicBezTo>
              </a:path>
              <a:path w="2407" h="819">
                <a:moveTo>
                  <a:pt x="2208" y="8830"/>
                </a:moveTo>
                <a:cubicBezTo>
                  <a:pt x="2216" y="8838"/>
                  <a:pt x="2224" y="8847"/>
                  <a:pt x="2232" y="8855"/>
                </a:cubicBezTo>
                <a:cubicBezTo>
                  <a:pt x="2200" y="8880"/>
                  <a:pt x="2150" y="8894"/>
                  <a:pt x="2108" y="8905"/>
                </a:cubicBezTo>
                <a:cubicBezTo>
                  <a:pt x="2084" y="8905"/>
                  <a:pt x="2075" y="8905"/>
                  <a:pt x="2059" y="8905"/>
                </a:cubicBezTo>
              </a:path>
              <a:path w="2407" h="819">
                <a:moveTo>
                  <a:pt x="2505" y="8706"/>
                </a:moveTo>
                <a:cubicBezTo>
                  <a:pt x="2505" y="8646"/>
                  <a:pt x="2505" y="8761"/>
                  <a:pt x="2505" y="8781"/>
                </a:cubicBezTo>
                <a:cubicBezTo>
                  <a:pt x="2505" y="8864"/>
                  <a:pt x="2505" y="8946"/>
                  <a:pt x="2505" y="9029"/>
                </a:cubicBezTo>
                <a:cubicBezTo>
                  <a:pt x="2528" y="8998"/>
                  <a:pt x="2551" y="8968"/>
                  <a:pt x="2555" y="8930"/>
                </a:cubicBezTo>
                <a:cubicBezTo>
                  <a:pt x="2563" y="8859"/>
                  <a:pt x="2584" y="8824"/>
                  <a:pt x="2604" y="8756"/>
                </a:cubicBezTo>
                <a:cubicBezTo>
                  <a:pt x="2606" y="8748"/>
                  <a:pt x="2626" y="8660"/>
                  <a:pt x="2629" y="8657"/>
                </a:cubicBezTo>
                <a:cubicBezTo>
                  <a:pt x="2637" y="8657"/>
                  <a:pt x="2646" y="8657"/>
                  <a:pt x="2654" y="8657"/>
                </a:cubicBezTo>
                <a:cubicBezTo>
                  <a:pt x="2666" y="8706"/>
                  <a:pt x="2691" y="8751"/>
                  <a:pt x="2704" y="8806"/>
                </a:cubicBezTo>
                <a:cubicBezTo>
                  <a:pt x="2714" y="8850"/>
                  <a:pt x="2705" y="8866"/>
                  <a:pt x="2729" y="8905"/>
                </a:cubicBezTo>
                <a:cubicBezTo>
                  <a:pt x="2729" y="8846"/>
                  <a:pt x="2751" y="8809"/>
                  <a:pt x="2778" y="8756"/>
                </a:cubicBezTo>
                <a:cubicBezTo>
                  <a:pt x="2807" y="8697"/>
                  <a:pt x="2832" y="8654"/>
                  <a:pt x="2877" y="8607"/>
                </a:cubicBezTo>
                <a:cubicBezTo>
                  <a:pt x="2890" y="8661"/>
                  <a:pt x="2923" y="8692"/>
                  <a:pt x="2927" y="8756"/>
                </a:cubicBezTo>
                <a:cubicBezTo>
                  <a:pt x="2931" y="8819"/>
                  <a:pt x="2921" y="8853"/>
                  <a:pt x="2952" y="8905"/>
                </a:cubicBezTo>
              </a:path>
              <a:path w="2407" h="819">
                <a:moveTo>
                  <a:pt x="3225" y="8756"/>
                </a:moveTo>
                <a:cubicBezTo>
                  <a:pt x="3225" y="8731"/>
                  <a:pt x="3225" y="8707"/>
                  <a:pt x="3225" y="8682"/>
                </a:cubicBezTo>
                <a:cubicBezTo>
                  <a:pt x="3253" y="8682"/>
                  <a:pt x="3312" y="8668"/>
                  <a:pt x="3324" y="8706"/>
                </a:cubicBezTo>
                <a:cubicBezTo>
                  <a:pt x="3349" y="8786"/>
                  <a:pt x="3342" y="8828"/>
                  <a:pt x="3324" y="8905"/>
                </a:cubicBezTo>
                <a:cubicBezTo>
                  <a:pt x="3310" y="8965"/>
                  <a:pt x="3254" y="8954"/>
                  <a:pt x="3200" y="8954"/>
                </a:cubicBezTo>
                <a:cubicBezTo>
                  <a:pt x="3160" y="8954"/>
                  <a:pt x="3120" y="8949"/>
                  <a:pt x="3101" y="8905"/>
                </a:cubicBezTo>
                <a:cubicBezTo>
                  <a:pt x="3101" y="8880"/>
                  <a:pt x="3101" y="8872"/>
                  <a:pt x="3101" y="8855"/>
                </a:cubicBezTo>
              </a:path>
              <a:path w="2407" h="819">
                <a:moveTo>
                  <a:pt x="3522" y="8558"/>
                </a:moveTo>
                <a:cubicBezTo>
                  <a:pt x="3511" y="8600"/>
                  <a:pt x="3459" y="8618"/>
                  <a:pt x="3448" y="8657"/>
                </a:cubicBezTo>
                <a:cubicBezTo>
                  <a:pt x="3433" y="8708"/>
                  <a:pt x="3440" y="8792"/>
                  <a:pt x="3473" y="8830"/>
                </a:cubicBezTo>
                <a:cubicBezTo>
                  <a:pt x="3509" y="8871"/>
                  <a:pt x="3553" y="8859"/>
                  <a:pt x="3597" y="8830"/>
                </a:cubicBezTo>
                <a:cubicBezTo>
                  <a:pt x="3634" y="8806"/>
                  <a:pt x="3663" y="8781"/>
                  <a:pt x="3696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65200" y="3106800"/>
            <a:ext cx="320760" cy="135000"/>
          </a:xfrm>
          <a:custGeom>
            <a:avLst/>
            <a:gdLst/>
            <a:ahLst/>
            <a:rect l="l" t="t" r="r" b="b"/>
            <a:pathLst>
              <a:path w="894" h="373">
                <a:moveTo>
                  <a:pt x="4341" y="8830"/>
                </a:moveTo>
                <a:cubicBezTo>
                  <a:pt x="4349" y="8830"/>
                  <a:pt x="4358" y="8830"/>
                  <a:pt x="4366" y="8830"/>
                </a:cubicBezTo>
                <a:cubicBezTo>
                  <a:pt x="4354" y="8782"/>
                  <a:pt x="4318" y="8769"/>
                  <a:pt x="4266" y="8756"/>
                </a:cubicBezTo>
                <a:cubicBezTo>
                  <a:pt x="4223" y="8745"/>
                  <a:pt x="4188" y="8731"/>
                  <a:pt x="4142" y="8731"/>
                </a:cubicBezTo>
                <a:cubicBezTo>
                  <a:pt x="4117" y="8731"/>
                  <a:pt x="4093" y="8731"/>
                  <a:pt x="4068" y="8731"/>
                </a:cubicBezTo>
              </a:path>
              <a:path w="894" h="373">
                <a:moveTo>
                  <a:pt x="4217" y="8632"/>
                </a:moveTo>
                <a:cubicBezTo>
                  <a:pt x="4242" y="8632"/>
                  <a:pt x="4250" y="8632"/>
                  <a:pt x="4266" y="8632"/>
                </a:cubicBezTo>
                <a:cubicBezTo>
                  <a:pt x="4257" y="8698"/>
                  <a:pt x="4221" y="8735"/>
                  <a:pt x="4217" y="8806"/>
                </a:cubicBezTo>
                <a:cubicBezTo>
                  <a:pt x="4215" y="8847"/>
                  <a:pt x="4217" y="8889"/>
                  <a:pt x="4217" y="8930"/>
                </a:cubicBezTo>
              </a:path>
              <a:path w="894" h="373">
                <a:moveTo>
                  <a:pt x="4837" y="8657"/>
                </a:moveTo>
                <a:cubicBezTo>
                  <a:pt x="4862" y="8657"/>
                  <a:pt x="4870" y="8657"/>
                  <a:pt x="4862" y="8632"/>
                </a:cubicBezTo>
                <a:cubicBezTo>
                  <a:pt x="4818" y="8632"/>
                  <a:pt x="4749" y="8640"/>
                  <a:pt x="4713" y="8657"/>
                </a:cubicBezTo>
                <a:cubicBezTo>
                  <a:pt x="4617" y="8702"/>
                  <a:pt x="4594" y="8754"/>
                  <a:pt x="4589" y="8855"/>
                </a:cubicBezTo>
                <a:cubicBezTo>
                  <a:pt x="4585" y="8936"/>
                  <a:pt x="4633" y="8986"/>
                  <a:pt x="4713" y="9004"/>
                </a:cubicBezTo>
                <a:cubicBezTo>
                  <a:pt x="4771" y="9017"/>
                  <a:pt x="4859" y="8996"/>
                  <a:pt x="4911" y="8979"/>
                </a:cubicBezTo>
                <a:cubicBezTo>
                  <a:pt x="4928" y="8971"/>
                  <a:pt x="4944" y="8962"/>
                  <a:pt x="4961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9760" y="3303720"/>
            <a:ext cx="793440" cy="519120"/>
          </a:xfrm>
          <a:custGeom>
            <a:avLst/>
            <a:gdLst/>
            <a:ahLst/>
            <a:rect l="l" t="t" r="r" b="b"/>
            <a:pathLst>
              <a:path w="2208" h="1439">
                <a:moveTo>
                  <a:pt x="2629" y="9203"/>
                </a:moveTo>
                <a:cubicBezTo>
                  <a:pt x="2629" y="9133"/>
                  <a:pt x="2607" y="9273"/>
                  <a:pt x="2604" y="9277"/>
                </a:cubicBezTo>
                <a:cubicBezTo>
                  <a:pt x="2555" y="9355"/>
                  <a:pt x="2496" y="9438"/>
                  <a:pt x="2456" y="9525"/>
                </a:cubicBezTo>
                <a:cubicBezTo>
                  <a:pt x="2413" y="9618"/>
                  <a:pt x="2347" y="9718"/>
                  <a:pt x="2332" y="9823"/>
                </a:cubicBezTo>
                <a:cubicBezTo>
                  <a:pt x="2322" y="9895"/>
                  <a:pt x="2298" y="9935"/>
                  <a:pt x="2282" y="9996"/>
                </a:cubicBezTo>
              </a:path>
              <a:path w="2208" h="1439">
                <a:moveTo>
                  <a:pt x="2629" y="9302"/>
                </a:moveTo>
                <a:cubicBezTo>
                  <a:pt x="2652" y="9279"/>
                  <a:pt x="2656" y="9271"/>
                  <a:pt x="2679" y="9277"/>
                </a:cubicBezTo>
                <a:cubicBezTo>
                  <a:pt x="2679" y="9332"/>
                  <a:pt x="2691" y="9347"/>
                  <a:pt x="2704" y="9401"/>
                </a:cubicBezTo>
                <a:cubicBezTo>
                  <a:pt x="2720" y="9465"/>
                  <a:pt x="2704" y="9445"/>
                  <a:pt x="2704" y="9376"/>
                </a:cubicBezTo>
                <a:cubicBezTo>
                  <a:pt x="2704" y="9345"/>
                  <a:pt x="2693" y="9254"/>
                  <a:pt x="2679" y="9227"/>
                </a:cubicBezTo>
                <a:cubicBezTo>
                  <a:pt x="2659" y="9188"/>
                  <a:pt x="2590" y="9203"/>
                  <a:pt x="2555" y="9203"/>
                </a:cubicBezTo>
                <a:cubicBezTo>
                  <a:pt x="2491" y="9203"/>
                  <a:pt x="2443" y="9220"/>
                  <a:pt x="2381" y="9227"/>
                </a:cubicBezTo>
              </a:path>
              <a:path w="2208" h="1439">
                <a:moveTo>
                  <a:pt x="1662" y="10096"/>
                </a:moveTo>
                <a:cubicBezTo>
                  <a:pt x="1632" y="10103"/>
                  <a:pt x="1559" y="10146"/>
                  <a:pt x="1538" y="10170"/>
                </a:cubicBezTo>
                <a:cubicBezTo>
                  <a:pt x="1502" y="10212"/>
                  <a:pt x="1473" y="10292"/>
                  <a:pt x="1463" y="10344"/>
                </a:cubicBezTo>
                <a:cubicBezTo>
                  <a:pt x="1546" y="10344"/>
                  <a:pt x="1536" y="10289"/>
                  <a:pt x="1588" y="10244"/>
                </a:cubicBezTo>
                <a:cubicBezTo>
                  <a:pt x="1643" y="10196"/>
                  <a:pt x="1698" y="10218"/>
                  <a:pt x="1736" y="10269"/>
                </a:cubicBezTo>
                <a:cubicBezTo>
                  <a:pt x="1776" y="10322"/>
                  <a:pt x="1825" y="10426"/>
                  <a:pt x="1811" y="10492"/>
                </a:cubicBezTo>
                <a:cubicBezTo>
                  <a:pt x="1800" y="10542"/>
                  <a:pt x="1737" y="10605"/>
                  <a:pt x="1687" y="10616"/>
                </a:cubicBezTo>
                <a:cubicBezTo>
                  <a:pt x="1627" y="10630"/>
                  <a:pt x="1508" y="10628"/>
                  <a:pt x="1463" y="10592"/>
                </a:cubicBezTo>
                <a:cubicBezTo>
                  <a:pt x="1423" y="10560"/>
                  <a:pt x="1414" y="10541"/>
                  <a:pt x="1414" y="10492"/>
                </a:cubicBezTo>
                <a:cubicBezTo>
                  <a:pt x="1414" y="10476"/>
                  <a:pt x="1414" y="10459"/>
                  <a:pt x="1414" y="10443"/>
                </a:cubicBezTo>
              </a:path>
              <a:path w="2208" h="1439">
                <a:moveTo>
                  <a:pt x="1984" y="10294"/>
                </a:moveTo>
                <a:cubicBezTo>
                  <a:pt x="1984" y="10302"/>
                  <a:pt x="1984" y="10311"/>
                  <a:pt x="1984" y="10319"/>
                </a:cubicBezTo>
                <a:cubicBezTo>
                  <a:pt x="1948" y="10310"/>
                  <a:pt x="1923" y="10281"/>
                  <a:pt x="1910" y="10244"/>
                </a:cubicBezTo>
                <a:cubicBezTo>
                  <a:pt x="1900" y="10214"/>
                  <a:pt x="1915" y="10136"/>
                  <a:pt x="1935" y="10120"/>
                </a:cubicBezTo>
                <a:cubicBezTo>
                  <a:pt x="1955" y="10103"/>
                  <a:pt x="2029" y="10080"/>
                  <a:pt x="2059" y="10096"/>
                </a:cubicBezTo>
                <a:cubicBezTo>
                  <a:pt x="2104" y="10120"/>
                  <a:pt x="2103" y="10130"/>
                  <a:pt x="2133" y="10170"/>
                </a:cubicBezTo>
              </a:path>
              <a:path w="2208" h="1439">
                <a:moveTo>
                  <a:pt x="2232" y="10195"/>
                </a:moveTo>
                <a:cubicBezTo>
                  <a:pt x="2199" y="10207"/>
                  <a:pt x="2154" y="10244"/>
                  <a:pt x="2133" y="10294"/>
                </a:cubicBezTo>
                <a:cubicBezTo>
                  <a:pt x="2120" y="10324"/>
                  <a:pt x="2124" y="10401"/>
                  <a:pt x="2158" y="10418"/>
                </a:cubicBezTo>
                <a:cubicBezTo>
                  <a:pt x="2196" y="10437"/>
                  <a:pt x="2222" y="10397"/>
                  <a:pt x="2232" y="10368"/>
                </a:cubicBezTo>
                <a:cubicBezTo>
                  <a:pt x="2243" y="10334"/>
                  <a:pt x="2241" y="10344"/>
                  <a:pt x="2282" y="10344"/>
                </a:cubicBezTo>
              </a:path>
              <a:path w="2208" h="1439">
                <a:moveTo>
                  <a:pt x="2381" y="10269"/>
                </a:moveTo>
                <a:cubicBezTo>
                  <a:pt x="2381" y="10253"/>
                  <a:pt x="2381" y="10236"/>
                  <a:pt x="2381" y="10220"/>
                </a:cubicBezTo>
                <a:cubicBezTo>
                  <a:pt x="2409" y="10234"/>
                  <a:pt x="2381" y="10242"/>
                  <a:pt x="2381" y="10294"/>
                </a:cubicBezTo>
                <a:cubicBezTo>
                  <a:pt x="2381" y="10311"/>
                  <a:pt x="2381" y="10327"/>
                  <a:pt x="2381" y="10344"/>
                </a:cubicBezTo>
                <a:cubicBezTo>
                  <a:pt x="2460" y="10344"/>
                  <a:pt x="2455" y="10292"/>
                  <a:pt x="2480" y="10220"/>
                </a:cubicBezTo>
                <a:cubicBezTo>
                  <a:pt x="2509" y="10134"/>
                  <a:pt x="2505" y="10061"/>
                  <a:pt x="2505" y="9971"/>
                </a:cubicBezTo>
                <a:cubicBezTo>
                  <a:pt x="2505" y="9927"/>
                  <a:pt x="2508" y="9913"/>
                  <a:pt x="2480" y="9897"/>
                </a:cubicBezTo>
                <a:cubicBezTo>
                  <a:pt x="2449" y="9950"/>
                  <a:pt x="2443" y="10030"/>
                  <a:pt x="2456" y="10096"/>
                </a:cubicBezTo>
                <a:cubicBezTo>
                  <a:pt x="2470" y="10166"/>
                  <a:pt x="2478" y="10282"/>
                  <a:pt x="2505" y="10344"/>
                </a:cubicBezTo>
                <a:cubicBezTo>
                  <a:pt x="2522" y="10383"/>
                  <a:pt x="2530" y="10371"/>
                  <a:pt x="2530" y="10418"/>
                </a:cubicBezTo>
              </a:path>
              <a:path w="2208" h="1439">
                <a:moveTo>
                  <a:pt x="2679" y="10220"/>
                </a:moveTo>
                <a:cubicBezTo>
                  <a:pt x="2679" y="10264"/>
                  <a:pt x="2694" y="10280"/>
                  <a:pt x="2704" y="10319"/>
                </a:cubicBezTo>
              </a:path>
              <a:path w="2208" h="1439">
                <a:moveTo>
                  <a:pt x="2704" y="10170"/>
                </a:moveTo>
                <a:cubicBezTo>
                  <a:pt x="2684" y="10130"/>
                  <a:pt x="2675" y="10123"/>
                  <a:pt x="2679" y="10096"/>
                </a:cubicBezTo>
              </a:path>
              <a:path w="2208" h="1439">
                <a:moveTo>
                  <a:pt x="2778" y="10244"/>
                </a:moveTo>
                <a:cubicBezTo>
                  <a:pt x="2837" y="10244"/>
                  <a:pt x="2894" y="10264"/>
                  <a:pt x="2902" y="10195"/>
                </a:cubicBezTo>
                <a:cubicBezTo>
                  <a:pt x="2902" y="10170"/>
                  <a:pt x="2902" y="10162"/>
                  <a:pt x="2902" y="10145"/>
                </a:cubicBezTo>
                <a:cubicBezTo>
                  <a:pt x="2857" y="10145"/>
                  <a:pt x="2832" y="10143"/>
                  <a:pt x="2828" y="10195"/>
                </a:cubicBezTo>
                <a:cubicBezTo>
                  <a:pt x="2825" y="10242"/>
                  <a:pt x="2816" y="10347"/>
                  <a:pt x="2877" y="10368"/>
                </a:cubicBezTo>
                <a:cubicBezTo>
                  <a:pt x="2898" y="10375"/>
                  <a:pt x="2951" y="10368"/>
                  <a:pt x="2977" y="10368"/>
                </a:cubicBezTo>
              </a:path>
              <a:path w="2208" h="1439">
                <a:moveTo>
                  <a:pt x="3076" y="10170"/>
                </a:moveTo>
                <a:cubicBezTo>
                  <a:pt x="3076" y="10233"/>
                  <a:pt x="3095" y="10267"/>
                  <a:pt x="3101" y="10319"/>
                </a:cubicBezTo>
                <a:cubicBezTo>
                  <a:pt x="3101" y="10327"/>
                  <a:pt x="3101" y="10336"/>
                  <a:pt x="3101" y="10344"/>
                </a:cubicBezTo>
                <a:cubicBezTo>
                  <a:pt x="3133" y="10299"/>
                  <a:pt x="3142" y="10276"/>
                  <a:pt x="3150" y="10220"/>
                </a:cubicBezTo>
                <a:cubicBezTo>
                  <a:pt x="3196" y="10220"/>
                  <a:pt x="3222" y="10226"/>
                  <a:pt x="3249" y="10269"/>
                </a:cubicBezTo>
                <a:cubicBezTo>
                  <a:pt x="3279" y="10316"/>
                  <a:pt x="3297" y="10351"/>
                  <a:pt x="3349" y="10368"/>
                </a:cubicBezTo>
                <a:cubicBezTo>
                  <a:pt x="3393" y="10382"/>
                  <a:pt x="3408" y="10363"/>
                  <a:pt x="3423" y="10344"/>
                </a:cubicBezTo>
                <a:cubicBezTo>
                  <a:pt x="3447" y="10312"/>
                  <a:pt x="3466" y="10254"/>
                  <a:pt x="3473" y="10220"/>
                </a:cubicBezTo>
                <a:cubicBezTo>
                  <a:pt x="3480" y="10187"/>
                  <a:pt x="3473" y="10129"/>
                  <a:pt x="3473" y="10096"/>
                </a:cubicBezTo>
                <a:cubicBezTo>
                  <a:pt x="3473" y="10179"/>
                  <a:pt x="3447" y="10305"/>
                  <a:pt x="3497" y="10368"/>
                </a:cubicBezTo>
                <a:cubicBezTo>
                  <a:pt x="3505" y="10376"/>
                  <a:pt x="3514" y="10385"/>
                  <a:pt x="3522" y="10393"/>
                </a:cubicBezTo>
              </a:path>
              <a:path w="2208" h="1439">
                <a:moveTo>
                  <a:pt x="3621" y="10269"/>
                </a:moveTo>
                <a:cubicBezTo>
                  <a:pt x="3603" y="10224"/>
                  <a:pt x="3593" y="10144"/>
                  <a:pt x="3522" y="10170"/>
                </a:cubicBezTo>
                <a:cubicBezTo>
                  <a:pt x="3506" y="10178"/>
                  <a:pt x="3489" y="10187"/>
                  <a:pt x="3473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89040" y="3313080"/>
            <a:ext cx="1019160" cy="608040"/>
          </a:xfrm>
          <a:custGeom>
            <a:avLst/>
            <a:gdLst/>
            <a:ahLst/>
            <a:rect l="l" t="t" r="r" b="b"/>
            <a:pathLst>
              <a:path w="2829" h="1687">
                <a:moveTo>
                  <a:pt x="4787" y="9327"/>
                </a:moveTo>
                <a:cubicBezTo>
                  <a:pt x="4787" y="9272"/>
                  <a:pt x="4787" y="9225"/>
                  <a:pt x="4787" y="9302"/>
                </a:cubicBezTo>
                <a:cubicBezTo>
                  <a:pt x="4787" y="9380"/>
                  <a:pt x="4818" y="9474"/>
                  <a:pt x="4837" y="9550"/>
                </a:cubicBezTo>
                <a:cubicBezTo>
                  <a:pt x="4876" y="9705"/>
                  <a:pt x="4934" y="9865"/>
                  <a:pt x="4961" y="10021"/>
                </a:cubicBezTo>
                <a:cubicBezTo>
                  <a:pt x="4970" y="10073"/>
                  <a:pt x="4979" y="10117"/>
                  <a:pt x="4986" y="10170"/>
                </a:cubicBezTo>
              </a:path>
              <a:path w="2829" h="1687">
                <a:moveTo>
                  <a:pt x="4713" y="9277"/>
                </a:moveTo>
                <a:cubicBezTo>
                  <a:pt x="4713" y="9252"/>
                  <a:pt x="4713" y="9244"/>
                  <a:pt x="4713" y="9227"/>
                </a:cubicBezTo>
                <a:cubicBezTo>
                  <a:pt x="4661" y="9240"/>
                  <a:pt x="4671" y="9264"/>
                  <a:pt x="4638" y="9302"/>
                </a:cubicBezTo>
                <a:cubicBezTo>
                  <a:pt x="4605" y="9341"/>
                  <a:pt x="4614" y="9377"/>
                  <a:pt x="4614" y="9426"/>
                </a:cubicBezTo>
                <a:cubicBezTo>
                  <a:pt x="4614" y="9434"/>
                  <a:pt x="4614" y="9443"/>
                  <a:pt x="4614" y="9451"/>
                </a:cubicBezTo>
                <a:cubicBezTo>
                  <a:pt x="4647" y="9405"/>
                  <a:pt x="4644" y="9379"/>
                  <a:pt x="4663" y="9327"/>
                </a:cubicBezTo>
                <a:cubicBezTo>
                  <a:pt x="4669" y="9310"/>
                  <a:pt x="4728" y="9210"/>
                  <a:pt x="4738" y="9203"/>
                </a:cubicBezTo>
                <a:cubicBezTo>
                  <a:pt x="4746" y="9203"/>
                  <a:pt x="4754" y="9203"/>
                  <a:pt x="4762" y="9203"/>
                </a:cubicBezTo>
                <a:cubicBezTo>
                  <a:pt x="4814" y="9254"/>
                  <a:pt x="4815" y="9265"/>
                  <a:pt x="4837" y="9327"/>
                </a:cubicBezTo>
                <a:cubicBezTo>
                  <a:pt x="4845" y="9343"/>
                  <a:pt x="4854" y="9360"/>
                  <a:pt x="4862" y="9376"/>
                </a:cubicBezTo>
              </a:path>
              <a:path w="2829" h="1687">
                <a:moveTo>
                  <a:pt x="4440" y="10244"/>
                </a:moveTo>
                <a:cubicBezTo>
                  <a:pt x="4440" y="10220"/>
                  <a:pt x="4440" y="10212"/>
                  <a:pt x="4415" y="10220"/>
                </a:cubicBezTo>
                <a:cubicBezTo>
                  <a:pt x="4415" y="10273"/>
                  <a:pt x="4409" y="10302"/>
                  <a:pt x="4440" y="10344"/>
                </a:cubicBezTo>
                <a:cubicBezTo>
                  <a:pt x="4488" y="10332"/>
                  <a:pt x="4496" y="10288"/>
                  <a:pt x="4539" y="10269"/>
                </a:cubicBezTo>
                <a:cubicBezTo>
                  <a:pt x="4589" y="10247"/>
                  <a:pt x="4645" y="10334"/>
                  <a:pt x="4663" y="10368"/>
                </a:cubicBezTo>
                <a:cubicBezTo>
                  <a:pt x="4705" y="10450"/>
                  <a:pt x="4736" y="10576"/>
                  <a:pt x="4713" y="10666"/>
                </a:cubicBezTo>
                <a:cubicBezTo>
                  <a:pt x="4696" y="10733"/>
                  <a:pt x="4649" y="10761"/>
                  <a:pt x="4589" y="10765"/>
                </a:cubicBezTo>
                <a:cubicBezTo>
                  <a:pt x="4532" y="10768"/>
                  <a:pt x="4484" y="10744"/>
                  <a:pt x="4465" y="10691"/>
                </a:cubicBezTo>
                <a:cubicBezTo>
                  <a:pt x="4465" y="10683"/>
                  <a:pt x="4465" y="10674"/>
                  <a:pt x="4465" y="10666"/>
                </a:cubicBezTo>
              </a:path>
              <a:path w="2829" h="1687">
                <a:moveTo>
                  <a:pt x="4911" y="10294"/>
                </a:moveTo>
                <a:cubicBezTo>
                  <a:pt x="4911" y="10277"/>
                  <a:pt x="4911" y="10261"/>
                  <a:pt x="4911" y="10244"/>
                </a:cubicBezTo>
                <a:cubicBezTo>
                  <a:pt x="4911" y="10310"/>
                  <a:pt x="4911" y="10377"/>
                  <a:pt x="4911" y="10443"/>
                </a:cubicBezTo>
              </a:path>
              <a:path w="2829" h="1687">
                <a:moveTo>
                  <a:pt x="4887" y="10120"/>
                </a:moveTo>
                <a:cubicBezTo>
                  <a:pt x="4887" y="10079"/>
                  <a:pt x="4887" y="10071"/>
                  <a:pt x="4887" y="10046"/>
                </a:cubicBezTo>
              </a:path>
              <a:path w="2829" h="1687">
                <a:moveTo>
                  <a:pt x="5011" y="10344"/>
                </a:moveTo>
                <a:cubicBezTo>
                  <a:pt x="5011" y="10385"/>
                  <a:pt x="5017" y="10480"/>
                  <a:pt x="5035" y="10443"/>
                </a:cubicBezTo>
                <a:cubicBezTo>
                  <a:pt x="5057" y="10396"/>
                  <a:pt x="5054" y="10344"/>
                  <a:pt x="5085" y="10294"/>
                </a:cubicBezTo>
                <a:cubicBezTo>
                  <a:pt x="5107" y="10259"/>
                  <a:pt x="5105" y="10254"/>
                  <a:pt x="5135" y="10244"/>
                </a:cubicBezTo>
                <a:cubicBezTo>
                  <a:pt x="5164" y="10264"/>
                  <a:pt x="5181" y="10316"/>
                  <a:pt x="5184" y="10368"/>
                </a:cubicBezTo>
                <a:cubicBezTo>
                  <a:pt x="5187" y="10420"/>
                  <a:pt x="5198" y="10425"/>
                  <a:pt x="5209" y="10468"/>
                </a:cubicBezTo>
              </a:path>
              <a:path w="2829" h="1687">
                <a:moveTo>
                  <a:pt x="5333" y="10096"/>
                </a:moveTo>
                <a:cubicBezTo>
                  <a:pt x="5356" y="10073"/>
                  <a:pt x="5360" y="10065"/>
                  <a:pt x="5383" y="10071"/>
                </a:cubicBezTo>
                <a:cubicBezTo>
                  <a:pt x="5344" y="10123"/>
                  <a:pt x="5376" y="10133"/>
                  <a:pt x="5358" y="10195"/>
                </a:cubicBezTo>
                <a:cubicBezTo>
                  <a:pt x="5337" y="10266"/>
                  <a:pt x="5333" y="10316"/>
                  <a:pt x="5333" y="10393"/>
                </a:cubicBezTo>
                <a:cubicBezTo>
                  <a:pt x="5333" y="10454"/>
                  <a:pt x="5351" y="10478"/>
                  <a:pt x="5407" y="10492"/>
                </a:cubicBezTo>
              </a:path>
              <a:path w="2829" h="1687">
                <a:moveTo>
                  <a:pt x="5482" y="10319"/>
                </a:moveTo>
                <a:cubicBezTo>
                  <a:pt x="5444" y="10291"/>
                  <a:pt x="5431" y="10294"/>
                  <a:pt x="5383" y="10294"/>
                </a:cubicBezTo>
                <a:cubicBezTo>
                  <a:pt x="5355" y="10294"/>
                  <a:pt x="5344" y="10296"/>
                  <a:pt x="5333" y="10319"/>
                </a:cubicBezTo>
              </a:path>
              <a:path w="2829" h="1687">
                <a:moveTo>
                  <a:pt x="5457" y="10294"/>
                </a:moveTo>
                <a:cubicBezTo>
                  <a:pt x="5483" y="10305"/>
                  <a:pt x="5547" y="10338"/>
                  <a:pt x="5581" y="10319"/>
                </a:cubicBezTo>
                <a:cubicBezTo>
                  <a:pt x="5634" y="10290"/>
                  <a:pt x="5601" y="10229"/>
                  <a:pt x="5581" y="10195"/>
                </a:cubicBezTo>
                <a:cubicBezTo>
                  <a:pt x="5528" y="10248"/>
                  <a:pt x="5531" y="10268"/>
                  <a:pt x="5531" y="10344"/>
                </a:cubicBezTo>
                <a:cubicBezTo>
                  <a:pt x="5531" y="10391"/>
                  <a:pt x="5517" y="10474"/>
                  <a:pt x="5581" y="10492"/>
                </a:cubicBezTo>
                <a:cubicBezTo>
                  <a:pt x="5638" y="10508"/>
                  <a:pt x="5701" y="10474"/>
                  <a:pt x="5755" y="10468"/>
                </a:cubicBezTo>
              </a:path>
              <a:path w="2829" h="1687">
                <a:moveTo>
                  <a:pt x="5854" y="10492"/>
                </a:moveTo>
                <a:cubicBezTo>
                  <a:pt x="5862" y="10492"/>
                  <a:pt x="5871" y="10492"/>
                  <a:pt x="5879" y="10492"/>
                </a:cubicBezTo>
                <a:cubicBezTo>
                  <a:pt x="5866" y="10455"/>
                  <a:pt x="5854" y="10471"/>
                  <a:pt x="5854" y="10418"/>
                </a:cubicBezTo>
                <a:cubicBezTo>
                  <a:pt x="5854" y="10373"/>
                  <a:pt x="5869" y="10358"/>
                  <a:pt x="5879" y="10319"/>
                </a:cubicBezTo>
                <a:cubicBezTo>
                  <a:pt x="5912" y="10319"/>
                  <a:pt x="5945" y="10319"/>
                  <a:pt x="5978" y="10319"/>
                </a:cubicBezTo>
              </a:path>
              <a:path w="2829" h="1687">
                <a:moveTo>
                  <a:pt x="6176" y="10344"/>
                </a:moveTo>
                <a:cubicBezTo>
                  <a:pt x="6201" y="10344"/>
                  <a:pt x="6209" y="10344"/>
                  <a:pt x="6201" y="10319"/>
                </a:cubicBezTo>
                <a:cubicBezTo>
                  <a:pt x="6144" y="10333"/>
                  <a:pt x="6109" y="10364"/>
                  <a:pt x="6077" y="10418"/>
                </a:cubicBezTo>
                <a:cubicBezTo>
                  <a:pt x="6043" y="10475"/>
                  <a:pt x="6036" y="10541"/>
                  <a:pt x="6077" y="10592"/>
                </a:cubicBezTo>
                <a:cubicBezTo>
                  <a:pt x="6126" y="10653"/>
                  <a:pt x="6171" y="10645"/>
                  <a:pt x="6226" y="10616"/>
                </a:cubicBezTo>
                <a:cubicBezTo>
                  <a:pt x="6243" y="10608"/>
                  <a:pt x="6259" y="10600"/>
                  <a:pt x="6276" y="10592"/>
                </a:cubicBezTo>
              </a:path>
              <a:path w="2829" h="1687">
                <a:moveTo>
                  <a:pt x="6350" y="10443"/>
                </a:moveTo>
                <a:cubicBezTo>
                  <a:pt x="6376" y="10443"/>
                  <a:pt x="6437" y="10436"/>
                  <a:pt x="6449" y="10418"/>
                </a:cubicBezTo>
                <a:cubicBezTo>
                  <a:pt x="6466" y="10392"/>
                  <a:pt x="6454" y="10310"/>
                  <a:pt x="6424" y="10294"/>
                </a:cubicBezTo>
                <a:cubicBezTo>
                  <a:pt x="6370" y="10266"/>
                  <a:pt x="6310" y="10314"/>
                  <a:pt x="6300" y="10368"/>
                </a:cubicBezTo>
                <a:cubicBezTo>
                  <a:pt x="6281" y="10471"/>
                  <a:pt x="6311" y="10542"/>
                  <a:pt x="6375" y="10616"/>
                </a:cubicBezTo>
                <a:cubicBezTo>
                  <a:pt x="6424" y="10672"/>
                  <a:pt x="6451" y="10666"/>
                  <a:pt x="6524" y="10666"/>
                </a:cubicBezTo>
              </a:path>
              <a:path w="2829" h="1687">
                <a:moveTo>
                  <a:pt x="6648" y="10468"/>
                </a:moveTo>
                <a:cubicBezTo>
                  <a:pt x="6687" y="10481"/>
                  <a:pt x="6672" y="10518"/>
                  <a:pt x="6672" y="10567"/>
                </a:cubicBezTo>
                <a:cubicBezTo>
                  <a:pt x="6672" y="10629"/>
                  <a:pt x="6681" y="10730"/>
                  <a:pt x="6697" y="10790"/>
                </a:cubicBezTo>
                <a:cubicBezTo>
                  <a:pt x="6721" y="10838"/>
                  <a:pt x="6729" y="10852"/>
                  <a:pt x="6722" y="10889"/>
                </a:cubicBezTo>
              </a:path>
              <a:path w="2829" h="1687">
                <a:moveTo>
                  <a:pt x="6672" y="10592"/>
                </a:moveTo>
                <a:cubicBezTo>
                  <a:pt x="6660" y="10534"/>
                  <a:pt x="6627" y="10432"/>
                  <a:pt x="6648" y="10368"/>
                </a:cubicBezTo>
                <a:cubicBezTo>
                  <a:pt x="6664" y="10320"/>
                  <a:pt x="6712" y="10249"/>
                  <a:pt x="6772" y="10269"/>
                </a:cubicBezTo>
                <a:cubicBezTo>
                  <a:pt x="6835" y="10290"/>
                  <a:pt x="6821" y="10396"/>
                  <a:pt x="6821" y="10443"/>
                </a:cubicBezTo>
                <a:cubicBezTo>
                  <a:pt x="6821" y="10491"/>
                  <a:pt x="6826" y="10543"/>
                  <a:pt x="6772" y="10567"/>
                </a:cubicBezTo>
                <a:cubicBezTo>
                  <a:pt x="6747" y="10567"/>
                  <a:pt x="6739" y="10567"/>
                  <a:pt x="6722" y="10567"/>
                </a:cubicBezTo>
              </a:path>
              <a:path w="2829" h="1687">
                <a:moveTo>
                  <a:pt x="6945" y="10145"/>
                </a:moveTo>
                <a:cubicBezTo>
                  <a:pt x="7008" y="10166"/>
                  <a:pt x="6932" y="10217"/>
                  <a:pt x="6921" y="10269"/>
                </a:cubicBezTo>
                <a:cubicBezTo>
                  <a:pt x="6906" y="10340"/>
                  <a:pt x="6876" y="10442"/>
                  <a:pt x="6896" y="10517"/>
                </a:cubicBezTo>
                <a:cubicBezTo>
                  <a:pt x="6915" y="10590"/>
                  <a:pt x="6951" y="10658"/>
                  <a:pt x="7020" y="10666"/>
                </a:cubicBezTo>
                <a:cubicBezTo>
                  <a:pt x="7069" y="10666"/>
                  <a:pt x="7086" y="10666"/>
                  <a:pt x="7119" y="10666"/>
                </a:cubicBezTo>
              </a:path>
              <a:path w="2829" h="1687">
                <a:moveTo>
                  <a:pt x="7243" y="10468"/>
                </a:moveTo>
                <a:cubicBezTo>
                  <a:pt x="7152" y="10385"/>
                  <a:pt x="7141" y="10372"/>
                  <a:pt x="7020" y="10418"/>
                </a:cubicBezTo>
                <a:cubicBezTo>
                  <a:pt x="6956" y="10450"/>
                  <a:pt x="6925" y="10462"/>
                  <a:pt x="6871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16720" y="2963880"/>
            <a:ext cx="812520" cy="63360"/>
          </a:xfrm>
          <a:custGeom>
            <a:avLst/>
            <a:gdLst/>
            <a:ahLst/>
            <a:rect l="l" t="t" r="r" b="b"/>
            <a:pathLst>
              <a:path w="2258" h="175">
                <a:moveTo>
                  <a:pt x="15602" y="8359"/>
                </a:moveTo>
                <a:cubicBezTo>
                  <a:pt x="15630" y="8359"/>
                  <a:pt x="15641" y="8357"/>
                  <a:pt x="15652" y="8334"/>
                </a:cubicBezTo>
              </a:path>
              <a:path w="2258" h="175">
                <a:moveTo>
                  <a:pt x="15751" y="8285"/>
                </a:moveTo>
                <a:cubicBezTo>
                  <a:pt x="15786" y="8250"/>
                  <a:pt x="15814" y="8283"/>
                  <a:pt x="15850" y="8310"/>
                </a:cubicBezTo>
              </a:path>
              <a:path w="2258" h="175">
                <a:moveTo>
                  <a:pt x="15949" y="8260"/>
                </a:moveTo>
                <a:cubicBezTo>
                  <a:pt x="15974" y="8260"/>
                  <a:pt x="15999" y="8260"/>
                  <a:pt x="16024" y="8260"/>
                </a:cubicBezTo>
              </a:path>
              <a:path w="2258" h="175">
                <a:moveTo>
                  <a:pt x="16173" y="8260"/>
                </a:moveTo>
                <a:cubicBezTo>
                  <a:pt x="16197" y="8260"/>
                  <a:pt x="16206" y="8260"/>
                  <a:pt x="16222" y="8260"/>
                </a:cubicBezTo>
              </a:path>
              <a:path w="2258" h="175">
                <a:moveTo>
                  <a:pt x="16297" y="8235"/>
                </a:moveTo>
                <a:cubicBezTo>
                  <a:pt x="16336" y="8235"/>
                  <a:pt x="16309" y="8248"/>
                  <a:pt x="16346" y="8260"/>
                </a:cubicBezTo>
              </a:path>
              <a:path w="2258" h="175">
                <a:moveTo>
                  <a:pt x="16446" y="8260"/>
                </a:moveTo>
                <a:cubicBezTo>
                  <a:pt x="16475" y="8268"/>
                  <a:pt x="16491" y="8278"/>
                  <a:pt x="16520" y="8285"/>
                </a:cubicBezTo>
              </a:path>
              <a:path w="2258" h="175">
                <a:moveTo>
                  <a:pt x="16669" y="8310"/>
                </a:moveTo>
                <a:cubicBezTo>
                  <a:pt x="16691" y="8332"/>
                  <a:pt x="16696" y="8340"/>
                  <a:pt x="16718" y="8334"/>
                </a:cubicBezTo>
              </a:path>
              <a:path w="2258" h="175">
                <a:moveTo>
                  <a:pt x="16892" y="8334"/>
                </a:moveTo>
                <a:cubicBezTo>
                  <a:pt x="16925" y="8334"/>
                  <a:pt x="16958" y="8334"/>
                  <a:pt x="16991" y="8334"/>
                </a:cubicBezTo>
              </a:path>
              <a:path w="2258" h="175">
                <a:moveTo>
                  <a:pt x="17140" y="8384"/>
                </a:moveTo>
                <a:cubicBezTo>
                  <a:pt x="17179" y="8384"/>
                  <a:pt x="17159" y="8409"/>
                  <a:pt x="17214" y="8409"/>
                </a:cubicBezTo>
              </a:path>
              <a:path w="2258" h="175">
                <a:moveTo>
                  <a:pt x="17388" y="8384"/>
                </a:moveTo>
                <a:cubicBezTo>
                  <a:pt x="17440" y="8391"/>
                  <a:pt x="17460" y="8409"/>
                  <a:pt x="17512" y="8409"/>
                </a:cubicBezTo>
              </a:path>
              <a:path w="2258" h="175">
                <a:moveTo>
                  <a:pt x="17711" y="8384"/>
                </a:moveTo>
                <a:cubicBezTo>
                  <a:pt x="17750" y="8394"/>
                  <a:pt x="17765" y="8409"/>
                  <a:pt x="17810" y="8409"/>
                </a:cubicBezTo>
                <a:cubicBezTo>
                  <a:pt x="17835" y="8409"/>
                  <a:pt x="17843" y="8409"/>
                  <a:pt x="17859" y="84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29240" y="2446200"/>
            <a:ext cx="384480" cy="563760"/>
          </a:xfrm>
          <a:custGeom>
            <a:avLst/>
            <a:gdLst/>
            <a:ahLst/>
            <a:rect l="l" t="t" r="r" b="b"/>
            <a:pathLst>
              <a:path w="1068" h="1564">
                <a:moveTo>
                  <a:pt x="17983" y="8359"/>
                </a:moveTo>
                <a:cubicBezTo>
                  <a:pt x="17983" y="8334"/>
                  <a:pt x="17983" y="8326"/>
                  <a:pt x="17983" y="8310"/>
                </a:cubicBezTo>
              </a:path>
              <a:path w="1068" h="1564">
                <a:moveTo>
                  <a:pt x="17959" y="8186"/>
                </a:moveTo>
                <a:cubicBezTo>
                  <a:pt x="17959" y="8161"/>
                  <a:pt x="17959" y="8153"/>
                  <a:pt x="17959" y="8136"/>
                </a:cubicBezTo>
              </a:path>
              <a:path w="1068" h="1564">
                <a:moveTo>
                  <a:pt x="17934" y="7987"/>
                </a:moveTo>
                <a:cubicBezTo>
                  <a:pt x="17934" y="7962"/>
                  <a:pt x="17934" y="7954"/>
                  <a:pt x="17934" y="7938"/>
                </a:cubicBezTo>
              </a:path>
              <a:path w="1068" h="1564">
                <a:moveTo>
                  <a:pt x="17909" y="7714"/>
                </a:moveTo>
                <a:cubicBezTo>
                  <a:pt x="17909" y="7689"/>
                  <a:pt x="17909" y="7665"/>
                  <a:pt x="17909" y="7640"/>
                </a:cubicBezTo>
              </a:path>
              <a:path w="1068" h="1564">
                <a:moveTo>
                  <a:pt x="17909" y="7565"/>
                </a:moveTo>
                <a:cubicBezTo>
                  <a:pt x="17909" y="7532"/>
                  <a:pt x="17909" y="7499"/>
                  <a:pt x="17909" y="7466"/>
                </a:cubicBezTo>
              </a:path>
              <a:path w="1068" h="1564">
                <a:moveTo>
                  <a:pt x="17909" y="7317"/>
                </a:moveTo>
                <a:cubicBezTo>
                  <a:pt x="17909" y="7309"/>
                  <a:pt x="17909" y="7301"/>
                  <a:pt x="17909" y="7293"/>
                </a:cubicBezTo>
              </a:path>
              <a:path w="1068" h="1564">
                <a:moveTo>
                  <a:pt x="17884" y="7144"/>
                </a:moveTo>
                <a:cubicBezTo>
                  <a:pt x="17846" y="7067"/>
                  <a:pt x="17884" y="7118"/>
                  <a:pt x="17884" y="7045"/>
                </a:cubicBezTo>
              </a:path>
              <a:path w="1068" h="1564">
                <a:moveTo>
                  <a:pt x="17884" y="6871"/>
                </a:moveTo>
                <a:cubicBezTo>
                  <a:pt x="17884" y="6817"/>
                  <a:pt x="17896" y="6834"/>
                  <a:pt x="17909" y="6796"/>
                </a:cubicBezTo>
              </a:path>
              <a:path w="1068" h="1564">
                <a:moveTo>
                  <a:pt x="18380" y="6995"/>
                </a:moveTo>
                <a:cubicBezTo>
                  <a:pt x="18352" y="6986"/>
                  <a:pt x="18332" y="6944"/>
                  <a:pt x="18380" y="6921"/>
                </a:cubicBezTo>
                <a:cubicBezTo>
                  <a:pt x="18414" y="6904"/>
                  <a:pt x="18422" y="6865"/>
                  <a:pt x="18479" y="6846"/>
                </a:cubicBezTo>
                <a:cubicBezTo>
                  <a:pt x="18512" y="6835"/>
                  <a:pt x="18564" y="6800"/>
                  <a:pt x="18604" y="6821"/>
                </a:cubicBezTo>
                <a:cubicBezTo>
                  <a:pt x="18629" y="6834"/>
                  <a:pt x="18660" y="6948"/>
                  <a:pt x="18653" y="6970"/>
                </a:cubicBezTo>
                <a:cubicBezTo>
                  <a:pt x="18642" y="7002"/>
                  <a:pt x="18599" y="7069"/>
                  <a:pt x="18579" y="7094"/>
                </a:cubicBezTo>
                <a:cubicBezTo>
                  <a:pt x="18533" y="7151"/>
                  <a:pt x="18563" y="7163"/>
                  <a:pt x="18628" y="7169"/>
                </a:cubicBezTo>
                <a:cubicBezTo>
                  <a:pt x="18726" y="7177"/>
                  <a:pt x="18828" y="7169"/>
                  <a:pt x="18926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29240" y="2152800"/>
            <a:ext cx="1800" cy="204480"/>
          </a:xfrm>
          <a:custGeom>
            <a:avLst/>
            <a:gdLst/>
            <a:ahLst/>
            <a:rect l="l" t="t" r="r" b="b"/>
            <a:pathLst>
              <a:path w="1" h="571">
                <a:moveTo>
                  <a:pt x="17859" y="6548"/>
                </a:moveTo>
                <a:cubicBezTo>
                  <a:pt x="17859" y="6507"/>
                  <a:pt x="17859" y="6499"/>
                  <a:pt x="17859" y="6474"/>
                </a:cubicBezTo>
              </a:path>
              <a:path w="1" h="571">
                <a:moveTo>
                  <a:pt x="17859" y="6400"/>
                </a:moveTo>
                <a:cubicBezTo>
                  <a:pt x="17859" y="6375"/>
                  <a:pt x="17859" y="6350"/>
                  <a:pt x="17859" y="6325"/>
                </a:cubicBezTo>
              </a:path>
              <a:path w="1" h="571">
                <a:moveTo>
                  <a:pt x="17859" y="6102"/>
                </a:moveTo>
                <a:cubicBezTo>
                  <a:pt x="17859" y="6061"/>
                  <a:pt x="17859" y="6019"/>
                  <a:pt x="17859" y="5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9200" y="3062160"/>
            <a:ext cx="125640" cy="162000"/>
          </a:xfrm>
          <a:custGeom>
            <a:avLst/>
            <a:gdLst/>
            <a:ahLst/>
            <a:rect l="l" t="t" r="r" b="b"/>
            <a:pathLst>
              <a:path w="349" h="447">
                <a:moveTo>
                  <a:pt x="16470" y="8607"/>
                </a:moveTo>
                <a:cubicBezTo>
                  <a:pt x="16470" y="8547"/>
                  <a:pt x="16480" y="8560"/>
                  <a:pt x="16520" y="8533"/>
                </a:cubicBezTo>
                <a:cubicBezTo>
                  <a:pt x="16570" y="8500"/>
                  <a:pt x="16619" y="8493"/>
                  <a:pt x="16669" y="8533"/>
                </a:cubicBezTo>
                <a:cubicBezTo>
                  <a:pt x="16717" y="8572"/>
                  <a:pt x="16734" y="8647"/>
                  <a:pt x="16718" y="8706"/>
                </a:cubicBezTo>
                <a:cubicBezTo>
                  <a:pt x="16702" y="8765"/>
                  <a:pt x="16659" y="8836"/>
                  <a:pt x="16619" y="8880"/>
                </a:cubicBezTo>
                <a:cubicBezTo>
                  <a:pt x="16592" y="8910"/>
                  <a:pt x="16579" y="8917"/>
                  <a:pt x="16570" y="8954"/>
                </a:cubicBezTo>
                <a:cubicBezTo>
                  <a:pt x="16617" y="8954"/>
                  <a:pt x="16649" y="8933"/>
                  <a:pt x="16694" y="8930"/>
                </a:cubicBezTo>
                <a:cubicBezTo>
                  <a:pt x="16735" y="8927"/>
                  <a:pt x="16777" y="8930"/>
                  <a:pt x="16818" y="8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80160" y="2678040"/>
            <a:ext cx="857160" cy="314280"/>
          </a:xfrm>
          <a:custGeom>
            <a:avLst/>
            <a:gdLst/>
            <a:ahLst/>
            <a:rect l="l" t="t" r="r" b="b"/>
            <a:pathLst>
              <a:path w="2382" h="870">
                <a:moveTo>
                  <a:pt x="18554" y="7863"/>
                </a:moveTo>
                <a:cubicBezTo>
                  <a:pt x="18554" y="7796"/>
                  <a:pt x="18554" y="7902"/>
                  <a:pt x="18554" y="7913"/>
                </a:cubicBezTo>
                <a:cubicBezTo>
                  <a:pt x="18554" y="7963"/>
                  <a:pt x="18554" y="8012"/>
                  <a:pt x="18554" y="8062"/>
                </a:cubicBezTo>
                <a:cubicBezTo>
                  <a:pt x="18554" y="8004"/>
                  <a:pt x="18561" y="7941"/>
                  <a:pt x="18579" y="7888"/>
                </a:cubicBezTo>
                <a:cubicBezTo>
                  <a:pt x="18601" y="7844"/>
                  <a:pt x="18604" y="7833"/>
                  <a:pt x="18628" y="7813"/>
                </a:cubicBezTo>
                <a:cubicBezTo>
                  <a:pt x="18684" y="7841"/>
                  <a:pt x="18678" y="7874"/>
                  <a:pt x="18678" y="7938"/>
                </a:cubicBezTo>
                <a:cubicBezTo>
                  <a:pt x="18678" y="7946"/>
                  <a:pt x="18678" y="7954"/>
                  <a:pt x="18678" y="7962"/>
                </a:cubicBezTo>
                <a:cubicBezTo>
                  <a:pt x="18714" y="7950"/>
                  <a:pt x="18712" y="7927"/>
                  <a:pt x="18728" y="7888"/>
                </a:cubicBezTo>
                <a:cubicBezTo>
                  <a:pt x="18747" y="7841"/>
                  <a:pt x="18767" y="7823"/>
                  <a:pt x="18802" y="7789"/>
                </a:cubicBezTo>
                <a:cubicBezTo>
                  <a:pt x="18867" y="7821"/>
                  <a:pt x="18854" y="7873"/>
                  <a:pt x="18876" y="7938"/>
                </a:cubicBezTo>
                <a:cubicBezTo>
                  <a:pt x="18893" y="7989"/>
                  <a:pt x="18901" y="7988"/>
                  <a:pt x="18901" y="8037"/>
                </a:cubicBezTo>
              </a:path>
              <a:path w="2382" h="870">
                <a:moveTo>
                  <a:pt x="19273" y="7764"/>
                </a:moveTo>
                <a:cubicBezTo>
                  <a:pt x="19273" y="7772"/>
                  <a:pt x="19273" y="7781"/>
                  <a:pt x="19273" y="7789"/>
                </a:cubicBezTo>
                <a:cubicBezTo>
                  <a:pt x="19240" y="7789"/>
                  <a:pt x="19207" y="7789"/>
                  <a:pt x="19174" y="7789"/>
                </a:cubicBezTo>
              </a:path>
              <a:path w="2382" h="870">
                <a:moveTo>
                  <a:pt x="19273" y="7888"/>
                </a:moveTo>
                <a:cubicBezTo>
                  <a:pt x="19281" y="7888"/>
                  <a:pt x="19290" y="7888"/>
                  <a:pt x="19298" y="7888"/>
                </a:cubicBezTo>
                <a:cubicBezTo>
                  <a:pt x="19285" y="7928"/>
                  <a:pt x="19250" y="7913"/>
                  <a:pt x="19199" y="7913"/>
                </a:cubicBezTo>
                <a:cubicBezTo>
                  <a:pt x="19191" y="7913"/>
                  <a:pt x="19182" y="7913"/>
                  <a:pt x="19174" y="7913"/>
                </a:cubicBezTo>
              </a:path>
              <a:path w="2382" h="870">
                <a:moveTo>
                  <a:pt x="19695" y="7541"/>
                </a:moveTo>
                <a:cubicBezTo>
                  <a:pt x="19670" y="7541"/>
                  <a:pt x="19662" y="7541"/>
                  <a:pt x="19670" y="7516"/>
                </a:cubicBezTo>
                <a:cubicBezTo>
                  <a:pt x="19688" y="7480"/>
                  <a:pt x="19744" y="7450"/>
                  <a:pt x="19794" y="7441"/>
                </a:cubicBezTo>
                <a:cubicBezTo>
                  <a:pt x="19850" y="7431"/>
                  <a:pt x="19911" y="7428"/>
                  <a:pt x="19918" y="7491"/>
                </a:cubicBezTo>
                <a:cubicBezTo>
                  <a:pt x="19925" y="7554"/>
                  <a:pt x="19911" y="7572"/>
                  <a:pt x="19869" y="7615"/>
                </a:cubicBezTo>
                <a:cubicBezTo>
                  <a:pt x="19831" y="7653"/>
                  <a:pt x="19819" y="7661"/>
                  <a:pt x="19819" y="7714"/>
                </a:cubicBezTo>
                <a:cubicBezTo>
                  <a:pt x="19871" y="7714"/>
                  <a:pt x="19901" y="7702"/>
                  <a:pt x="19943" y="7689"/>
                </a:cubicBezTo>
                <a:cubicBezTo>
                  <a:pt x="19968" y="7689"/>
                  <a:pt x="19976" y="7689"/>
                  <a:pt x="19993" y="7689"/>
                </a:cubicBezTo>
              </a:path>
              <a:path w="2382" h="870">
                <a:moveTo>
                  <a:pt x="20067" y="7863"/>
                </a:moveTo>
                <a:cubicBezTo>
                  <a:pt x="20015" y="7902"/>
                  <a:pt x="20005" y="7870"/>
                  <a:pt x="19943" y="7888"/>
                </a:cubicBezTo>
                <a:cubicBezTo>
                  <a:pt x="19858" y="7913"/>
                  <a:pt x="19788" y="7913"/>
                  <a:pt x="19695" y="7913"/>
                </a:cubicBezTo>
                <a:cubicBezTo>
                  <a:pt x="19641" y="7913"/>
                  <a:pt x="19561" y="7933"/>
                  <a:pt x="19546" y="7888"/>
                </a:cubicBezTo>
              </a:path>
              <a:path w="2382" h="870">
                <a:moveTo>
                  <a:pt x="19596" y="8086"/>
                </a:moveTo>
                <a:cubicBezTo>
                  <a:pt x="19588" y="8094"/>
                  <a:pt x="19579" y="8103"/>
                  <a:pt x="19571" y="8111"/>
                </a:cubicBezTo>
                <a:cubicBezTo>
                  <a:pt x="19624" y="8111"/>
                  <a:pt x="19644" y="8095"/>
                  <a:pt x="19695" y="8086"/>
                </a:cubicBezTo>
                <a:cubicBezTo>
                  <a:pt x="19732" y="8080"/>
                  <a:pt x="19848" y="8068"/>
                  <a:pt x="19869" y="8111"/>
                </a:cubicBezTo>
                <a:cubicBezTo>
                  <a:pt x="19890" y="8154"/>
                  <a:pt x="19844" y="8185"/>
                  <a:pt x="19819" y="8210"/>
                </a:cubicBezTo>
                <a:cubicBezTo>
                  <a:pt x="19786" y="8243"/>
                  <a:pt x="19794" y="8266"/>
                  <a:pt x="19794" y="8310"/>
                </a:cubicBezTo>
                <a:cubicBezTo>
                  <a:pt x="19850" y="8310"/>
                  <a:pt x="19873" y="8272"/>
                  <a:pt x="19918" y="8260"/>
                </a:cubicBezTo>
                <a:cubicBezTo>
                  <a:pt x="19954" y="8250"/>
                  <a:pt x="20009" y="8239"/>
                  <a:pt x="20042" y="8235"/>
                </a:cubicBezTo>
                <a:cubicBezTo>
                  <a:pt x="20050" y="8235"/>
                  <a:pt x="20059" y="8235"/>
                  <a:pt x="20067" y="8235"/>
                </a:cubicBezTo>
              </a:path>
              <a:path w="2382" h="870">
                <a:moveTo>
                  <a:pt x="20538" y="7813"/>
                </a:moveTo>
                <a:cubicBezTo>
                  <a:pt x="20546" y="7813"/>
                  <a:pt x="20555" y="7813"/>
                  <a:pt x="20563" y="7813"/>
                </a:cubicBezTo>
                <a:cubicBezTo>
                  <a:pt x="20512" y="7813"/>
                  <a:pt x="20505" y="7824"/>
                  <a:pt x="20464" y="7838"/>
                </a:cubicBezTo>
                <a:cubicBezTo>
                  <a:pt x="20438" y="7847"/>
                  <a:pt x="20393" y="7838"/>
                  <a:pt x="20365" y="7838"/>
                </a:cubicBezTo>
              </a:path>
              <a:path w="2382" h="870">
                <a:moveTo>
                  <a:pt x="20538" y="7962"/>
                </a:moveTo>
                <a:cubicBezTo>
                  <a:pt x="20546" y="7962"/>
                  <a:pt x="20555" y="7962"/>
                  <a:pt x="20563" y="7962"/>
                </a:cubicBezTo>
                <a:cubicBezTo>
                  <a:pt x="20550" y="8000"/>
                  <a:pt x="20534" y="7987"/>
                  <a:pt x="20489" y="7987"/>
                </a:cubicBezTo>
                <a:cubicBezTo>
                  <a:pt x="20449" y="7987"/>
                  <a:pt x="20434" y="7962"/>
                  <a:pt x="20389" y="7962"/>
                </a:cubicBezTo>
              </a:path>
              <a:path w="2382" h="870">
                <a:moveTo>
                  <a:pt x="20935" y="7739"/>
                </a:moveTo>
                <a:cubicBezTo>
                  <a:pt x="20935" y="7731"/>
                  <a:pt x="20935" y="7722"/>
                  <a:pt x="20935" y="7714"/>
                </a:cubicBezTo>
                <a:cubicBezTo>
                  <a:pt x="20935" y="7795"/>
                  <a:pt x="20924" y="7870"/>
                  <a:pt x="20910" y="7938"/>
                </a:cubicBezTo>
                <a:cubicBezTo>
                  <a:pt x="20904" y="7966"/>
                  <a:pt x="20910" y="8007"/>
                  <a:pt x="20910" y="8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97800" y="3106800"/>
            <a:ext cx="517320" cy="162000"/>
          </a:xfrm>
          <a:custGeom>
            <a:avLst/>
            <a:gdLst/>
            <a:ahLst/>
            <a:rect l="l" t="t" r="r" b="b"/>
            <a:pathLst>
              <a:path w="1439" h="448">
                <a:moveTo>
                  <a:pt x="18802" y="8806"/>
                </a:moveTo>
                <a:cubicBezTo>
                  <a:pt x="18802" y="8781"/>
                  <a:pt x="18802" y="8773"/>
                  <a:pt x="18802" y="8756"/>
                </a:cubicBezTo>
                <a:cubicBezTo>
                  <a:pt x="18750" y="8756"/>
                  <a:pt x="18749" y="8770"/>
                  <a:pt x="18728" y="8781"/>
                </a:cubicBezTo>
                <a:cubicBezTo>
                  <a:pt x="18682" y="8804"/>
                  <a:pt x="18679" y="8816"/>
                  <a:pt x="18653" y="8855"/>
                </a:cubicBezTo>
                <a:cubicBezTo>
                  <a:pt x="18631" y="8887"/>
                  <a:pt x="18608" y="8914"/>
                  <a:pt x="18604" y="8954"/>
                </a:cubicBezTo>
                <a:cubicBezTo>
                  <a:pt x="18599" y="8997"/>
                  <a:pt x="18641" y="9019"/>
                  <a:pt x="18653" y="9054"/>
                </a:cubicBezTo>
                <a:cubicBezTo>
                  <a:pt x="18666" y="9092"/>
                  <a:pt x="18683" y="9079"/>
                  <a:pt x="18728" y="9079"/>
                </a:cubicBezTo>
                <a:cubicBezTo>
                  <a:pt x="18764" y="9079"/>
                  <a:pt x="18786" y="9060"/>
                  <a:pt x="18827" y="9054"/>
                </a:cubicBezTo>
              </a:path>
              <a:path w="1439" h="448">
                <a:moveTo>
                  <a:pt x="19323" y="8830"/>
                </a:moveTo>
                <a:cubicBezTo>
                  <a:pt x="19323" y="8822"/>
                  <a:pt x="19323" y="8814"/>
                  <a:pt x="19323" y="8806"/>
                </a:cubicBezTo>
                <a:cubicBezTo>
                  <a:pt x="19273" y="8806"/>
                  <a:pt x="19224" y="8806"/>
                  <a:pt x="19174" y="8806"/>
                </a:cubicBezTo>
                <a:cubicBezTo>
                  <a:pt x="19174" y="8781"/>
                  <a:pt x="19174" y="8773"/>
                  <a:pt x="19149" y="8781"/>
                </a:cubicBezTo>
              </a:path>
              <a:path w="1439" h="448">
                <a:moveTo>
                  <a:pt x="19348" y="8930"/>
                </a:moveTo>
                <a:cubicBezTo>
                  <a:pt x="19300" y="8930"/>
                  <a:pt x="19237" y="8914"/>
                  <a:pt x="19224" y="8954"/>
                </a:cubicBezTo>
              </a:path>
              <a:path w="1439" h="448">
                <a:moveTo>
                  <a:pt x="19695" y="8706"/>
                </a:moveTo>
                <a:cubicBezTo>
                  <a:pt x="19718" y="8699"/>
                  <a:pt x="19742" y="8697"/>
                  <a:pt x="19769" y="8682"/>
                </a:cubicBezTo>
                <a:cubicBezTo>
                  <a:pt x="19805" y="8662"/>
                  <a:pt x="19827" y="8637"/>
                  <a:pt x="19869" y="8632"/>
                </a:cubicBezTo>
                <a:cubicBezTo>
                  <a:pt x="19930" y="8625"/>
                  <a:pt x="19966" y="8643"/>
                  <a:pt x="19993" y="8657"/>
                </a:cubicBezTo>
                <a:cubicBezTo>
                  <a:pt x="20013" y="8667"/>
                  <a:pt x="20031" y="8698"/>
                  <a:pt x="20042" y="8731"/>
                </a:cubicBezTo>
                <a:cubicBezTo>
                  <a:pt x="20056" y="8774"/>
                  <a:pt x="20055" y="8935"/>
                  <a:pt x="20017" y="8954"/>
                </a:cubicBezTo>
                <a:cubicBezTo>
                  <a:pt x="19993" y="8966"/>
                  <a:pt x="19983" y="8996"/>
                  <a:pt x="19968" y="9004"/>
                </a:cubicBezTo>
                <a:cubicBezTo>
                  <a:pt x="19925" y="9026"/>
                  <a:pt x="19804" y="9003"/>
                  <a:pt x="19769" y="8979"/>
                </a:cubicBezTo>
                <a:cubicBezTo>
                  <a:pt x="19734" y="8955"/>
                  <a:pt x="19700" y="8951"/>
                  <a:pt x="19695" y="8905"/>
                </a:cubicBezTo>
                <a:cubicBezTo>
                  <a:pt x="19690" y="8857"/>
                  <a:pt x="19689" y="8816"/>
                  <a:pt x="19720" y="8781"/>
                </a:cubicBezTo>
                <a:cubicBezTo>
                  <a:pt x="19728" y="8773"/>
                  <a:pt x="19737" y="8764"/>
                  <a:pt x="19745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18240" y="2589120"/>
            <a:ext cx="1278000" cy="723960"/>
          </a:xfrm>
          <a:custGeom>
            <a:avLst/>
            <a:gdLst/>
            <a:ahLst/>
            <a:rect l="l" t="t" r="r" b="b"/>
            <a:pathLst>
              <a:path w="3548" h="2011">
                <a:moveTo>
                  <a:pt x="21134" y="7243"/>
                </a:moveTo>
                <a:cubicBezTo>
                  <a:pt x="21182" y="7249"/>
                  <a:pt x="21220" y="7242"/>
                  <a:pt x="21258" y="7268"/>
                </a:cubicBezTo>
                <a:cubicBezTo>
                  <a:pt x="21304" y="7300"/>
                  <a:pt x="21334" y="7351"/>
                  <a:pt x="21357" y="7392"/>
                </a:cubicBezTo>
                <a:cubicBezTo>
                  <a:pt x="21385" y="7441"/>
                  <a:pt x="21403" y="7487"/>
                  <a:pt x="21406" y="7541"/>
                </a:cubicBezTo>
                <a:cubicBezTo>
                  <a:pt x="21409" y="7598"/>
                  <a:pt x="21442" y="7628"/>
                  <a:pt x="21431" y="7689"/>
                </a:cubicBezTo>
                <a:cubicBezTo>
                  <a:pt x="21422" y="7738"/>
                  <a:pt x="21397" y="7817"/>
                  <a:pt x="21382" y="7863"/>
                </a:cubicBezTo>
                <a:cubicBezTo>
                  <a:pt x="21366" y="7910"/>
                  <a:pt x="21334" y="7999"/>
                  <a:pt x="21307" y="8037"/>
                </a:cubicBezTo>
                <a:cubicBezTo>
                  <a:pt x="21273" y="8084"/>
                  <a:pt x="21257" y="8111"/>
                  <a:pt x="21233" y="8161"/>
                </a:cubicBezTo>
                <a:cubicBezTo>
                  <a:pt x="21217" y="8195"/>
                  <a:pt x="21210" y="8219"/>
                  <a:pt x="21208" y="8260"/>
                </a:cubicBezTo>
                <a:cubicBezTo>
                  <a:pt x="21206" y="8303"/>
                  <a:pt x="21202" y="8328"/>
                  <a:pt x="21233" y="8359"/>
                </a:cubicBezTo>
                <a:cubicBezTo>
                  <a:pt x="21247" y="8373"/>
                  <a:pt x="21297" y="8400"/>
                  <a:pt x="21307" y="8409"/>
                </a:cubicBezTo>
                <a:cubicBezTo>
                  <a:pt x="21332" y="8409"/>
                  <a:pt x="21340" y="8409"/>
                  <a:pt x="21332" y="8434"/>
                </a:cubicBezTo>
                <a:cubicBezTo>
                  <a:pt x="21317" y="8440"/>
                  <a:pt x="21246" y="8450"/>
                  <a:pt x="21233" y="8458"/>
                </a:cubicBezTo>
                <a:cubicBezTo>
                  <a:pt x="21212" y="8471"/>
                  <a:pt x="21158" y="8537"/>
                  <a:pt x="21158" y="8558"/>
                </a:cubicBezTo>
                <a:cubicBezTo>
                  <a:pt x="21158" y="8593"/>
                  <a:pt x="21196" y="8670"/>
                  <a:pt x="21208" y="8706"/>
                </a:cubicBezTo>
                <a:cubicBezTo>
                  <a:pt x="21235" y="8785"/>
                  <a:pt x="21233" y="8844"/>
                  <a:pt x="21233" y="8930"/>
                </a:cubicBezTo>
                <a:cubicBezTo>
                  <a:pt x="21233" y="9013"/>
                  <a:pt x="21219" y="9034"/>
                  <a:pt x="21183" y="9103"/>
                </a:cubicBezTo>
                <a:cubicBezTo>
                  <a:pt x="21151" y="9163"/>
                  <a:pt x="21093" y="9192"/>
                  <a:pt x="21034" y="9203"/>
                </a:cubicBezTo>
                <a:cubicBezTo>
                  <a:pt x="20970" y="9215"/>
                  <a:pt x="20934" y="9196"/>
                  <a:pt x="20886" y="9178"/>
                </a:cubicBezTo>
              </a:path>
              <a:path w="3548" h="2011">
                <a:moveTo>
                  <a:pt x="21506" y="8310"/>
                </a:moveTo>
                <a:cubicBezTo>
                  <a:pt x="21506" y="8269"/>
                  <a:pt x="21495" y="8344"/>
                  <a:pt x="21506" y="8384"/>
                </a:cubicBezTo>
                <a:cubicBezTo>
                  <a:pt x="21530" y="8467"/>
                  <a:pt x="21569" y="8466"/>
                  <a:pt x="21630" y="8434"/>
                </a:cubicBezTo>
                <a:cubicBezTo>
                  <a:pt x="21686" y="8404"/>
                  <a:pt x="21722" y="8348"/>
                  <a:pt x="21779" y="8334"/>
                </a:cubicBezTo>
                <a:cubicBezTo>
                  <a:pt x="21855" y="8427"/>
                  <a:pt x="21878" y="8515"/>
                  <a:pt x="21903" y="8632"/>
                </a:cubicBezTo>
                <a:cubicBezTo>
                  <a:pt x="21924" y="8730"/>
                  <a:pt x="21973" y="8916"/>
                  <a:pt x="21853" y="8979"/>
                </a:cubicBezTo>
                <a:cubicBezTo>
                  <a:pt x="21784" y="9015"/>
                  <a:pt x="21675" y="9009"/>
                  <a:pt x="21605" y="8979"/>
                </a:cubicBezTo>
                <a:cubicBezTo>
                  <a:pt x="21559" y="8960"/>
                  <a:pt x="21539" y="8939"/>
                  <a:pt x="21506" y="8905"/>
                </a:cubicBezTo>
              </a:path>
              <a:path w="3548" h="2011">
                <a:moveTo>
                  <a:pt x="22151" y="8235"/>
                </a:moveTo>
                <a:cubicBezTo>
                  <a:pt x="22159" y="8235"/>
                  <a:pt x="22167" y="8235"/>
                  <a:pt x="22175" y="8235"/>
                </a:cubicBezTo>
                <a:cubicBezTo>
                  <a:pt x="22109" y="8235"/>
                  <a:pt x="22043" y="8235"/>
                  <a:pt x="21977" y="8235"/>
                </a:cubicBezTo>
              </a:path>
              <a:path w="3548" h="2011">
                <a:moveTo>
                  <a:pt x="22200" y="8384"/>
                </a:moveTo>
                <a:cubicBezTo>
                  <a:pt x="22161" y="8374"/>
                  <a:pt x="22146" y="8359"/>
                  <a:pt x="22101" y="8359"/>
                </a:cubicBezTo>
                <a:cubicBezTo>
                  <a:pt x="22076" y="8359"/>
                  <a:pt x="22068" y="8359"/>
                  <a:pt x="22051" y="8359"/>
                </a:cubicBezTo>
              </a:path>
              <a:path w="3548" h="2011">
                <a:moveTo>
                  <a:pt x="22572" y="8186"/>
                </a:moveTo>
                <a:cubicBezTo>
                  <a:pt x="22547" y="8186"/>
                  <a:pt x="22539" y="8186"/>
                  <a:pt x="22523" y="8186"/>
                </a:cubicBezTo>
                <a:cubicBezTo>
                  <a:pt x="22523" y="8156"/>
                  <a:pt x="22530" y="8119"/>
                  <a:pt x="22547" y="8111"/>
                </a:cubicBezTo>
                <a:cubicBezTo>
                  <a:pt x="22579" y="8095"/>
                  <a:pt x="22607" y="8086"/>
                  <a:pt x="22647" y="8086"/>
                </a:cubicBezTo>
                <a:cubicBezTo>
                  <a:pt x="22717" y="8086"/>
                  <a:pt x="22729" y="8120"/>
                  <a:pt x="22746" y="8186"/>
                </a:cubicBezTo>
                <a:cubicBezTo>
                  <a:pt x="22756" y="8226"/>
                  <a:pt x="22740" y="8281"/>
                  <a:pt x="22721" y="8310"/>
                </a:cubicBezTo>
                <a:cubicBezTo>
                  <a:pt x="22693" y="8351"/>
                  <a:pt x="22640" y="8334"/>
                  <a:pt x="22597" y="8334"/>
                </a:cubicBezTo>
                <a:cubicBezTo>
                  <a:pt x="22572" y="8334"/>
                  <a:pt x="22564" y="8334"/>
                  <a:pt x="22547" y="8334"/>
                </a:cubicBezTo>
              </a:path>
              <a:path w="3548" h="2011">
                <a:moveTo>
                  <a:pt x="22895" y="8111"/>
                </a:moveTo>
                <a:cubicBezTo>
                  <a:pt x="22903" y="8095"/>
                  <a:pt x="22912" y="8078"/>
                  <a:pt x="22920" y="8062"/>
                </a:cubicBezTo>
                <a:cubicBezTo>
                  <a:pt x="22868" y="8062"/>
                  <a:pt x="22857" y="8073"/>
                  <a:pt x="22820" y="8111"/>
                </a:cubicBezTo>
                <a:cubicBezTo>
                  <a:pt x="22772" y="8159"/>
                  <a:pt x="22795" y="8229"/>
                  <a:pt x="22820" y="8285"/>
                </a:cubicBezTo>
                <a:cubicBezTo>
                  <a:pt x="22846" y="8344"/>
                  <a:pt x="22924" y="8400"/>
                  <a:pt x="22994" y="8384"/>
                </a:cubicBezTo>
                <a:cubicBezTo>
                  <a:pt x="23044" y="8359"/>
                  <a:pt x="23060" y="8351"/>
                  <a:pt x="23093" y="8334"/>
                </a:cubicBezTo>
              </a:path>
              <a:path w="3548" h="2011">
                <a:moveTo>
                  <a:pt x="21679" y="7367"/>
                </a:moveTo>
                <a:cubicBezTo>
                  <a:pt x="21679" y="7405"/>
                  <a:pt x="21646" y="7437"/>
                  <a:pt x="21654" y="7466"/>
                </a:cubicBezTo>
                <a:cubicBezTo>
                  <a:pt x="21662" y="7483"/>
                  <a:pt x="21671" y="7499"/>
                  <a:pt x="21679" y="7516"/>
                </a:cubicBezTo>
                <a:cubicBezTo>
                  <a:pt x="21741" y="7501"/>
                  <a:pt x="21763" y="7465"/>
                  <a:pt x="21803" y="7417"/>
                </a:cubicBezTo>
                <a:cubicBezTo>
                  <a:pt x="21811" y="7409"/>
                  <a:pt x="21820" y="7400"/>
                  <a:pt x="21828" y="7392"/>
                </a:cubicBezTo>
                <a:cubicBezTo>
                  <a:pt x="21915" y="7416"/>
                  <a:pt x="21959" y="7487"/>
                  <a:pt x="21977" y="7590"/>
                </a:cubicBezTo>
                <a:cubicBezTo>
                  <a:pt x="21993" y="7684"/>
                  <a:pt x="21981" y="7783"/>
                  <a:pt x="21927" y="7863"/>
                </a:cubicBezTo>
                <a:cubicBezTo>
                  <a:pt x="21886" y="7923"/>
                  <a:pt x="21816" y="7935"/>
                  <a:pt x="21754" y="7938"/>
                </a:cubicBezTo>
                <a:cubicBezTo>
                  <a:pt x="21695" y="7941"/>
                  <a:pt x="21693" y="7927"/>
                  <a:pt x="21654" y="7888"/>
                </a:cubicBezTo>
              </a:path>
              <a:path w="3548" h="2011">
                <a:moveTo>
                  <a:pt x="22374" y="7541"/>
                </a:moveTo>
                <a:cubicBezTo>
                  <a:pt x="22382" y="7533"/>
                  <a:pt x="22391" y="7524"/>
                  <a:pt x="22399" y="7516"/>
                </a:cubicBezTo>
                <a:cubicBezTo>
                  <a:pt x="22360" y="7506"/>
                  <a:pt x="22344" y="7491"/>
                  <a:pt x="22299" y="7491"/>
                </a:cubicBezTo>
                <a:cubicBezTo>
                  <a:pt x="22241" y="7491"/>
                  <a:pt x="22184" y="7491"/>
                  <a:pt x="22126" y="7491"/>
                </a:cubicBezTo>
              </a:path>
              <a:path w="3548" h="2011">
                <a:moveTo>
                  <a:pt x="22299" y="7565"/>
                </a:moveTo>
                <a:cubicBezTo>
                  <a:pt x="22299" y="7590"/>
                  <a:pt x="22299" y="7598"/>
                  <a:pt x="22324" y="7590"/>
                </a:cubicBezTo>
                <a:cubicBezTo>
                  <a:pt x="22261" y="7590"/>
                  <a:pt x="22199" y="7578"/>
                  <a:pt x="22151" y="7615"/>
                </a:cubicBezTo>
              </a:path>
              <a:path w="3548" h="2011">
                <a:moveTo>
                  <a:pt x="22647" y="7218"/>
                </a:moveTo>
                <a:cubicBezTo>
                  <a:pt x="22647" y="7156"/>
                  <a:pt x="22623" y="7277"/>
                  <a:pt x="22622" y="7293"/>
                </a:cubicBezTo>
                <a:cubicBezTo>
                  <a:pt x="22617" y="7370"/>
                  <a:pt x="22597" y="7435"/>
                  <a:pt x="22597" y="7516"/>
                </a:cubicBezTo>
                <a:cubicBezTo>
                  <a:pt x="22597" y="7565"/>
                  <a:pt x="22597" y="7582"/>
                  <a:pt x="22597" y="7615"/>
                </a:cubicBezTo>
              </a:path>
              <a:path w="3548" h="2011">
                <a:moveTo>
                  <a:pt x="22796" y="7541"/>
                </a:moveTo>
                <a:cubicBezTo>
                  <a:pt x="22805" y="7512"/>
                  <a:pt x="22829" y="7496"/>
                  <a:pt x="22870" y="7491"/>
                </a:cubicBezTo>
                <a:cubicBezTo>
                  <a:pt x="22916" y="7486"/>
                  <a:pt x="22956" y="7552"/>
                  <a:pt x="22969" y="7590"/>
                </a:cubicBezTo>
                <a:cubicBezTo>
                  <a:pt x="22984" y="7634"/>
                  <a:pt x="22960" y="7661"/>
                  <a:pt x="22920" y="7665"/>
                </a:cubicBezTo>
                <a:cubicBezTo>
                  <a:pt x="22871" y="7671"/>
                  <a:pt x="22844" y="7647"/>
                  <a:pt x="22796" y="7640"/>
                </a:cubicBezTo>
              </a:path>
              <a:path w="3548" h="2011">
                <a:moveTo>
                  <a:pt x="23118" y="7516"/>
                </a:moveTo>
                <a:cubicBezTo>
                  <a:pt x="23135" y="7499"/>
                  <a:pt x="23151" y="7483"/>
                  <a:pt x="23168" y="7466"/>
                </a:cubicBezTo>
                <a:cubicBezTo>
                  <a:pt x="23135" y="7474"/>
                  <a:pt x="23101" y="7504"/>
                  <a:pt x="23093" y="7541"/>
                </a:cubicBezTo>
                <a:cubicBezTo>
                  <a:pt x="23083" y="7587"/>
                  <a:pt x="23089" y="7633"/>
                  <a:pt x="23118" y="7665"/>
                </a:cubicBezTo>
                <a:cubicBezTo>
                  <a:pt x="23163" y="7714"/>
                  <a:pt x="23195" y="7676"/>
                  <a:pt x="23242" y="7665"/>
                </a:cubicBezTo>
              </a:path>
              <a:path w="3548" h="2011">
                <a:moveTo>
                  <a:pt x="23812" y="7565"/>
                </a:moveTo>
                <a:cubicBezTo>
                  <a:pt x="23812" y="7557"/>
                  <a:pt x="23812" y="7549"/>
                  <a:pt x="23812" y="7541"/>
                </a:cubicBezTo>
                <a:cubicBezTo>
                  <a:pt x="23722" y="7541"/>
                  <a:pt x="23585" y="7569"/>
                  <a:pt x="23515" y="7516"/>
                </a:cubicBezTo>
              </a:path>
              <a:path w="3548" h="2011">
                <a:moveTo>
                  <a:pt x="23614" y="7441"/>
                </a:moveTo>
                <a:cubicBezTo>
                  <a:pt x="23662" y="7473"/>
                  <a:pt x="23618" y="7504"/>
                  <a:pt x="23614" y="7565"/>
                </a:cubicBezTo>
                <a:cubicBezTo>
                  <a:pt x="23611" y="7620"/>
                  <a:pt x="23589" y="7659"/>
                  <a:pt x="23589" y="7714"/>
                </a:cubicBezTo>
              </a:path>
              <a:path w="3548" h="2011">
                <a:moveTo>
                  <a:pt x="24085" y="7491"/>
                </a:moveTo>
                <a:cubicBezTo>
                  <a:pt x="24097" y="7456"/>
                  <a:pt x="24111" y="7459"/>
                  <a:pt x="24135" y="7417"/>
                </a:cubicBezTo>
                <a:cubicBezTo>
                  <a:pt x="24158" y="7377"/>
                  <a:pt x="24223" y="7285"/>
                  <a:pt x="24259" y="7268"/>
                </a:cubicBezTo>
                <a:cubicBezTo>
                  <a:pt x="24341" y="7230"/>
                  <a:pt x="24386" y="7300"/>
                  <a:pt x="24408" y="7367"/>
                </a:cubicBezTo>
                <a:cubicBezTo>
                  <a:pt x="24445" y="7481"/>
                  <a:pt x="24455" y="7575"/>
                  <a:pt x="24383" y="7665"/>
                </a:cubicBezTo>
                <a:cubicBezTo>
                  <a:pt x="24316" y="7749"/>
                  <a:pt x="24275" y="7705"/>
                  <a:pt x="24209" y="7665"/>
                </a:cubicBezTo>
                <a:cubicBezTo>
                  <a:pt x="24153" y="7631"/>
                  <a:pt x="24081" y="7627"/>
                  <a:pt x="24110" y="7541"/>
                </a:cubicBezTo>
                <a:cubicBezTo>
                  <a:pt x="24118" y="7524"/>
                  <a:pt x="24127" y="7508"/>
                  <a:pt x="24135" y="74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44840" y="2581200"/>
            <a:ext cx="196920" cy="446040"/>
          </a:xfrm>
          <a:custGeom>
            <a:avLst/>
            <a:gdLst/>
            <a:ahLst/>
            <a:rect l="l" t="t" r="r" b="b"/>
            <a:pathLst>
              <a:path w="547" h="1241">
                <a:moveTo>
                  <a:pt x="7069" y="7169"/>
                </a:moveTo>
                <a:cubicBezTo>
                  <a:pt x="7094" y="7169"/>
                  <a:pt x="7102" y="7169"/>
                  <a:pt x="7094" y="7193"/>
                </a:cubicBezTo>
              </a:path>
              <a:path w="547" h="1241">
                <a:moveTo>
                  <a:pt x="7069" y="7169"/>
                </a:moveTo>
                <a:cubicBezTo>
                  <a:pt x="7082" y="7212"/>
                  <a:pt x="7116" y="7277"/>
                  <a:pt x="7119" y="7317"/>
                </a:cubicBezTo>
                <a:cubicBezTo>
                  <a:pt x="7119" y="7359"/>
                  <a:pt x="7119" y="7367"/>
                  <a:pt x="7119" y="7392"/>
                </a:cubicBezTo>
              </a:path>
              <a:path w="547" h="1241">
                <a:moveTo>
                  <a:pt x="7119" y="7466"/>
                </a:moveTo>
                <a:cubicBezTo>
                  <a:pt x="7147" y="7504"/>
                  <a:pt x="7144" y="7517"/>
                  <a:pt x="7144" y="7565"/>
                </a:cubicBezTo>
                <a:cubicBezTo>
                  <a:pt x="7144" y="7573"/>
                  <a:pt x="7144" y="7582"/>
                  <a:pt x="7144" y="7590"/>
                </a:cubicBezTo>
              </a:path>
              <a:path w="547" h="1241">
                <a:moveTo>
                  <a:pt x="7144" y="7615"/>
                </a:moveTo>
                <a:cubicBezTo>
                  <a:pt x="7144" y="7648"/>
                  <a:pt x="7144" y="7681"/>
                  <a:pt x="7144" y="7714"/>
                </a:cubicBezTo>
              </a:path>
              <a:path w="547" h="1241">
                <a:moveTo>
                  <a:pt x="7144" y="7764"/>
                </a:moveTo>
                <a:cubicBezTo>
                  <a:pt x="7144" y="7805"/>
                  <a:pt x="7144" y="7847"/>
                  <a:pt x="7144" y="7888"/>
                </a:cubicBezTo>
              </a:path>
              <a:path w="547" h="1241">
                <a:moveTo>
                  <a:pt x="7119" y="7938"/>
                </a:moveTo>
                <a:cubicBezTo>
                  <a:pt x="7119" y="7979"/>
                  <a:pt x="7119" y="8021"/>
                  <a:pt x="7119" y="8062"/>
                </a:cubicBezTo>
              </a:path>
              <a:path w="547" h="1241">
                <a:moveTo>
                  <a:pt x="7094" y="8111"/>
                </a:moveTo>
                <a:cubicBezTo>
                  <a:pt x="7094" y="8152"/>
                  <a:pt x="7094" y="8194"/>
                  <a:pt x="7094" y="8235"/>
                </a:cubicBezTo>
              </a:path>
              <a:path w="547" h="1241">
                <a:moveTo>
                  <a:pt x="7094" y="8334"/>
                </a:moveTo>
                <a:cubicBezTo>
                  <a:pt x="7101" y="8364"/>
                  <a:pt x="7112" y="8379"/>
                  <a:pt x="7119" y="8409"/>
                </a:cubicBezTo>
              </a:path>
              <a:path w="547" h="1241">
                <a:moveTo>
                  <a:pt x="7094" y="8334"/>
                </a:moveTo>
                <a:cubicBezTo>
                  <a:pt x="7187" y="8377"/>
                  <a:pt x="7186" y="8384"/>
                  <a:pt x="7268" y="8384"/>
                </a:cubicBezTo>
                <a:cubicBezTo>
                  <a:pt x="7318" y="8384"/>
                  <a:pt x="7326" y="8373"/>
                  <a:pt x="7367" y="8359"/>
                </a:cubicBezTo>
                <a:cubicBezTo>
                  <a:pt x="7406" y="8346"/>
                  <a:pt x="7474" y="8359"/>
                  <a:pt x="7516" y="8359"/>
                </a:cubicBezTo>
                <a:cubicBezTo>
                  <a:pt x="7529" y="8397"/>
                  <a:pt x="7545" y="8384"/>
                  <a:pt x="7590" y="8384"/>
                </a:cubicBezTo>
                <a:cubicBezTo>
                  <a:pt x="7598" y="8384"/>
                  <a:pt x="7607" y="8384"/>
                  <a:pt x="7615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20920" y="2732040"/>
            <a:ext cx="19080" cy="152280"/>
          </a:xfrm>
          <a:custGeom>
            <a:avLst/>
            <a:gdLst/>
            <a:ahLst/>
            <a:rect l="l" t="t" r="r" b="b"/>
            <a:pathLst>
              <a:path w="51" h="423">
                <a:moveTo>
                  <a:pt x="6449" y="7615"/>
                </a:moveTo>
                <a:cubicBezTo>
                  <a:pt x="6449" y="7607"/>
                  <a:pt x="6449" y="7598"/>
                  <a:pt x="6449" y="7590"/>
                </a:cubicBezTo>
                <a:cubicBezTo>
                  <a:pt x="6449" y="7650"/>
                  <a:pt x="6464" y="7683"/>
                  <a:pt x="6474" y="7739"/>
                </a:cubicBezTo>
                <a:cubicBezTo>
                  <a:pt x="6489" y="7826"/>
                  <a:pt x="6475" y="7908"/>
                  <a:pt x="6499" y="7987"/>
                </a:cubicBezTo>
                <a:cubicBezTo>
                  <a:pt x="6499" y="7995"/>
                  <a:pt x="6499" y="8004"/>
                  <a:pt x="6499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13040" y="2963880"/>
            <a:ext cx="1509840" cy="376200"/>
          </a:xfrm>
          <a:custGeom>
            <a:avLst/>
            <a:gdLst/>
            <a:ahLst/>
            <a:rect l="l" t="t" r="r" b="b"/>
            <a:pathLst>
              <a:path w="4193" h="1043">
                <a:moveTo>
                  <a:pt x="7813" y="8409"/>
                </a:moveTo>
                <a:cubicBezTo>
                  <a:pt x="7838" y="8409"/>
                  <a:pt x="7863" y="8409"/>
                  <a:pt x="7888" y="8409"/>
                </a:cubicBezTo>
                <a:cubicBezTo>
                  <a:pt x="7906" y="8398"/>
                  <a:pt x="7912" y="8372"/>
                  <a:pt x="7962" y="8384"/>
                </a:cubicBezTo>
                <a:cubicBezTo>
                  <a:pt x="8001" y="8393"/>
                  <a:pt x="8019" y="8404"/>
                  <a:pt x="8062" y="8409"/>
                </a:cubicBezTo>
                <a:cubicBezTo>
                  <a:pt x="8087" y="8424"/>
                  <a:pt x="8083" y="8431"/>
                  <a:pt x="8136" y="8434"/>
                </a:cubicBezTo>
                <a:cubicBezTo>
                  <a:pt x="8226" y="8439"/>
                  <a:pt x="8308" y="8422"/>
                  <a:pt x="8384" y="8409"/>
                </a:cubicBezTo>
                <a:cubicBezTo>
                  <a:pt x="8418" y="8403"/>
                  <a:pt x="8458" y="8388"/>
                  <a:pt x="8483" y="8384"/>
                </a:cubicBezTo>
                <a:cubicBezTo>
                  <a:pt x="8524" y="8377"/>
                  <a:pt x="8575" y="8364"/>
                  <a:pt x="8607" y="8359"/>
                </a:cubicBezTo>
                <a:cubicBezTo>
                  <a:pt x="8646" y="8352"/>
                  <a:pt x="8692" y="8359"/>
                  <a:pt x="8731" y="8359"/>
                </a:cubicBezTo>
                <a:cubicBezTo>
                  <a:pt x="8755" y="8345"/>
                  <a:pt x="8753" y="8337"/>
                  <a:pt x="8806" y="8334"/>
                </a:cubicBezTo>
                <a:cubicBezTo>
                  <a:pt x="8893" y="8329"/>
                  <a:pt x="8979" y="8322"/>
                  <a:pt x="9054" y="8310"/>
                </a:cubicBezTo>
                <a:cubicBezTo>
                  <a:pt x="9135" y="8297"/>
                  <a:pt x="9231" y="8297"/>
                  <a:pt x="9302" y="8285"/>
                </a:cubicBezTo>
                <a:cubicBezTo>
                  <a:pt x="9406" y="8267"/>
                  <a:pt x="9530" y="8276"/>
                  <a:pt x="9624" y="8260"/>
                </a:cubicBezTo>
                <a:cubicBezTo>
                  <a:pt x="9673" y="8252"/>
                  <a:pt x="9698" y="8238"/>
                  <a:pt x="9748" y="8235"/>
                </a:cubicBezTo>
                <a:cubicBezTo>
                  <a:pt x="9923" y="8225"/>
                  <a:pt x="10103" y="8232"/>
                  <a:pt x="10269" y="8260"/>
                </a:cubicBezTo>
                <a:cubicBezTo>
                  <a:pt x="10334" y="8271"/>
                  <a:pt x="10413" y="8276"/>
                  <a:pt x="10468" y="8285"/>
                </a:cubicBezTo>
                <a:cubicBezTo>
                  <a:pt x="10510" y="8292"/>
                  <a:pt x="10552" y="8303"/>
                  <a:pt x="10592" y="8310"/>
                </a:cubicBezTo>
                <a:cubicBezTo>
                  <a:pt x="10639" y="8318"/>
                  <a:pt x="10649" y="8315"/>
                  <a:pt x="10691" y="8334"/>
                </a:cubicBezTo>
                <a:cubicBezTo>
                  <a:pt x="10719" y="8334"/>
                  <a:pt x="10730" y="8336"/>
                  <a:pt x="10740" y="8359"/>
                </a:cubicBezTo>
              </a:path>
              <a:path w="4193" h="1043">
                <a:moveTo>
                  <a:pt x="12005" y="8682"/>
                </a:moveTo>
                <a:cubicBezTo>
                  <a:pt x="12005" y="8690"/>
                  <a:pt x="12005" y="8698"/>
                  <a:pt x="12005" y="8706"/>
                </a:cubicBezTo>
                <a:cubicBezTo>
                  <a:pt x="11982" y="8714"/>
                  <a:pt x="11959" y="8715"/>
                  <a:pt x="11931" y="8731"/>
                </a:cubicBezTo>
                <a:cubicBezTo>
                  <a:pt x="11898" y="8749"/>
                  <a:pt x="11860" y="8740"/>
                  <a:pt x="11832" y="8756"/>
                </a:cubicBezTo>
                <a:cubicBezTo>
                  <a:pt x="11795" y="8776"/>
                  <a:pt x="11774" y="8795"/>
                  <a:pt x="11733" y="8806"/>
                </a:cubicBezTo>
                <a:cubicBezTo>
                  <a:pt x="11733" y="8830"/>
                  <a:pt x="11733" y="8839"/>
                  <a:pt x="11733" y="8855"/>
                </a:cubicBezTo>
              </a:path>
              <a:path w="4193" h="1043">
                <a:moveTo>
                  <a:pt x="10740" y="8756"/>
                </a:moveTo>
                <a:cubicBezTo>
                  <a:pt x="10730" y="8786"/>
                  <a:pt x="10720" y="8798"/>
                  <a:pt x="10691" y="8830"/>
                </a:cubicBezTo>
                <a:cubicBezTo>
                  <a:pt x="10666" y="8855"/>
                  <a:pt x="10658" y="8863"/>
                  <a:pt x="10641" y="8880"/>
                </a:cubicBezTo>
                <a:cubicBezTo>
                  <a:pt x="10641" y="8824"/>
                  <a:pt x="10631" y="8775"/>
                  <a:pt x="10666" y="8731"/>
                </a:cubicBezTo>
                <a:cubicBezTo>
                  <a:pt x="10702" y="8686"/>
                  <a:pt x="10734" y="8630"/>
                  <a:pt x="10790" y="8607"/>
                </a:cubicBezTo>
                <a:cubicBezTo>
                  <a:pt x="10821" y="8595"/>
                  <a:pt x="10871" y="8606"/>
                  <a:pt x="10889" y="8632"/>
                </a:cubicBezTo>
                <a:cubicBezTo>
                  <a:pt x="10943" y="8710"/>
                  <a:pt x="10914" y="8822"/>
                  <a:pt x="10889" y="8905"/>
                </a:cubicBezTo>
                <a:cubicBezTo>
                  <a:pt x="10870" y="8969"/>
                  <a:pt x="10800" y="9060"/>
                  <a:pt x="10815" y="9128"/>
                </a:cubicBezTo>
                <a:cubicBezTo>
                  <a:pt x="10830" y="9197"/>
                  <a:pt x="10906" y="9224"/>
                  <a:pt x="10964" y="9227"/>
                </a:cubicBezTo>
                <a:cubicBezTo>
                  <a:pt x="11023" y="9230"/>
                  <a:pt x="11069" y="9192"/>
                  <a:pt x="11112" y="9153"/>
                </a:cubicBezTo>
                <a:cubicBezTo>
                  <a:pt x="11151" y="9117"/>
                  <a:pt x="11143" y="9090"/>
                  <a:pt x="11112" y="9054"/>
                </a:cubicBezTo>
                <a:cubicBezTo>
                  <a:pt x="11104" y="9046"/>
                  <a:pt x="11096" y="9037"/>
                  <a:pt x="11088" y="9029"/>
                </a:cubicBezTo>
              </a:path>
              <a:path w="4193" h="1043">
                <a:moveTo>
                  <a:pt x="11063" y="8607"/>
                </a:moveTo>
                <a:cubicBezTo>
                  <a:pt x="11021" y="8586"/>
                  <a:pt x="11081" y="8585"/>
                  <a:pt x="11112" y="8558"/>
                </a:cubicBezTo>
                <a:cubicBezTo>
                  <a:pt x="11137" y="8536"/>
                  <a:pt x="11170" y="8485"/>
                  <a:pt x="11212" y="8508"/>
                </a:cubicBezTo>
                <a:cubicBezTo>
                  <a:pt x="11254" y="8532"/>
                  <a:pt x="11283" y="8587"/>
                  <a:pt x="11286" y="8632"/>
                </a:cubicBezTo>
                <a:cubicBezTo>
                  <a:pt x="11291" y="8701"/>
                  <a:pt x="11243" y="8741"/>
                  <a:pt x="11237" y="8806"/>
                </a:cubicBezTo>
                <a:cubicBezTo>
                  <a:pt x="11232" y="8856"/>
                  <a:pt x="11296" y="8872"/>
                  <a:pt x="11336" y="8855"/>
                </a:cubicBezTo>
                <a:cubicBezTo>
                  <a:pt x="11376" y="8838"/>
                  <a:pt x="11420" y="8794"/>
                  <a:pt x="11460" y="8781"/>
                </a:cubicBezTo>
                <a:cubicBezTo>
                  <a:pt x="11485" y="8781"/>
                  <a:pt x="11493" y="8781"/>
                  <a:pt x="11509" y="8781"/>
                </a:cubicBezTo>
              </a:path>
              <a:path w="4193" h="1043">
                <a:moveTo>
                  <a:pt x="11485" y="8930"/>
                </a:moveTo>
                <a:cubicBezTo>
                  <a:pt x="11432" y="8961"/>
                  <a:pt x="11389" y="8932"/>
                  <a:pt x="11336" y="8954"/>
                </a:cubicBezTo>
                <a:cubicBezTo>
                  <a:pt x="11298" y="8970"/>
                  <a:pt x="11285" y="8979"/>
                  <a:pt x="11237" y="8979"/>
                </a:cubicBezTo>
              </a:path>
              <a:path w="4193" h="1043">
                <a:moveTo>
                  <a:pt x="11311" y="9054"/>
                </a:moveTo>
                <a:cubicBezTo>
                  <a:pt x="11357" y="9054"/>
                  <a:pt x="11369" y="9034"/>
                  <a:pt x="11410" y="9029"/>
                </a:cubicBezTo>
                <a:cubicBezTo>
                  <a:pt x="11442" y="9025"/>
                  <a:pt x="11476" y="9029"/>
                  <a:pt x="11509" y="9029"/>
                </a:cubicBezTo>
                <a:cubicBezTo>
                  <a:pt x="11509" y="9062"/>
                  <a:pt x="11522" y="9109"/>
                  <a:pt x="11485" y="9128"/>
                </a:cubicBezTo>
                <a:cubicBezTo>
                  <a:pt x="11460" y="9128"/>
                  <a:pt x="11452" y="9128"/>
                  <a:pt x="11460" y="9153"/>
                </a:cubicBezTo>
                <a:cubicBezTo>
                  <a:pt x="11523" y="9153"/>
                  <a:pt x="11557" y="9160"/>
                  <a:pt x="11609" y="9178"/>
                </a:cubicBezTo>
                <a:cubicBezTo>
                  <a:pt x="11649" y="9192"/>
                  <a:pt x="11639" y="9218"/>
                  <a:pt x="11609" y="9252"/>
                </a:cubicBezTo>
                <a:cubicBezTo>
                  <a:pt x="11575" y="9291"/>
                  <a:pt x="11534" y="9277"/>
                  <a:pt x="11485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0000" y="3884760"/>
            <a:ext cx="34920" cy="625320"/>
          </a:xfrm>
          <a:custGeom>
            <a:avLst/>
            <a:gdLst/>
            <a:ahLst/>
            <a:rect l="l" t="t" r="r" b="b"/>
            <a:pathLst>
              <a:path w="100" h="1737">
                <a:moveTo>
                  <a:pt x="12998" y="10790"/>
                </a:moveTo>
                <a:cubicBezTo>
                  <a:pt x="12998" y="10815"/>
                  <a:pt x="12998" y="10823"/>
                  <a:pt x="13022" y="10815"/>
                </a:cubicBezTo>
              </a:path>
              <a:path w="100" h="1737">
                <a:moveTo>
                  <a:pt x="13047" y="11038"/>
                </a:moveTo>
                <a:cubicBezTo>
                  <a:pt x="13047" y="11088"/>
                  <a:pt x="13047" y="11137"/>
                  <a:pt x="13047" y="11187"/>
                </a:cubicBezTo>
              </a:path>
              <a:path w="100" h="1737">
                <a:moveTo>
                  <a:pt x="13047" y="11212"/>
                </a:moveTo>
                <a:cubicBezTo>
                  <a:pt x="13047" y="11262"/>
                  <a:pt x="13047" y="11311"/>
                  <a:pt x="13047" y="11361"/>
                </a:cubicBezTo>
              </a:path>
              <a:path w="100" h="1737">
                <a:moveTo>
                  <a:pt x="13047" y="11435"/>
                </a:moveTo>
                <a:cubicBezTo>
                  <a:pt x="13047" y="11468"/>
                  <a:pt x="13047" y="11501"/>
                  <a:pt x="13047" y="11534"/>
                </a:cubicBezTo>
              </a:path>
              <a:path w="100" h="1737">
                <a:moveTo>
                  <a:pt x="13047" y="11584"/>
                </a:moveTo>
                <a:cubicBezTo>
                  <a:pt x="13054" y="11637"/>
                  <a:pt x="13072" y="11679"/>
                  <a:pt x="13072" y="11733"/>
                </a:cubicBezTo>
                <a:cubicBezTo>
                  <a:pt x="13072" y="11741"/>
                  <a:pt x="13072" y="11749"/>
                  <a:pt x="13072" y="11757"/>
                </a:cubicBezTo>
              </a:path>
              <a:path w="100" h="1737">
                <a:moveTo>
                  <a:pt x="13072" y="11857"/>
                </a:moveTo>
                <a:cubicBezTo>
                  <a:pt x="13072" y="11915"/>
                  <a:pt x="13064" y="11937"/>
                  <a:pt x="13097" y="11981"/>
                </a:cubicBezTo>
              </a:path>
              <a:path w="100" h="1737">
                <a:moveTo>
                  <a:pt x="13097" y="12105"/>
                </a:moveTo>
                <a:cubicBezTo>
                  <a:pt x="13097" y="12146"/>
                  <a:pt x="13097" y="12188"/>
                  <a:pt x="13097" y="12229"/>
                </a:cubicBezTo>
              </a:path>
              <a:path w="100" h="1737">
                <a:moveTo>
                  <a:pt x="13097" y="12353"/>
                </a:moveTo>
                <a:cubicBezTo>
                  <a:pt x="13074" y="12405"/>
                  <a:pt x="13072" y="12423"/>
                  <a:pt x="13072" y="12477"/>
                </a:cubicBezTo>
                <a:cubicBezTo>
                  <a:pt x="13072" y="12493"/>
                  <a:pt x="13072" y="12510"/>
                  <a:pt x="13072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70280" y="4643280"/>
            <a:ext cx="9720" cy="135000"/>
          </a:xfrm>
          <a:custGeom>
            <a:avLst/>
            <a:gdLst/>
            <a:ahLst/>
            <a:rect l="l" t="t" r="r" b="b"/>
            <a:pathLst>
              <a:path w="26" h="374">
                <a:moveTo>
                  <a:pt x="12998" y="12898"/>
                </a:moveTo>
                <a:cubicBezTo>
                  <a:pt x="12998" y="12948"/>
                  <a:pt x="12998" y="12997"/>
                  <a:pt x="12998" y="13047"/>
                </a:cubicBezTo>
              </a:path>
              <a:path w="26" h="374">
                <a:moveTo>
                  <a:pt x="12973" y="13171"/>
                </a:moveTo>
                <a:cubicBezTo>
                  <a:pt x="12973" y="13229"/>
                  <a:pt x="12973" y="13238"/>
                  <a:pt x="12973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53000" y="4964040"/>
            <a:ext cx="17280" cy="179640"/>
          </a:xfrm>
          <a:custGeom>
            <a:avLst/>
            <a:gdLst/>
            <a:ahLst/>
            <a:rect l="l" t="t" r="r" b="b"/>
            <a:pathLst>
              <a:path w="51" h="498">
                <a:moveTo>
                  <a:pt x="12948" y="13791"/>
                </a:moveTo>
                <a:cubicBezTo>
                  <a:pt x="12977" y="13829"/>
                  <a:pt x="12973" y="13842"/>
                  <a:pt x="12973" y="13891"/>
                </a:cubicBezTo>
                <a:cubicBezTo>
                  <a:pt x="12973" y="13899"/>
                  <a:pt x="12973" y="13907"/>
                  <a:pt x="12973" y="13915"/>
                </a:cubicBezTo>
              </a:path>
              <a:path w="51" h="498">
                <a:moveTo>
                  <a:pt x="12973" y="13965"/>
                </a:moveTo>
                <a:cubicBezTo>
                  <a:pt x="12944" y="14003"/>
                  <a:pt x="12948" y="14016"/>
                  <a:pt x="12948" y="14064"/>
                </a:cubicBezTo>
                <a:cubicBezTo>
                  <a:pt x="12948" y="14072"/>
                  <a:pt x="12948" y="14081"/>
                  <a:pt x="12948" y="14089"/>
                </a:cubicBezTo>
              </a:path>
              <a:path w="51" h="498">
                <a:moveTo>
                  <a:pt x="12923" y="14213"/>
                </a:moveTo>
                <a:cubicBezTo>
                  <a:pt x="12923" y="14255"/>
                  <a:pt x="12923" y="14263"/>
                  <a:pt x="12923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97280" y="5133960"/>
            <a:ext cx="455760" cy="36360"/>
          </a:xfrm>
          <a:custGeom>
            <a:avLst/>
            <a:gdLst/>
            <a:ahLst/>
            <a:rect l="l" t="t" r="r" b="b"/>
            <a:pathLst>
              <a:path w="1266" h="100">
                <a:moveTo>
                  <a:pt x="13047" y="14362"/>
                </a:moveTo>
                <a:cubicBezTo>
                  <a:pt x="13072" y="14362"/>
                  <a:pt x="13080" y="14362"/>
                  <a:pt x="13072" y="14337"/>
                </a:cubicBezTo>
              </a:path>
              <a:path w="1266" h="100">
                <a:moveTo>
                  <a:pt x="13246" y="14337"/>
                </a:moveTo>
                <a:cubicBezTo>
                  <a:pt x="13271" y="14337"/>
                  <a:pt x="13279" y="14337"/>
                  <a:pt x="13295" y="14337"/>
                </a:cubicBezTo>
              </a:path>
              <a:path w="1266" h="100">
                <a:moveTo>
                  <a:pt x="13469" y="14263"/>
                </a:moveTo>
                <a:cubicBezTo>
                  <a:pt x="13510" y="14263"/>
                  <a:pt x="13482" y="14276"/>
                  <a:pt x="13519" y="14288"/>
                </a:cubicBezTo>
              </a:path>
              <a:path w="1266" h="100">
                <a:moveTo>
                  <a:pt x="13568" y="14288"/>
                </a:moveTo>
                <a:cubicBezTo>
                  <a:pt x="13659" y="14288"/>
                  <a:pt x="13750" y="14288"/>
                  <a:pt x="13841" y="14288"/>
                </a:cubicBezTo>
              </a:path>
              <a:path w="1266" h="100">
                <a:moveTo>
                  <a:pt x="14015" y="14362"/>
                </a:moveTo>
                <a:cubicBezTo>
                  <a:pt x="14023" y="14362"/>
                  <a:pt x="14031" y="14362"/>
                  <a:pt x="14039" y="14362"/>
                </a:cubicBezTo>
              </a:path>
              <a:path w="1266" h="100">
                <a:moveTo>
                  <a:pt x="14238" y="14362"/>
                </a:moveTo>
                <a:cubicBezTo>
                  <a:pt x="14273" y="14336"/>
                  <a:pt x="14269" y="14337"/>
                  <a:pt x="14312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0760" y="4170240"/>
            <a:ext cx="277560" cy="125640"/>
          </a:xfrm>
          <a:custGeom>
            <a:avLst/>
            <a:gdLst/>
            <a:ahLst/>
            <a:rect l="l" t="t" r="r" b="b"/>
            <a:pathLst>
              <a:path w="770" h="348">
                <a:moveTo>
                  <a:pt x="13891" y="11633"/>
                </a:moveTo>
                <a:cubicBezTo>
                  <a:pt x="13891" y="11716"/>
                  <a:pt x="13891" y="11798"/>
                  <a:pt x="13891" y="11881"/>
                </a:cubicBezTo>
                <a:cubicBezTo>
                  <a:pt x="13891" y="11954"/>
                  <a:pt x="13915" y="11758"/>
                  <a:pt x="13915" y="11757"/>
                </a:cubicBezTo>
                <a:cubicBezTo>
                  <a:pt x="13923" y="11731"/>
                  <a:pt x="13976" y="11596"/>
                  <a:pt x="13990" y="11584"/>
                </a:cubicBezTo>
                <a:cubicBezTo>
                  <a:pt x="13998" y="11584"/>
                  <a:pt x="14007" y="11584"/>
                  <a:pt x="14015" y="11584"/>
                </a:cubicBezTo>
                <a:cubicBezTo>
                  <a:pt x="14042" y="11621"/>
                  <a:pt x="14056" y="11686"/>
                  <a:pt x="14064" y="11733"/>
                </a:cubicBezTo>
                <a:cubicBezTo>
                  <a:pt x="14064" y="11749"/>
                  <a:pt x="14064" y="11766"/>
                  <a:pt x="14064" y="11782"/>
                </a:cubicBezTo>
                <a:cubicBezTo>
                  <a:pt x="14090" y="11748"/>
                  <a:pt x="14106" y="11687"/>
                  <a:pt x="14139" y="11658"/>
                </a:cubicBezTo>
                <a:cubicBezTo>
                  <a:pt x="14166" y="11635"/>
                  <a:pt x="14207" y="11616"/>
                  <a:pt x="14238" y="11609"/>
                </a:cubicBezTo>
                <a:cubicBezTo>
                  <a:pt x="14280" y="11702"/>
                  <a:pt x="14267" y="11765"/>
                  <a:pt x="14288" y="11857"/>
                </a:cubicBezTo>
                <a:cubicBezTo>
                  <a:pt x="14308" y="11897"/>
                  <a:pt x="14316" y="11904"/>
                  <a:pt x="14312" y="11931"/>
                </a:cubicBezTo>
              </a:path>
              <a:path w="770" h="348">
                <a:moveTo>
                  <a:pt x="14585" y="11609"/>
                </a:moveTo>
                <a:cubicBezTo>
                  <a:pt x="14593" y="11609"/>
                  <a:pt x="14602" y="11609"/>
                  <a:pt x="14610" y="11609"/>
                </a:cubicBezTo>
                <a:cubicBezTo>
                  <a:pt x="14610" y="11661"/>
                  <a:pt x="14612" y="11658"/>
                  <a:pt x="14560" y="11658"/>
                </a:cubicBezTo>
                <a:cubicBezTo>
                  <a:pt x="14516" y="11658"/>
                  <a:pt x="14502" y="11655"/>
                  <a:pt x="14486" y="11683"/>
                </a:cubicBezTo>
              </a:path>
              <a:path w="770" h="348">
                <a:moveTo>
                  <a:pt x="14610" y="11757"/>
                </a:moveTo>
                <a:cubicBezTo>
                  <a:pt x="14639" y="11786"/>
                  <a:pt x="14651" y="11795"/>
                  <a:pt x="14660" y="11832"/>
                </a:cubicBezTo>
                <a:cubicBezTo>
                  <a:pt x="14619" y="11832"/>
                  <a:pt x="14577" y="11832"/>
                  <a:pt x="14536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48160" y="4143240"/>
            <a:ext cx="73080" cy="9720"/>
          </a:xfrm>
          <a:custGeom>
            <a:avLst/>
            <a:gdLst/>
            <a:ahLst/>
            <a:rect l="l" t="t" r="r" b="b"/>
            <a:pathLst>
              <a:path w="199" h="26">
                <a:moveTo>
                  <a:pt x="15056" y="11509"/>
                </a:moveTo>
                <a:cubicBezTo>
                  <a:pt x="14997" y="11509"/>
                  <a:pt x="14957" y="11519"/>
                  <a:pt x="14908" y="11534"/>
                </a:cubicBezTo>
                <a:cubicBezTo>
                  <a:pt x="14883" y="11534"/>
                  <a:pt x="14875" y="11534"/>
                  <a:pt x="14858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91080" y="4017960"/>
            <a:ext cx="108000" cy="1350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15280" y="11261"/>
                </a:moveTo>
                <a:cubicBezTo>
                  <a:pt x="15267" y="11222"/>
                  <a:pt x="15268" y="11251"/>
                  <a:pt x="15255" y="11212"/>
                </a:cubicBezTo>
                <a:cubicBezTo>
                  <a:pt x="15290" y="11185"/>
                  <a:pt x="15331" y="11165"/>
                  <a:pt x="15379" y="11162"/>
                </a:cubicBezTo>
                <a:cubicBezTo>
                  <a:pt x="15449" y="11157"/>
                  <a:pt x="15478" y="11164"/>
                  <a:pt x="15503" y="11237"/>
                </a:cubicBezTo>
                <a:cubicBezTo>
                  <a:pt x="15515" y="11272"/>
                  <a:pt x="15450" y="11314"/>
                  <a:pt x="15429" y="11336"/>
                </a:cubicBezTo>
                <a:cubicBezTo>
                  <a:pt x="15393" y="11372"/>
                  <a:pt x="15392" y="11347"/>
                  <a:pt x="15379" y="11385"/>
                </a:cubicBezTo>
                <a:cubicBezTo>
                  <a:pt x="15421" y="11419"/>
                  <a:pt x="15475" y="11467"/>
                  <a:pt x="15528" y="11485"/>
                </a:cubicBezTo>
                <a:cubicBezTo>
                  <a:pt x="15553" y="11485"/>
                  <a:pt x="15561" y="11485"/>
                  <a:pt x="15553" y="11509"/>
                </a:cubicBezTo>
                <a:cubicBezTo>
                  <a:pt x="15540" y="11549"/>
                  <a:pt x="15504" y="11534"/>
                  <a:pt x="15453" y="11534"/>
                </a:cubicBezTo>
                <a:cubicBezTo>
                  <a:pt x="15403" y="11534"/>
                  <a:pt x="15354" y="11534"/>
                  <a:pt x="15304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46720" y="4446720"/>
            <a:ext cx="134640" cy="18864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12452" y="12502"/>
                </a:moveTo>
                <a:cubicBezTo>
                  <a:pt x="12392" y="12516"/>
                  <a:pt x="12409" y="12517"/>
                  <a:pt x="12378" y="12502"/>
                </a:cubicBezTo>
                <a:cubicBezTo>
                  <a:pt x="12340" y="12484"/>
                  <a:pt x="12344" y="12466"/>
                  <a:pt x="12378" y="12427"/>
                </a:cubicBezTo>
                <a:cubicBezTo>
                  <a:pt x="12417" y="12382"/>
                  <a:pt x="12469" y="12363"/>
                  <a:pt x="12526" y="12353"/>
                </a:cubicBezTo>
                <a:cubicBezTo>
                  <a:pt x="12582" y="12344"/>
                  <a:pt x="12633" y="12378"/>
                  <a:pt x="12650" y="12427"/>
                </a:cubicBezTo>
                <a:cubicBezTo>
                  <a:pt x="12670" y="12484"/>
                  <a:pt x="12637" y="12515"/>
                  <a:pt x="12601" y="12551"/>
                </a:cubicBezTo>
                <a:cubicBezTo>
                  <a:pt x="12573" y="12579"/>
                  <a:pt x="12510" y="12609"/>
                  <a:pt x="12502" y="12626"/>
                </a:cubicBezTo>
                <a:cubicBezTo>
                  <a:pt x="12502" y="12634"/>
                  <a:pt x="12502" y="12642"/>
                  <a:pt x="12502" y="12650"/>
                </a:cubicBezTo>
                <a:cubicBezTo>
                  <a:pt x="12558" y="12683"/>
                  <a:pt x="12621" y="12713"/>
                  <a:pt x="12675" y="12750"/>
                </a:cubicBezTo>
                <a:cubicBezTo>
                  <a:pt x="12707" y="12772"/>
                  <a:pt x="12717" y="12791"/>
                  <a:pt x="12725" y="12824"/>
                </a:cubicBezTo>
                <a:cubicBezTo>
                  <a:pt x="12672" y="12866"/>
                  <a:pt x="12644" y="12874"/>
                  <a:pt x="12576" y="12874"/>
                </a:cubicBezTo>
                <a:cubicBezTo>
                  <a:pt x="12526" y="12874"/>
                  <a:pt x="12477" y="12874"/>
                  <a:pt x="12427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62680" y="4446720"/>
            <a:ext cx="98280" cy="9036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14263" y="12378"/>
                </a:moveTo>
                <a:cubicBezTo>
                  <a:pt x="14288" y="12378"/>
                  <a:pt x="14296" y="12378"/>
                  <a:pt x="14288" y="12353"/>
                </a:cubicBezTo>
                <a:cubicBezTo>
                  <a:pt x="14215" y="12353"/>
                  <a:pt x="14218" y="12367"/>
                  <a:pt x="14163" y="12402"/>
                </a:cubicBezTo>
                <a:cubicBezTo>
                  <a:pt x="14112" y="12435"/>
                  <a:pt x="14039" y="12471"/>
                  <a:pt x="14064" y="12551"/>
                </a:cubicBezTo>
                <a:cubicBezTo>
                  <a:pt x="14084" y="12615"/>
                  <a:pt x="14165" y="12601"/>
                  <a:pt x="14213" y="12601"/>
                </a:cubicBezTo>
                <a:cubicBezTo>
                  <a:pt x="14254" y="12601"/>
                  <a:pt x="14296" y="12601"/>
                  <a:pt x="14337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86240" y="4044960"/>
            <a:ext cx="866880" cy="492120"/>
          </a:xfrm>
          <a:custGeom>
            <a:avLst/>
            <a:gdLst/>
            <a:ahLst/>
            <a:rect l="l" t="t" r="r" b="b"/>
            <a:pathLst>
              <a:path w="2407" h="1365">
                <a:moveTo>
                  <a:pt x="15627" y="11733"/>
                </a:moveTo>
                <a:cubicBezTo>
                  <a:pt x="15666" y="11771"/>
                  <a:pt x="15683" y="11773"/>
                  <a:pt x="15677" y="11807"/>
                </a:cubicBezTo>
                <a:cubicBezTo>
                  <a:pt x="15547" y="11807"/>
                  <a:pt x="15430" y="11799"/>
                  <a:pt x="15304" y="11782"/>
                </a:cubicBezTo>
                <a:cubicBezTo>
                  <a:pt x="15250" y="11775"/>
                  <a:pt x="15202" y="11762"/>
                  <a:pt x="15156" y="11757"/>
                </a:cubicBezTo>
                <a:cubicBezTo>
                  <a:pt x="15148" y="11757"/>
                  <a:pt x="15139" y="11757"/>
                  <a:pt x="15131" y="11757"/>
                </a:cubicBezTo>
              </a:path>
              <a:path w="2407" h="1365">
                <a:moveTo>
                  <a:pt x="15304" y="11782"/>
                </a:moveTo>
                <a:cubicBezTo>
                  <a:pt x="15326" y="11811"/>
                  <a:pt x="15347" y="11868"/>
                  <a:pt x="15354" y="11906"/>
                </a:cubicBezTo>
                <a:cubicBezTo>
                  <a:pt x="15364" y="11960"/>
                  <a:pt x="15354" y="12025"/>
                  <a:pt x="15354" y="12080"/>
                </a:cubicBezTo>
              </a:path>
              <a:path w="2407" h="1365">
                <a:moveTo>
                  <a:pt x="16073" y="11534"/>
                </a:moveTo>
                <a:cubicBezTo>
                  <a:pt x="16081" y="11534"/>
                  <a:pt x="16090" y="11534"/>
                  <a:pt x="16098" y="11534"/>
                </a:cubicBezTo>
                <a:cubicBezTo>
                  <a:pt x="16040" y="11593"/>
                  <a:pt x="16040" y="11556"/>
                  <a:pt x="15974" y="11584"/>
                </a:cubicBezTo>
                <a:cubicBezTo>
                  <a:pt x="15966" y="11592"/>
                  <a:pt x="15957" y="11601"/>
                  <a:pt x="15949" y="11609"/>
                </a:cubicBezTo>
              </a:path>
              <a:path w="2407" h="1365">
                <a:moveTo>
                  <a:pt x="16049" y="11658"/>
                </a:moveTo>
                <a:cubicBezTo>
                  <a:pt x="16057" y="11666"/>
                  <a:pt x="16065" y="11675"/>
                  <a:pt x="16073" y="11683"/>
                </a:cubicBezTo>
                <a:cubicBezTo>
                  <a:pt x="16024" y="11683"/>
                  <a:pt x="15974" y="11683"/>
                  <a:pt x="15925" y="11683"/>
                </a:cubicBezTo>
              </a:path>
              <a:path w="2407" h="1365">
                <a:moveTo>
                  <a:pt x="16545" y="11609"/>
                </a:moveTo>
                <a:cubicBezTo>
                  <a:pt x="16479" y="11609"/>
                  <a:pt x="16412" y="11609"/>
                  <a:pt x="16346" y="11609"/>
                </a:cubicBezTo>
              </a:path>
              <a:path w="2407" h="1365">
                <a:moveTo>
                  <a:pt x="16793" y="11410"/>
                </a:moveTo>
                <a:cubicBezTo>
                  <a:pt x="16754" y="11352"/>
                  <a:pt x="16767" y="11373"/>
                  <a:pt x="16718" y="11336"/>
                </a:cubicBezTo>
                <a:cubicBezTo>
                  <a:pt x="16730" y="11286"/>
                  <a:pt x="16750" y="11279"/>
                  <a:pt x="16793" y="11261"/>
                </a:cubicBezTo>
                <a:cubicBezTo>
                  <a:pt x="16840" y="11241"/>
                  <a:pt x="16939" y="11212"/>
                  <a:pt x="16991" y="11237"/>
                </a:cubicBezTo>
                <a:cubicBezTo>
                  <a:pt x="17017" y="11249"/>
                  <a:pt x="17030" y="11311"/>
                  <a:pt x="17016" y="11336"/>
                </a:cubicBezTo>
                <a:cubicBezTo>
                  <a:pt x="16989" y="11385"/>
                  <a:pt x="16946" y="11393"/>
                  <a:pt x="16942" y="11460"/>
                </a:cubicBezTo>
                <a:cubicBezTo>
                  <a:pt x="16937" y="11541"/>
                  <a:pt x="16986" y="11542"/>
                  <a:pt x="17041" y="11584"/>
                </a:cubicBezTo>
                <a:cubicBezTo>
                  <a:pt x="17067" y="11604"/>
                  <a:pt x="17110" y="11645"/>
                  <a:pt x="17090" y="11683"/>
                </a:cubicBezTo>
                <a:cubicBezTo>
                  <a:pt x="17054" y="11750"/>
                  <a:pt x="16952" y="11752"/>
                  <a:pt x="16892" y="11757"/>
                </a:cubicBezTo>
              </a:path>
              <a:path w="2407" h="1365">
                <a:moveTo>
                  <a:pt x="14858" y="12477"/>
                </a:moveTo>
                <a:cubicBezTo>
                  <a:pt x="14866" y="12469"/>
                  <a:pt x="14875" y="12460"/>
                  <a:pt x="14883" y="12452"/>
                </a:cubicBezTo>
                <a:cubicBezTo>
                  <a:pt x="14817" y="12452"/>
                  <a:pt x="14750" y="12452"/>
                  <a:pt x="14684" y="12452"/>
                </a:cubicBezTo>
              </a:path>
              <a:path w="2407" h="1365">
                <a:moveTo>
                  <a:pt x="14833" y="12526"/>
                </a:moveTo>
                <a:cubicBezTo>
                  <a:pt x="14841" y="12534"/>
                  <a:pt x="14850" y="12543"/>
                  <a:pt x="14858" y="12551"/>
                </a:cubicBezTo>
                <a:cubicBezTo>
                  <a:pt x="14831" y="12571"/>
                  <a:pt x="14798" y="12590"/>
                  <a:pt x="14759" y="12576"/>
                </a:cubicBezTo>
                <a:cubicBezTo>
                  <a:pt x="14742" y="12568"/>
                  <a:pt x="14726" y="12559"/>
                  <a:pt x="14709" y="12551"/>
                </a:cubicBezTo>
              </a:path>
              <a:path w="2407" h="1365">
                <a:moveTo>
                  <a:pt x="15180" y="12229"/>
                </a:moveTo>
                <a:cubicBezTo>
                  <a:pt x="15197" y="12189"/>
                  <a:pt x="15210" y="12090"/>
                  <a:pt x="15230" y="12129"/>
                </a:cubicBezTo>
                <a:cubicBezTo>
                  <a:pt x="15247" y="12164"/>
                  <a:pt x="15207" y="12218"/>
                  <a:pt x="15205" y="12254"/>
                </a:cubicBezTo>
                <a:cubicBezTo>
                  <a:pt x="15202" y="12310"/>
                  <a:pt x="15196" y="12360"/>
                  <a:pt x="15230" y="12402"/>
                </a:cubicBezTo>
                <a:cubicBezTo>
                  <a:pt x="15260" y="12439"/>
                  <a:pt x="15359" y="12440"/>
                  <a:pt x="15404" y="12427"/>
                </a:cubicBezTo>
                <a:cubicBezTo>
                  <a:pt x="15463" y="12410"/>
                  <a:pt x="15547" y="12422"/>
                  <a:pt x="15602" y="12402"/>
                </a:cubicBezTo>
                <a:cubicBezTo>
                  <a:pt x="15612" y="12398"/>
                  <a:pt x="15722" y="12383"/>
                  <a:pt x="15726" y="12378"/>
                </a:cubicBezTo>
                <a:cubicBezTo>
                  <a:pt x="15751" y="12347"/>
                  <a:pt x="15716" y="12333"/>
                  <a:pt x="15701" y="12328"/>
                </a:cubicBezTo>
              </a:path>
              <a:path w="2407" h="1365">
                <a:moveTo>
                  <a:pt x="15304" y="12303"/>
                </a:moveTo>
                <a:cubicBezTo>
                  <a:pt x="15304" y="12295"/>
                  <a:pt x="15304" y="12286"/>
                  <a:pt x="15304" y="12278"/>
                </a:cubicBezTo>
                <a:cubicBezTo>
                  <a:pt x="15353" y="12294"/>
                  <a:pt x="15312" y="12307"/>
                  <a:pt x="15329" y="12353"/>
                </a:cubicBezTo>
                <a:cubicBezTo>
                  <a:pt x="15354" y="12423"/>
                  <a:pt x="15354" y="12475"/>
                  <a:pt x="15354" y="12551"/>
                </a:cubicBezTo>
                <a:cubicBezTo>
                  <a:pt x="15354" y="12576"/>
                  <a:pt x="15354" y="12584"/>
                  <a:pt x="15354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22920" y="4697280"/>
            <a:ext cx="357120" cy="231840"/>
          </a:xfrm>
          <a:custGeom>
            <a:avLst/>
            <a:gdLst/>
            <a:ahLst/>
            <a:rect l="l" t="t" r="r" b="b"/>
            <a:pathLst>
              <a:path w="993" h="646">
                <a:moveTo>
                  <a:pt x="13395" y="13097"/>
                </a:moveTo>
                <a:cubicBezTo>
                  <a:pt x="13395" y="13089"/>
                  <a:pt x="13395" y="13080"/>
                  <a:pt x="13395" y="13072"/>
                </a:cubicBezTo>
                <a:cubicBezTo>
                  <a:pt x="13395" y="13012"/>
                  <a:pt x="13414" y="13158"/>
                  <a:pt x="13419" y="13171"/>
                </a:cubicBezTo>
                <a:cubicBezTo>
                  <a:pt x="13441" y="13228"/>
                  <a:pt x="13499" y="13298"/>
                  <a:pt x="13543" y="13320"/>
                </a:cubicBezTo>
                <a:cubicBezTo>
                  <a:pt x="13615" y="13259"/>
                  <a:pt x="13625" y="13194"/>
                  <a:pt x="13643" y="13097"/>
                </a:cubicBezTo>
                <a:cubicBezTo>
                  <a:pt x="13643" y="13069"/>
                  <a:pt x="13645" y="13058"/>
                  <a:pt x="13667" y="13047"/>
                </a:cubicBezTo>
                <a:cubicBezTo>
                  <a:pt x="13770" y="13112"/>
                  <a:pt x="13810" y="13185"/>
                  <a:pt x="13866" y="13295"/>
                </a:cubicBezTo>
                <a:cubicBezTo>
                  <a:pt x="13903" y="13367"/>
                  <a:pt x="13986" y="13530"/>
                  <a:pt x="13940" y="13618"/>
                </a:cubicBezTo>
                <a:cubicBezTo>
                  <a:pt x="13895" y="13705"/>
                  <a:pt x="13824" y="13692"/>
                  <a:pt x="13742" y="13692"/>
                </a:cubicBezTo>
                <a:cubicBezTo>
                  <a:pt x="13653" y="13692"/>
                  <a:pt x="13613" y="13697"/>
                  <a:pt x="13543" y="13643"/>
                </a:cubicBezTo>
              </a:path>
              <a:path w="993" h="646">
                <a:moveTo>
                  <a:pt x="14288" y="13072"/>
                </a:moveTo>
                <a:cubicBezTo>
                  <a:pt x="14296" y="13072"/>
                  <a:pt x="14304" y="13072"/>
                  <a:pt x="14312" y="13072"/>
                </a:cubicBezTo>
                <a:cubicBezTo>
                  <a:pt x="14294" y="13127"/>
                  <a:pt x="14267" y="13075"/>
                  <a:pt x="14213" y="13097"/>
                </a:cubicBezTo>
                <a:cubicBezTo>
                  <a:pt x="14173" y="13114"/>
                  <a:pt x="14134" y="13141"/>
                  <a:pt x="14089" y="13146"/>
                </a:cubicBezTo>
                <a:cubicBezTo>
                  <a:pt x="14081" y="13146"/>
                  <a:pt x="14072" y="13146"/>
                  <a:pt x="14064" y="13146"/>
                </a:cubicBezTo>
              </a:path>
              <a:path w="993" h="646">
                <a:moveTo>
                  <a:pt x="14362" y="13221"/>
                </a:moveTo>
                <a:cubicBezTo>
                  <a:pt x="14362" y="13249"/>
                  <a:pt x="14364" y="13260"/>
                  <a:pt x="14387" y="13271"/>
                </a:cubicBezTo>
                <a:cubicBezTo>
                  <a:pt x="14340" y="13271"/>
                  <a:pt x="14308" y="13291"/>
                  <a:pt x="14263" y="13295"/>
                </a:cubicBezTo>
                <a:cubicBezTo>
                  <a:pt x="14255" y="13295"/>
                  <a:pt x="14246" y="13295"/>
                  <a:pt x="14238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03880" y="4562640"/>
            <a:ext cx="965160" cy="260280"/>
          </a:xfrm>
          <a:custGeom>
            <a:avLst/>
            <a:gdLst/>
            <a:ahLst/>
            <a:rect l="l" t="t" r="r" b="b"/>
            <a:pathLst>
              <a:path w="2680" h="721">
                <a:moveTo>
                  <a:pt x="14759" y="13072"/>
                </a:moveTo>
                <a:cubicBezTo>
                  <a:pt x="14751" y="13072"/>
                  <a:pt x="14742" y="13072"/>
                  <a:pt x="14734" y="13072"/>
                </a:cubicBezTo>
                <a:cubicBezTo>
                  <a:pt x="14747" y="13112"/>
                  <a:pt x="14782" y="13097"/>
                  <a:pt x="14833" y="13097"/>
                </a:cubicBezTo>
                <a:cubicBezTo>
                  <a:pt x="14865" y="13097"/>
                  <a:pt x="14954" y="13086"/>
                  <a:pt x="14982" y="13072"/>
                </a:cubicBezTo>
                <a:cubicBezTo>
                  <a:pt x="15021" y="13052"/>
                  <a:pt x="15010" y="13047"/>
                  <a:pt x="15056" y="13047"/>
                </a:cubicBezTo>
              </a:path>
              <a:path w="2680" h="721">
                <a:moveTo>
                  <a:pt x="15354" y="12824"/>
                </a:moveTo>
                <a:cubicBezTo>
                  <a:pt x="15331" y="12801"/>
                  <a:pt x="15323" y="12797"/>
                  <a:pt x="15329" y="12774"/>
                </a:cubicBezTo>
                <a:cubicBezTo>
                  <a:pt x="15379" y="12762"/>
                  <a:pt x="15423" y="12710"/>
                  <a:pt x="15478" y="12700"/>
                </a:cubicBezTo>
                <a:cubicBezTo>
                  <a:pt x="15512" y="12694"/>
                  <a:pt x="15630" y="12681"/>
                  <a:pt x="15652" y="12725"/>
                </a:cubicBezTo>
                <a:cubicBezTo>
                  <a:pt x="15669" y="12759"/>
                  <a:pt x="15651" y="12850"/>
                  <a:pt x="15627" y="12874"/>
                </a:cubicBezTo>
                <a:cubicBezTo>
                  <a:pt x="15600" y="12900"/>
                  <a:pt x="15493" y="12961"/>
                  <a:pt x="15528" y="13022"/>
                </a:cubicBezTo>
                <a:cubicBezTo>
                  <a:pt x="15537" y="13037"/>
                  <a:pt x="15653" y="13090"/>
                  <a:pt x="15677" y="13097"/>
                </a:cubicBezTo>
                <a:cubicBezTo>
                  <a:pt x="15708" y="13107"/>
                  <a:pt x="15760" y="13135"/>
                  <a:pt x="15776" y="13171"/>
                </a:cubicBezTo>
                <a:cubicBezTo>
                  <a:pt x="15787" y="13196"/>
                  <a:pt x="15723" y="13265"/>
                  <a:pt x="15701" y="13271"/>
                </a:cubicBezTo>
                <a:cubicBezTo>
                  <a:pt x="15674" y="13279"/>
                  <a:pt x="15604" y="13271"/>
                  <a:pt x="15577" y="13271"/>
                </a:cubicBezTo>
              </a:path>
              <a:path w="2680" h="721">
                <a:moveTo>
                  <a:pt x="15925" y="13022"/>
                </a:moveTo>
                <a:cubicBezTo>
                  <a:pt x="15925" y="12989"/>
                  <a:pt x="15912" y="12942"/>
                  <a:pt x="15949" y="12923"/>
                </a:cubicBezTo>
                <a:cubicBezTo>
                  <a:pt x="15982" y="12906"/>
                  <a:pt x="16064" y="12938"/>
                  <a:pt x="16073" y="12973"/>
                </a:cubicBezTo>
                <a:cubicBezTo>
                  <a:pt x="16087" y="13027"/>
                  <a:pt x="16082" y="13129"/>
                  <a:pt x="16049" y="13171"/>
                </a:cubicBezTo>
                <a:cubicBezTo>
                  <a:pt x="16012" y="13218"/>
                  <a:pt x="15965" y="13196"/>
                  <a:pt x="15925" y="13171"/>
                </a:cubicBezTo>
              </a:path>
              <a:path w="2680" h="721">
                <a:moveTo>
                  <a:pt x="16197" y="12898"/>
                </a:moveTo>
                <a:cubicBezTo>
                  <a:pt x="16197" y="12882"/>
                  <a:pt x="16197" y="12865"/>
                  <a:pt x="16197" y="12849"/>
                </a:cubicBezTo>
                <a:cubicBezTo>
                  <a:pt x="16183" y="12906"/>
                  <a:pt x="16152" y="12954"/>
                  <a:pt x="16148" y="13022"/>
                </a:cubicBezTo>
                <a:cubicBezTo>
                  <a:pt x="16145" y="13080"/>
                  <a:pt x="16160" y="13139"/>
                  <a:pt x="16222" y="13146"/>
                </a:cubicBezTo>
                <a:cubicBezTo>
                  <a:pt x="16267" y="13151"/>
                  <a:pt x="16290" y="13122"/>
                  <a:pt x="16321" y="13097"/>
                </a:cubicBezTo>
              </a:path>
              <a:path w="2680" h="721">
                <a:moveTo>
                  <a:pt x="16743" y="13022"/>
                </a:moveTo>
                <a:cubicBezTo>
                  <a:pt x="16798" y="13022"/>
                  <a:pt x="16845" y="13022"/>
                  <a:pt x="16768" y="13022"/>
                </a:cubicBezTo>
                <a:cubicBezTo>
                  <a:pt x="16719" y="13022"/>
                  <a:pt x="16682" y="13039"/>
                  <a:pt x="16644" y="13047"/>
                </a:cubicBezTo>
                <a:cubicBezTo>
                  <a:pt x="16577" y="13060"/>
                  <a:pt x="16595" y="13034"/>
                  <a:pt x="16545" y="13072"/>
                </a:cubicBezTo>
              </a:path>
              <a:path w="2680" h="721">
                <a:moveTo>
                  <a:pt x="16669" y="12898"/>
                </a:moveTo>
                <a:cubicBezTo>
                  <a:pt x="16683" y="12967"/>
                  <a:pt x="16694" y="13023"/>
                  <a:pt x="16694" y="13097"/>
                </a:cubicBezTo>
                <a:cubicBezTo>
                  <a:pt x="16694" y="13113"/>
                  <a:pt x="16694" y="13130"/>
                  <a:pt x="16694" y="13146"/>
                </a:cubicBezTo>
              </a:path>
              <a:path w="2680" h="721">
                <a:moveTo>
                  <a:pt x="17016" y="12725"/>
                </a:moveTo>
                <a:cubicBezTo>
                  <a:pt x="17024" y="12708"/>
                  <a:pt x="17033" y="12692"/>
                  <a:pt x="17041" y="12675"/>
                </a:cubicBezTo>
                <a:cubicBezTo>
                  <a:pt x="17080" y="12740"/>
                  <a:pt x="17066" y="12818"/>
                  <a:pt x="17066" y="12898"/>
                </a:cubicBezTo>
                <a:cubicBezTo>
                  <a:pt x="17066" y="12943"/>
                  <a:pt x="17036" y="13120"/>
                  <a:pt x="17090" y="13146"/>
                </a:cubicBezTo>
                <a:cubicBezTo>
                  <a:pt x="17141" y="13171"/>
                  <a:pt x="17224" y="13135"/>
                  <a:pt x="17264" y="13122"/>
                </a:cubicBezTo>
                <a:cubicBezTo>
                  <a:pt x="17298" y="13111"/>
                  <a:pt x="17332" y="13107"/>
                  <a:pt x="17363" y="13097"/>
                </a:cubicBezTo>
                <a:cubicBezTo>
                  <a:pt x="17388" y="13097"/>
                  <a:pt x="17396" y="13097"/>
                  <a:pt x="17413" y="13097"/>
                </a:cubicBezTo>
              </a:path>
              <a:path w="2680" h="721">
                <a:moveTo>
                  <a:pt x="17314" y="12998"/>
                </a:moveTo>
                <a:cubicBezTo>
                  <a:pt x="17240" y="13016"/>
                  <a:pt x="17264" y="13076"/>
                  <a:pt x="17264" y="13146"/>
                </a:cubicBezTo>
                <a:cubicBezTo>
                  <a:pt x="17264" y="13231"/>
                  <a:pt x="17271" y="13292"/>
                  <a:pt x="17289" y="13370"/>
                </a:cubicBezTo>
                <a:cubicBezTo>
                  <a:pt x="17289" y="13378"/>
                  <a:pt x="17289" y="13387"/>
                  <a:pt x="17289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89160" y="3133800"/>
            <a:ext cx="125640" cy="196920"/>
          </a:xfrm>
          <a:custGeom>
            <a:avLst/>
            <a:gdLst/>
            <a:ahLst/>
            <a:rect l="l" t="t" r="r" b="b"/>
            <a:pathLst>
              <a:path w="349" h="547">
                <a:moveTo>
                  <a:pt x="8582" y="8806"/>
                </a:moveTo>
                <a:cubicBezTo>
                  <a:pt x="8582" y="8830"/>
                  <a:pt x="8582" y="8839"/>
                  <a:pt x="8582" y="8855"/>
                </a:cubicBezTo>
                <a:cubicBezTo>
                  <a:pt x="8591" y="8818"/>
                  <a:pt x="8621" y="8780"/>
                  <a:pt x="8657" y="8756"/>
                </a:cubicBezTo>
                <a:cubicBezTo>
                  <a:pt x="8715" y="8718"/>
                  <a:pt x="8738" y="8706"/>
                  <a:pt x="8806" y="8706"/>
                </a:cubicBezTo>
                <a:cubicBezTo>
                  <a:pt x="8866" y="8706"/>
                  <a:pt x="8876" y="8759"/>
                  <a:pt x="8880" y="8806"/>
                </a:cubicBezTo>
                <a:cubicBezTo>
                  <a:pt x="8884" y="8858"/>
                  <a:pt x="8839" y="8918"/>
                  <a:pt x="8806" y="8954"/>
                </a:cubicBezTo>
                <a:cubicBezTo>
                  <a:pt x="8772" y="8991"/>
                  <a:pt x="8742" y="9034"/>
                  <a:pt x="8731" y="9079"/>
                </a:cubicBezTo>
                <a:cubicBezTo>
                  <a:pt x="8765" y="9104"/>
                  <a:pt x="8794" y="9112"/>
                  <a:pt x="8830" y="9128"/>
                </a:cubicBezTo>
                <a:cubicBezTo>
                  <a:pt x="8878" y="9149"/>
                  <a:pt x="8924" y="9148"/>
                  <a:pt x="8930" y="9203"/>
                </a:cubicBezTo>
                <a:cubicBezTo>
                  <a:pt x="8930" y="9227"/>
                  <a:pt x="8930" y="9236"/>
                  <a:pt x="8930" y="9252"/>
                </a:cubicBezTo>
                <a:cubicBezTo>
                  <a:pt x="8863" y="9252"/>
                  <a:pt x="8812" y="9256"/>
                  <a:pt x="8756" y="9227"/>
                </a:cubicBezTo>
                <a:cubicBezTo>
                  <a:pt x="8707" y="9202"/>
                  <a:pt x="8696" y="9207"/>
                  <a:pt x="8657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rawing lines to solve equ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5545080" cy="4759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12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3x -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51640" y="1197000"/>
            <a:ext cx="331308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Arial"/>
              </a:rPr>
              <a:t>y = x</a:t>
            </a:r>
            <a:r>
              <a:rPr b="0" lang="en-GB" sz="1800" spc="-1" strike="noStrike" baseline="30000">
                <a:solidFill>
                  <a:srgbClr val="9933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9933ff"/>
                </a:solidFill>
                <a:latin typeface="Arial"/>
              </a:rPr>
              <a:t> – 3x – 6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Arial"/>
              </a:rPr>
              <a:t>solutions: x = -1.4, x = 4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767ff"/>
                </a:solidFill>
                <a:latin typeface="Arial"/>
              </a:rPr>
              <a:t>x</a:t>
            </a:r>
            <a:r>
              <a:rPr b="0" lang="en-GB" sz="1800" spc="-1" strike="noStrike" baseline="30000">
                <a:solidFill>
                  <a:srgbClr val="6767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6767ff"/>
                </a:solidFill>
                <a:latin typeface="Arial"/>
              </a:rPr>
              <a:t> – 3x – 2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767ff"/>
                </a:solidFill>
                <a:latin typeface="Arial"/>
              </a:rPr>
              <a:t>y = x</a:t>
            </a:r>
            <a:r>
              <a:rPr b="0" lang="en-GB" sz="1800" spc="-1" strike="noStrike" baseline="30000">
                <a:solidFill>
                  <a:srgbClr val="6767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6767ff"/>
                </a:solidFill>
                <a:latin typeface="Arial"/>
              </a:rPr>
              <a:t> – 3x – 2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767ff"/>
                </a:solidFill>
                <a:latin typeface="Arial"/>
              </a:rPr>
              <a:t>y = x</a:t>
            </a:r>
            <a:r>
              <a:rPr b="0" lang="en-GB" sz="1800" spc="-1" strike="noStrike" baseline="30000">
                <a:solidFill>
                  <a:srgbClr val="6767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6767ff"/>
                </a:solidFill>
                <a:latin typeface="Arial"/>
              </a:rPr>
              <a:t> – 3x – 6 =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767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767ff"/>
                </a:solidFill>
                <a:latin typeface="Arial"/>
              </a:rPr>
              <a:t>y = x</a:t>
            </a:r>
            <a:r>
              <a:rPr b="0" lang="en-GB" sz="1800" spc="-1" strike="noStrike" baseline="30000">
                <a:solidFill>
                  <a:srgbClr val="6767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6767ff"/>
                </a:solidFill>
                <a:latin typeface="Arial"/>
              </a:rPr>
              <a:t> – 3x – 6 AND y =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767ff"/>
                </a:solidFill>
                <a:latin typeface="Arial"/>
              </a:rPr>
              <a:t>solutions: x = -0.6, x = 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y = x</a:t>
            </a:r>
            <a:r>
              <a:rPr b="0" lang="en-GB" sz="1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– 4x + 2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y = x</a:t>
            </a:r>
            <a:r>
              <a:rPr b="0" lang="en-GB" sz="1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– 3x + 2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y = x</a:t>
            </a:r>
            <a:r>
              <a:rPr b="0" lang="en-GB" sz="1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– 3x – 6 = x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y = x</a:t>
            </a:r>
            <a:r>
              <a:rPr b="0" lang="en-GB" sz="1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– 3x – 6 and y = x -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x = 0.5, x = 3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10920" y="2997360"/>
            <a:ext cx="4608360" cy="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88520" y="4284720"/>
            <a:ext cx="4969080" cy="0"/>
          </a:xfrm>
          <a:prstGeom prst="line">
            <a:avLst/>
          </a:prstGeom>
          <a:ln w="381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800360" y="3338280"/>
            <a:ext cx="3598560" cy="229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37200" y="3044880"/>
            <a:ext cx="0" cy="1233360"/>
          </a:xfrm>
          <a:prstGeom prst="line">
            <a:avLst/>
          </a:prstGeom>
          <a:ln w="381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50880" y="3005280"/>
            <a:ext cx="0" cy="1233360"/>
          </a:xfrm>
          <a:prstGeom prst="line">
            <a:avLst/>
          </a:prstGeom>
          <a:ln w="381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249640" y="3019320"/>
            <a:ext cx="0" cy="2322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368960" y="3005280"/>
            <a:ext cx="0" cy="985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07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732040" y="428760"/>
            <a:ext cx="509760" cy="258480"/>
          </a:xfrm>
          <a:custGeom>
            <a:avLst/>
            <a:gdLst/>
            <a:ahLst/>
            <a:rect l="l" t="t" r="r" b="b"/>
            <a:pathLst>
              <a:path w="1415" h="720">
                <a:moveTo>
                  <a:pt x="7813" y="1736"/>
                </a:moveTo>
                <a:cubicBezTo>
                  <a:pt x="7838" y="1736"/>
                  <a:pt x="7846" y="1736"/>
                  <a:pt x="7863" y="1736"/>
                </a:cubicBezTo>
                <a:cubicBezTo>
                  <a:pt x="7850" y="1698"/>
                  <a:pt x="7815" y="1690"/>
                  <a:pt x="7764" y="1687"/>
                </a:cubicBezTo>
                <a:cubicBezTo>
                  <a:pt x="7704" y="1683"/>
                  <a:pt x="7637" y="1709"/>
                  <a:pt x="7590" y="1736"/>
                </a:cubicBezTo>
              </a:path>
              <a:path w="1415" h="720">
                <a:moveTo>
                  <a:pt x="8334" y="1463"/>
                </a:moveTo>
                <a:cubicBezTo>
                  <a:pt x="8321" y="1438"/>
                  <a:pt x="8278" y="1472"/>
                  <a:pt x="8260" y="1513"/>
                </a:cubicBezTo>
                <a:cubicBezTo>
                  <a:pt x="8243" y="1551"/>
                  <a:pt x="8266" y="1624"/>
                  <a:pt x="8310" y="1637"/>
                </a:cubicBezTo>
                <a:cubicBezTo>
                  <a:pt x="8370" y="1654"/>
                  <a:pt x="8481" y="1655"/>
                  <a:pt x="8533" y="1687"/>
                </a:cubicBezTo>
                <a:cubicBezTo>
                  <a:pt x="8560" y="1703"/>
                  <a:pt x="8631" y="1767"/>
                  <a:pt x="8607" y="1811"/>
                </a:cubicBezTo>
                <a:cubicBezTo>
                  <a:pt x="8572" y="1875"/>
                  <a:pt x="8468" y="1883"/>
                  <a:pt x="8409" y="1885"/>
                </a:cubicBezTo>
                <a:cubicBezTo>
                  <a:pt x="8321" y="1888"/>
                  <a:pt x="8265" y="1887"/>
                  <a:pt x="8186" y="1860"/>
                </a:cubicBezTo>
              </a:path>
              <a:path w="1415" h="720">
                <a:moveTo>
                  <a:pt x="8558" y="1290"/>
                </a:moveTo>
                <a:cubicBezTo>
                  <a:pt x="8577" y="1229"/>
                  <a:pt x="8596" y="1215"/>
                  <a:pt x="8558" y="1191"/>
                </a:cubicBezTo>
                <a:cubicBezTo>
                  <a:pt x="8482" y="1191"/>
                  <a:pt x="8403" y="1204"/>
                  <a:pt x="8334" y="1240"/>
                </a:cubicBezTo>
                <a:cubicBezTo>
                  <a:pt x="8284" y="1266"/>
                  <a:pt x="8230" y="1304"/>
                  <a:pt x="8186" y="1339"/>
                </a:cubicBezTo>
              </a:path>
              <a:path w="1415" h="720">
                <a:moveTo>
                  <a:pt x="8979" y="1811"/>
                </a:moveTo>
                <a:cubicBezTo>
                  <a:pt x="8987" y="1803"/>
                  <a:pt x="8996" y="1794"/>
                  <a:pt x="9004" y="1786"/>
                </a:cubicBezTo>
                <a:cubicBezTo>
                  <a:pt x="8991" y="1825"/>
                  <a:pt x="8948" y="1828"/>
                  <a:pt x="8905" y="1860"/>
                </a:cubicBezTo>
                <a:cubicBezTo>
                  <a:pt x="8880" y="1885"/>
                  <a:pt x="8872" y="1893"/>
                  <a:pt x="8855" y="19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02000" y="465120"/>
            <a:ext cx="19080" cy="1872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9451" y="1315"/>
                </a:moveTo>
                <a:cubicBezTo>
                  <a:pt x="9451" y="1250"/>
                  <a:pt x="9451" y="1412"/>
                  <a:pt x="9451" y="1439"/>
                </a:cubicBezTo>
                <a:cubicBezTo>
                  <a:pt x="9451" y="1548"/>
                  <a:pt x="9438" y="1657"/>
                  <a:pt x="9475" y="1761"/>
                </a:cubicBezTo>
                <a:cubicBezTo>
                  <a:pt x="9483" y="1778"/>
                  <a:pt x="9492" y="1794"/>
                  <a:pt x="9500" y="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1330200"/>
            <a:ext cx="1150920" cy="455760"/>
          </a:xfrm>
          <a:custGeom>
            <a:avLst/>
            <a:gdLst/>
            <a:ahLst/>
            <a:rect l="l" t="t" r="r" b="b"/>
            <a:pathLst>
              <a:path w="3200" h="1266">
                <a:moveTo>
                  <a:pt x="7045" y="4564"/>
                </a:moveTo>
                <a:cubicBezTo>
                  <a:pt x="7053" y="4564"/>
                  <a:pt x="7061" y="4564"/>
                  <a:pt x="7069" y="4564"/>
                </a:cubicBezTo>
                <a:cubicBezTo>
                  <a:pt x="7057" y="4526"/>
                  <a:pt x="7040" y="4539"/>
                  <a:pt x="6995" y="4539"/>
                </a:cubicBezTo>
                <a:cubicBezTo>
                  <a:pt x="6921" y="4539"/>
                  <a:pt x="6846" y="4539"/>
                  <a:pt x="6772" y="4539"/>
                </a:cubicBezTo>
              </a:path>
              <a:path w="3200" h="1266">
                <a:moveTo>
                  <a:pt x="7367" y="4291"/>
                </a:moveTo>
                <a:cubicBezTo>
                  <a:pt x="7392" y="4291"/>
                  <a:pt x="7400" y="4291"/>
                  <a:pt x="7392" y="4266"/>
                </a:cubicBezTo>
                <a:cubicBezTo>
                  <a:pt x="7382" y="4306"/>
                  <a:pt x="7344" y="4354"/>
                  <a:pt x="7317" y="4390"/>
                </a:cubicBezTo>
                <a:cubicBezTo>
                  <a:pt x="7295" y="4420"/>
                  <a:pt x="7267" y="4489"/>
                  <a:pt x="7317" y="4514"/>
                </a:cubicBezTo>
                <a:cubicBezTo>
                  <a:pt x="7365" y="4537"/>
                  <a:pt x="7418" y="4525"/>
                  <a:pt x="7466" y="4539"/>
                </a:cubicBezTo>
                <a:cubicBezTo>
                  <a:pt x="7513" y="4553"/>
                  <a:pt x="7560" y="4591"/>
                  <a:pt x="7565" y="4638"/>
                </a:cubicBezTo>
                <a:cubicBezTo>
                  <a:pt x="7572" y="4707"/>
                  <a:pt x="7454" y="4688"/>
                  <a:pt x="7417" y="4688"/>
                </a:cubicBezTo>
                <a:cubicBezTo>
                  <a:pt x="7364" y="4688"/>
                  <a:pt x="7360" y="4674"/>
                  <a:pt x="7317" y="4663"/>
                </a:cubicBezTo>
              </a:path>
              <a:path w="3200" h="1266">
                <a:moveTo>
                  <a:pt x="7640" y="4266"/>
                </a:moveTo>
                <a:cubicBezTo>
                  <a:pt x="7663" y="4244"/>
                  <a:pt x="7671" y="4239"/>
                  <a:pt x="7665" y="4217"/>
                </a:cubicBezTo>
                <a:cubicBezTo>
                  <a:pt x="7582" y="4217"/>
                  <a:pt x="7517" y="4229"/>
                  <a:pt x="7441" y="4242"/>
                </a:cubicBezTo>
                <a:cubicBezTo>
                  <a:pt x="7425" y="4242"/>
                  <a:pt x="7408" y="4242"/>
                  <a:pt x="7392" y="4242"/>
                </a:cubicBezTo>
              </a:path>
              <a:path w="3200" h="1266">
                <a:moveTo>
                  <a:pt x="7838" y="4638"/>
                </a:moveTo>
                <a:cubicBezTo>
                  <a:pt x="7863" y="4638"/>
                  <a:pt x="7871" y="4638"/>
                  <a:pt x="7863" y="4663"/>
                </a:cubicBezTo>
              </a:path>
              <a:path w="3200" h="1266">
                <a:moveTo>
                  <a:pt x="8111" y="4291"/>
                </a:moveTo>
                <a:cubicBezTo>
                  <a:pt x="8111" y="4231"/>
                  <a:pt x="8092" y="4329"/>
                  <a:pt x="8086" y="4341"/>
                </a:cubicBezTo>
                <a:cubicBezTo>
                  <a:pt x="8071" y="4370"/>
                  <a:pt x="8033" y="4413"/>
                  <a:pt x="8086" y="4440"/>
                </a:cubicBezTo>
                <a:cubicBezTo>
                  <a:pt x="8133" y="4464"/>
                  <a:pt x="8187" y="4451"/>
                  <a:pt x="8235" y="4465"/>
                </a:cubicBezTo>
                <a:cubicBezTo>
                  <a:pt x="8283" y="4479"/>
                  <a:pt x="8329" y="4516"/>
                  <a:pt x="8334" y="4564"/>
                </a:cubicBezTo>
                <a:cubicBezTo>
                  <a:pt x="8334" y="4589"/>
                  <a:pt x="8334" y="4597"/>
                  <a:pt x="8334" y="4614"/>
                </a:cubicBezTo>
                <a:cubicBezTo>
                  <a:pt x="8243" y="4614"/>
                  <a:pt x="8153" y="4614"/>
                  <a:pt x="8062" y="4614"/>
                </a:cubicBezTo>
              </a:path>
              <a:path w="3200" h="1266">
                <a:moveTo>
                  <a:pt x="8310" y="4217"/>
                </a:moveTo>
                <a:cubicBezTo>
                  <a:pt x="8330" y="4176"/>
                  <a:pt x="8338" y="4170"/>
                  <a:pt x="8334" y="4142"/>
                </a:cubicBezTo>
                <a:cubicBezTo>
                  <a:pt x="8258" y="4142"/>
                  <a:pt x="8254" y="4176"/>
                  <a:pt x="8186" y="4192"/>
                </a:cubicBezTo>
                <a:cubicBezTo>
                  <a:pt x="8169" y="4192"/>
                  <a:pt x="8153" y="4192"/>
                  <a:pt x="8136" y="4192"/>
                </a:cubicBezTo>
              </a:path>
              <a:path w="3200" h="1266">
                <a:moveTo>
                  <a:pt x="8706" y="4688"/>
                </a:moveTo>
                <a:cubicBezTo>
                  <a:pt x="8770" y="4688"/>
                  <a:pt x="8674" y="4734"/>
                  <a:pt x="8657" y="4738"/>
                </a:cubicBezTo>
              </a:path>
              <a:path w="3200" h="1266">
                <a:moveTo>
                  <a:pt x="9079" y="4266"/>
                </a:moveTo>
                <a:cubicBezTo>
                  <a:pt x="9063" y="4344"/>
                  <a:pt x="9033" y="4406"/>
                  <a:pt x="9029" y="4490"/>
                </a:cubicBezTo>
                <a:cubicBezTo>
                  <a:pt x="9027" y="4539"/>
                  <a:pt x="9029" y="4589"/>
                  <a:pt x="9029" y="4638"/>
                </a:cubicBezTo>
              </a:path>
              <a:path w="3200" h="1266">
                <a:moveTo>
                  <a:pt x="9277" y="4713"/>
                </a:moveTo>
                <a:cubicBezTo>
                  <a:pt x="9302" y="4713"/>
                  <a:pt x="9310" y="4713"/>
                  <a:pt x="9327" y="4713"/>
                </a:cubicBezTo>
              </a:path>
              <a:path w="3200" h="1266">
                <a:moveTo>
                  <a:pt x="9426" y="4291"/>
                </a:moveTo>
                <a:cubicBezTo>
                  <a:pt x="9426" y="4269"/>
                  <a:pt x="9436" y="4197"/>
                  <a:pt x="9451" y="4192"/>
                </a:cubicBezTo>
                <a:cubicBezTo>
                  <a:pt x="9505" y="4172"/>
                  <a:pt x="9591" y="4131"/>
                  <a:pt x="9649" y="4118"/>
                </a:cubicBezTo>
                <a:cubicBezTo>
                  <a:pt x="9716" y="4104"/>
                  <a:pt x="9752" y="4128"/>
                  <a:pt x="9773" y="4192"/>
                </a:cubicBezTo>
                <a:cubicBezTo>
                  <a:pt x="9796" y="4261"/>
                  <a:pt x="9737" y="4290"/>
                  <a:pt x="9723" y="4341"/>
                </a:cubicBezTo>
                <a:cubicBezTo>
                  <a:pt x="9713" y="4377"/>
                  <a:pt x="9716" y="4443"/>
                  <a:pt x="9748" y="4465"/>
                </a:cubicBezTo>
                <a:cubicBezTo>
                  <a:pt x="9812" y="4509"/>
                  <a:pt x="9883" y="4486"/>
                  <a:pt x="9947" y="4539"/>
                </a:cubicBezTo>
                <a:cubicBezTo>
                  <a:pt x="10010" y="4591"/>
                  <a:pt x="9945" y="4654"/>
                  <a:pt x="9897" y="4688"/>
                </a:cubicBezTo>
                <a:cubicBezTo>
                  <a:pt x="9840" y="4716"/>
                  <a:pt x="9817" y="4727"/>
                  <a:pt x="9773" y="4738"/>
                </a:cubicBezTo>
              </a:path>
              <a:path w="3200" h="1266">
                <a:moveTo>
                  <a:pt x="8657" y="4564"/>
                </a:moveTo>
                <a:cubicBezTo>
                  <a:pt x="8675" y="4509"/>
                  <a:pt x="8692" y="4551"/>
                  <a:pt x="8731" y="4564"/>
                </a:cubicBezTo>
                <a:cubicBezTo>
                  <a:pt x="8770" y="4577"/>
                  <a:pt x="8778" y="4611"/>
                  <a:pt x="8781" y="4663"/>
                </a:cubicBezTo>
                <a:cubicBezTo>
                  <a:pt x="8785" y="4736"/>
                  <a:pt x="8767" y="4753"/>
                  <a:pt x="8731" y="4812"/>
                </a:cubicBezTo>
                <a:cubicBezTo>
                  <a:pt x="8694" y="4873"/>
                  <a:pt x="8643" y="4899"/>
                  <a:pt x="8582" y="4936"/>
                </a:cubicBezTo>
                <a:cubicBezTo>
                  <a:pt x="8538" y="4962"/>
                  <a:pt x="8528" y="4961"/>
                  <a:pt x="8483" y="4961"/>
                </a:cubicBezTo>
              </a:path>
              <a:path w="3200" h="1266">
                <a:moveTo>
                  <a:pt x="8186" y="4316"/>
                </a:moveTo>
                <a:cubicBezTo>
                  <a:pt x="8222" y="4303"/>
                  <a:pt x="8210" y="4286"/>
                  <a:pt x="8210" y="4242"/>
                </a:cubicBezTo>
                <a:cubicBezTo>
                  <a:pt x="8210" y="4217"/>
                  <a:pt x="8210" y="4209"/>
                  <a:pt x="8210" y="4192"/>
                </a:cubicBezTo>
                <a:cubicBezTo>
                  <a:pt x="8210" y="4137"/>
                  <a:pt x="8228" y="4246"/>
                  <a:pt x="8235" y="4266"/>
                </a:cubicBezTo>
                <a:cubicBezTo>
                  <a:pt x="8259" y="4330"/>
                  <a:pt x="8277" y="4375"/>
                  <a:pt x="8285" y="4440"/>
                </a:cubicBezTo>
                <a:cubicBezTo>
                  <a:pt x="8241" y="4418"/>
                  <a:pt x="8182" y="4359"/>
                  <a:pt x="8136" y="4316"/>
                </a:cubicBezTo>
                <a:cubicBezTo>
                  <a:pt x="8113" y="4293"/>
                  <a:pt x="8105" y="4289"/>
                  <a:pt x="8111" y="4266"/>
                </a:cubicBezTo>
                <a:cubicBezTo>
                  <a:pt x="8126" y="4341"/>
                  <a:pt x="8191" y="4368"/>
                  <a:pt x="8210" y="4440"/>
                </a:cubicBezTo>
                <a:cubicBezTo>
                  <a:pt x="8220" y="4476"/>
                  <a:pt x="8215" y="4543"/>
                  <a:pt x="8161" y="4514"/>
                </a:cubicBezTo>
                <a:cubicBezTo>
                  <a:pt x="8138" y="4492"/>
                  <a:pt x="8133" y="4484"/>
                  <a:pt x="8111" y="4490"/>
                </a:cubicBezTo>
                <a:cubicBezTo>
                  <a:pt x="8111" y="4545"/>
                  <a:pt x="8133" y="4583"/>
                  <a:pt x="8136" y="4638"/>
                </a:cubicBezTo>
                <a:cubicBezTo>
                  <a:pt x="8136" y="4655"/>
                  <a:pt x="8136" y="4671"/>
                  <a:pt x="8136" y="4688"/>
                </a:cubicBezTo>
                <a:cubicBezTo>
                  <a:pt x="8069" y="4688"/>
                  <a:pt x="8058" y="4683"/>
                  <a:pt x="8012" y="4638"/>
                </a:cubicBezTo>
                <a:cubicBezTo>
                  <a:pt x="8004" y="4630"/>
                  <a:pt x="7995" y="4622"/>
                  <a:pt x="7987" y="4614"/>
                </a:cubicBezTo>
                <a:cubicBezTo>
                  <a:pt x="8031" y="4625"/>
                  <a:pt x="8052" y="4653"/>
                  <a:pt x="8086" y="4688"/>
                </a:cubicBezTo>
              </a:path>
              <a:path w="3200" h="1266">
                <a:moveTo>
                  <a:pt x="8111" y="3894"/>
                </a:moveTo>
                <a:cubicBezTo>
                  <a:pt x="8061" y="3882"/>
                  <a:pt x="8062" y="3870"/>
                  <a:pt x="8062" y="3820"/>
                </a:cubicBezTo>
                <a:cubicBezTo>
                  <a:pt x="8062" y="3764"/>
                  <a:pt x="8124" y="3754"/>
                  <a:pt x="8161" y="3721"/>
                </a:cubicBezTo>
                <a:cubicBezTo>
                  <a:pt x="8183" y="3699"/>
                  <a:pt x="8188" y="3690"/>
                  <a:pt x="8210" y="3696"/>
                </a:cubicBezTo>
                <a:cubicBezTo>
                  <a:pt x="8210" y="3745"/>
                  <a:pt x="8194" y="3834"/>
                  <a:pt x="8235" y="3870"/>
                </a:cubicBezTo>
                <a:cubicBezTo>
                  <a:pt x="8262" y="3894"/>
                  <a:pt x="8324" y="3916"/>
                  <a:pt x="8359" y="3944"/>
                </a:cubicBezTo>
                <a:cubicBezTo>
                  <a:pt x="8343" y="4007"/>
                  <a:pt x="8331" y="4024"/>
                  <a:pt x="8285" y="4068"/>
                </a:cubicBezTo>
                <a:cubicBezTo>
                  <a:pt x="8215" y="4134"/>
                  <a:pt x="8148" y="4177"/>
                  <a:pt x="8062" y="42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8960" y="2276640"/>
            <a:ext cx="696960" cy="161640"/>
          </a:xfrm>
          <a:custGeom>
            <a:avLst/>
            <a:gdLst/>
            <a:ahLst/>
            <a:rect l="l" t="t" r="r" b="b"/>
            <a:pathLst>
              <a:path w="1936" h="448">
                <a:moveTo>
                  <a:pt x="1687" y="6598"/>
                </a:moveTo>
                <a:cubicBezTo>
                  <a:pt x="1662" y="6598"/>
                  <a:pt x="1654" y="6598"/>
                  <a:pt x="1637" y="6598"/>
                </a:cubicBezTo>
                <a:cubicBezTo>
                  <a:pt x="1653" y="6576"/>
                  <a:pt x="1677" y="6529"/>
                  <a:pt x="1687" y="6524"/>
                </a:cubicBezTo>
                <a:cubicBezTo>
                  <a:pt x="1724" y="6506"/>
                  <a:pt x="1784" y="6527"/>
                  <a:pt x="1811" y="6548"/>
                </a:cubicBezTo>
                <a:cubicBezTo>
                  <a:pt x="1850" y="6579"/>
                  <a:pt x="1873" y="6624"/>
                  <a:pt x="1885" y="6672"/>
                </a:cubicBezTo>
                <a:cubicBezTo>
                  <a:pt x="1898" y="6723"/>
                  <a:pt x="1834" y="6731"/>
                  <a:pt x="1811" y="6747"/>
                </a:cubicBezTo>
                <a:cubicBezTo>
                  <a:pt x="1774" y="6772"/>
                  <a:pt x="1781" y="6772"/>
                  <a:pt x="1736" y="6772"/>
                </a:cubicBezTo>
              </a:path>
              <a:path w="1936" h="448">
                <a:moveTo>
                  <a:pt x="1935" y="6474"/>
                </a:moveTo>
                <a:cubicBezTo>
                  <a:pt x="1943" y="6466"/>
                  <a:pt x="1952" y="6457"/>
                  <a:pt x="1960" y="6449"/>
                </a:cubicBezTo>
                <a:cubicBezTo>
                  <a:pt x="1948" y="6499"/>
                  <a:pt x="1898" y="6518"/>
                  <a:pt x="1885" y="6573"/>
                </a:cubicBezTo>
                <a:cubicBezTo>
                  <a:pt x="1878" y="6604"/>
                  <a:pt x="1872" y="6727"/>
                  <a:pt x="1910" y="6747"/>
                </a:cubicBezTo>
                <a:cubicBezTo>
                  <a:pt x="1950" y="6768"/>
                  <a:pt x="2049" y="6746"/>
                  <a:pt x="2084" y="6722"/>
                </a:cubicBezTo>
                <a:cubicBezTo>
                  <a:pt x="2110" y="6704"/>
                  <a:pt x="2114" y="6673"/>
                  <a:pt x="2133" y="6648"/>
                </a:cubicBezTo>
              </a:path>
              <a:path w="1936" h="448">
                <a:moveTo>
                  <a:pt x="2232" y="6400"/>
                </a:moveTo>
                <a:cubicBezTo>
                  <a:pt x="2208" y="6400"/>
                  <a:pt x="2199" y="6400"/>
                  <a:pt x="2183" y="6400"/>
                </a:cubicBezTo>
                <a:cubicBezTo>
                  <a:pt x="2183" y="6374"/>
                  <a:pt x="2182" y="6302"/>
                  <a:pt x="2232" y="6325"/>
                </a:cubicBezTo>
                <a:cubicBezTo>
                  <a:pt x="2270" y="6342"/>
                  <a:pt x="2257" y="6391"/>
                  <a:pt x="2257" y="6424"/>
                </a:cubicBezTo>
                <a:cubicBezTo>
                  <a:pt x="2257" y="6478"/>
                  <a:pt x="2245" y="6517"/>
                  <a:pt x="2307" y="6524"/>
                </a:cubicBezTo>
                <a:cubicBezTo>
                  <a:pt x="2348" y="6529"/>
                  <a:pt x="2349" y="6523"/>
                  <a:pt x="2381" y="6499"/>
                </a:cubicBezTo>
              </a:path>
              <a:path w="1936" h="448">
                <a:moveTo>
                  <a:pt x="2803" y="6573"/>
                </a:moveTo>
                <a:cubicBezTo>
                  <a:pt x="2803" y="6565"/>
                  <a:pt x="2803" y="6556"/>
                  <a:pt x="2803" y="6548"/>
                </a:cubicBezTo>
                <a:cubicBezTo>
                  <a:pt x="2746" y="6548"/>
                  <a:pt x="2704" y="6540"/>
                  <a:pt x="2654" y="6573"/>
                </a:cubicBezTo>
                <a:cubicBezTo>
                  <a:pt x="2616" y="6598"/>
                  <a:pt x="2603" y="6598"/>
                  <a:pt x="2555" y="6598"/>
                </a:cubicBezTo>
              </a:path>
              <a:path w="1936" h="448">
                <a:moveTo>
                  <a:pt x="2580" y="6474"/>
                </a:moveTo>
                <a:cubicBezTo>
                  <a:pt x="2588" y="6474"/>
                  <a:pt x="2596" y="6474"/>
                  <a:pt x="2604" y="6474"/>
                </a:cubicBezTo>
                <a:cubicBezTo>
                  <a:pt x="2604" y="6527"/>
                  <a:pt x="2624" y="6544"/>
                  <a:pt x="2629" y="6598"/>
                </a:cubicBezTo>
                <a:cubicBezTo>
                  <a:pt x="2629" y="6633"/>
                  <a:pt x="2634" y="6650"/>
                  <a:pt x="2654" y="6672"/>
                </a:cubicBezTo>
              </a:path>
              <a:path w="1936" h="448">
                <a:moveTo>
                  <a:pt x="2877" y="6449"/>
                </a:moveTo>
                <a:cubicBezTo>
                  <a:pt x="2902" y="6449"/>
                  <a:pt x="2910" y="6449"/>
                  <a:pt x="2927" y="6449"/>
                </a:cubicBezTo>
                <a:cubicBezTo>
                  <a:pt x="2927" y="6510"/>
                  <a:pt x="2942" y="6549"/>
                  <a:pt x="2952" y="6598"/>
                </a:cubicBezTo>
                <a:cubicBezTo>
                  <a:pt x="2952" y="6615"/>
                  <a:pt x="2952" y="6631"/>
                  <a:pt x="2952" y="6648"/>
                </a:cubicBezTo>
                <a:cubicBezTo>
                  <a:pt x="2991" y="6657"/>
                  <a:pt x="3007" y="6672"/>
                  <a:pt x="3051" y="6672"/>
                </a:cubicBezTo>
                <a:cubicBezTo>
                  <a:pt x="3100" y="6672"/>
                  <a:pt x="3110" y="6661"/>
                  <a:pt x="3150" y="6648"/>
                </a:cubicBezTo>
                <a:cubicBezTo>
                  <a:pt x="3176" y="6639"/>
                  <a:pt x="3221" y="6648"/>
                  <a:pt x="3249" y="6648"/>
                </a:cubicBezTo>
              </a:path>
              <a:path w="1936" h="448">
                <a:moveTo>
                  <a:pt x="3101" y="6623"/>
                </a:moveTo>
                <a:cubicBezTo>
                  <a:pt x="3101" y="6673"/>
                  <a:pt x="3101" y="6722"/>
                  <a:pt x="3101" y="6772"/>
                </a:cubicBezTo>
              </a:path>
              <a:path w="1936" h="448">
                <a:moveTo>
                  <a:pt x="3249" y="6623"/>
                </a:moveTo>
                <a:cubicBezTo>
                  <a:pt x="3292" y="6591"/>
                  <a:pt x="3317" y="6578"/>
                  <a:pt x="3373" y="6573"/>
                </a:cubicBezTo>
                <a:cubicBezTo>
                  <a:pt x="3416" y="6569"/>
                  <a:pt x="3444" y="6611"/>
                  <a:pt x="3448" y="6648"/>
                </a:cubicBezTo>
                <a:cubicBezTo>
                  <a:pt x="3453" y="6694"/>
                  <a:pt x="3445" y="6717"/>
                  <a:pt x="3398" y="6722"/>
                </a:cubicBezTo>
                <a:cubicBezTo>
                  <a:pt x="3390" y="6722"/>
                  <a:pt x="3381" y="6722"/>
                  <a:pt x="3373" y="6722"/>
                </a:cubicBezTo>
              </a:path>
              <a:path w="1936" h="448">
                <a:moveTo>
                  <a:pt x="3497" y="6548"/>
                </a:moveTo>
                <a:cubicBezTo>
                  <a:pt x="3505" y="6540"/>
                  <a:pt x="3514" y="6532"/>
                  <a:pt x="3522" y="6524"/>
                </a:cubicBezTo>
                <a:cubicBezTo>
                  <a:pt x="3488" y="6535"/>
                  <a:pt x="3476" y="6575"/>
                  <a:pt x="3473" y="6623"/>
                </a:cubicBezTo>
                <a:cubicBezTo>
                  <a:pt x="3469" y="6677"/>
                  <a:pt x="3493" y="6716"/>
                  <a:pt x="3547" y="6722"/>
                </a:cubicBezTo>
                <a:cubicBezTo>
                  <a:pt x="3555" y="6722"/>
                  <a:pt x="3564" y="6722"/>
                  <a:pt x="3572" y="6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93920" y="2394000"/>
            <a:ext cx="61920" cy="1440"/>
          </a:xfrm>
          <a:custGeom>
            <a:avLst/>
            <a:gdLst/>
            <a:ahLst/>
            <a:rect l="l" t="t" r="r" b="b"/>
            <a:pathLst>
              <a:path w="174" h="1">
                <a:moveTo>
                  <a:pt x="3870" y="6648"/>
                </a:moveTo>
                <a:cubicBezTo>
                  <a:pt x="3928" y="6648"/>
                  <a:pt x="3985" y="6648"/>
                  <a:pt x="4043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89040" y="2313000"/>
            <a:ext cx="81000" cy="98280"/>
          </a:xfrm>
          <a:custGeom>
            <a:avLst/>
            <a:gdLst/>
            <a:ahLst/>
            <a:rect l="l" t="t" r="r" b="b"/>
            <a:pathLst>
              <a:path w="224" h="274">
                <a:moveTo>
                  <a:pt x="4415" y="6499"/>
                </a:moveTo>
                <a:cubicBezTo>
                  <a:pt x="4415" y="6471"/>
                  <a:pt x="4417" y="6460"/>
                  <a:pt x="4440" y="6449"/>
                </a:cubicBezTo>
                <a:cubicBezTo>
                  <a:pt x="4427" y="6499"/>
                  <a:pt x="4415" y="6513"/>
                  <a:pt x="4415" y="6573"/>
                </a:cubicBezTo>
                <a:cubicBezTo>
                  <a:pt x="4415" y="6626"/>
                  <a:pt x="4448" y="6623"/>
                  <a:pt x="4490" y="6623"/>
                </a:cubicBezTo>
                <a:cubicBezTo>
                  <a:pt x="4525" y="6623"/>
                  <a:pt x="4570" y="6610"/>
                  <a:pt x="4589" y="6648"/>
                </a:cubicBezTo>
                <a:cubicBezTo>
                  <a:pt x="4620" y="6708"/>
                  <a:pt x="4509" y="6697"/>
                  <a:pt x="4490" y="6697"/>
                </a:cubicBezTo>
                <a:cubicBezTo>
                  <a:pt x="4482" y="6697"/>
                  <a:pt x="4473" y="6697"/>
                  <a:pt x="4465" y="6697"/>
                </a:cubicBezTo>
              </a:path>
              <a:path w="224" h="274">
                <a:moveTo>
                  <a:pt x="4614" y="6449"/>
                </a:moveTo>
                <a:cubicBezTo>
                  <a:pt x="4622" y="6441"/>
                  <a:pt x="4630" y="6432"/>
                  <a:pt x="4638" y="6424"/>
                </a:cubicBezTo>
                <a:cubicBezTo>
                  <a:pt x="4584" y="6424"/>
                  <a:pt x="4566" y="6427"/>
                  <a:pt x="4514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8320" y="2357280"/>
            <a:ext cx="44640" cy="27000"/>
          </a:xfrm>
          <a:custGeom>
            <a:avLst/>
            <a:gdLst/>
            <a:ahLst/>
            <a:rect l="l" t="t" r="r" b="b"/>
            <a:pathLst>
              <a:path w="125" h="76">
                <a:moveTo>
                  <a:pt x="5011" y="6548"/>
                </a:moveTo>
                <a:cubicBezTo>
                  <a:pt x="4966" y="6548"/>
                  <a:pt x="4950" y="6563"/>
                  <a:pt x="4911" y="6573"/>
                </a:cubicBezTo>
              </a:path>
              <a:path w="125" h="76">
                <a:moveTo>
                  <a:pt x="5011" y="6623"/>
                </a:moveTo>
                <a:cubicBezTo>
                  <a:pt x="5019" y="6623"/>
                  <a:pt x="5027" y="6623"/>
                  <a:pt x="5035" y="6623"/>
                </a:cubicBezTo>
                <a:cubicBezTo>
                  <a:pt x="5002" y="6623"/>
                  <a:pt x="4969" y="6623"/>
                  <a:pt x="4936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11240" y="2357280"/>
            <a:ext cx="71640" cy="9720"/>
          </a:xfrm>
          <a:custGeom>
            <a:avLst/>
            <a:gdLst/>
            <a:ahLst/>
            <a:rect l="l" t="t" r="r" b="b"/>
            <a:pathLst>
              <a:path w="200" h="26">
                <a:moveTo>
                  <a:pt x="5308" y="6573"/>
                </a:moveTo>
                <a:cubicBezTo>
                  <a:pt x="5365" y="6573"/>
                  <a:pt x="5386" y="6563"/>
                  <a:pt x="5432" y="6548"/>
                </a:cubicBezTo>
                <a:cubicBezTo>
                  <a:pt x="5451" y="6542"/>
                  <a:pt x="5487" y="6548"/>
                  <a:pt x="5507" y="6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98800" y="2303640"/>
            <a:ext cx="17280" cy="107640"/>
          </a:xfrm>
          <a:custGeom>
            <a:avLst/>
            <a:gdLst/>
            <a:ahLst/>
            <a:rect l="l" t="t" r="r" b="b"/>
            <a:pathLst>
              <a:path w="51" h="298">
                <a:moveTo>
                  <a:pt x="5829" y="6424"/>
                </a:moveTo>
                <a:cubicBezTo>
                  <a:pt x="5829" y="6400"/>
                  <a:pt x="5829" y="6392"/>
                  <a:pt x="5854" y="6400"/>
                </a:cubicBezTo>
                <a:cubicBezTo>
                  <a:pt x="5854" y="6488"/>
                  <a:pt x="5867" y="6563"/>
                  <a:pt x="5879" y="6648"/>
                </a:cubicBezTo>
                <a:cubicBezTo>
                  <a:pt x="5879" y="6664"/>
                  <a:pt x="5879" y="6681"/>
                  <a:pt x="5879" y="6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89120" y="2178000"/>
            <a:ext cx="135000" cy="16200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7243" y="6375"/>
                </a:moveTo>
                <a:cubicBezTo>
                  <a:pt x="7243" y="6329"/>
                  <a:pt x="7223" y="6316"/>
                  <a:pt x="7218" y="6276"/>
                </a:cubicBezTo>
                <a:cubicBezTo>
                  <a:pt x="7211" y="6218"/>
                  <a:pt x="7208" y="6145"/>
                  <a:pt x="7243" y="6102"/>
                </a:cubicBezTo>
                <a:cubicBezTo>
                  <a:pt x="7292" y="6041"/>
                  <a:pt x="7336" y="6047"/>
                  <a:pt x="7392" y="6077"/>
                </a:cubicBezTo>
                <a:cubicBezTo>
                  <a:pt x="7491" y="6130"/>
                  <a:pt x="7508" y="6224"/>
                  <a:pt x="7541" y="6325"/>
                </a:cubicBezTo>
                <a:cubicBezTo>
                  <a:pt x="7569" y="6409"/>
                  <a:pt x="7595" y="6487"/>
                  <a:pt x="7491" y="6499"/>
                </a:cubicBezTo>
                <a:cubicBezTo>
                  <a:pt x="7403" y="6509"/>
                  <a:pt x="7326" y="6495"/>
                  <a:pt x="7268" y="6424"/>
                </a:cubicBezTo>
                <a:cubicBezTo>
                  <a:pt x="7224" y="6371"/>
                  <a:pt x="7210" y="6359"/>
                  <a:pt x="7193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30680" y="2170080"/>
            <a:ext cx="241200" cy="22392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7863" y="6449"/>
                </a:moveTo>
                <a:cubicBezTo>
                  <a:pt x="7871" y="6449"/>
                  <a:pt x="7880" y="6449"/>
                  <a:pt x="7888" y="6449"/>
                </a:cubicBezTo>
              </a:path>
              <a:path w="671" h="621">
                <a:moveTo>
                  <a:pt x="8210" y="6052"/>
                </a:moveTo>
                <a:cubicBezTo>
                  <a:pt x="8218" y="6052"/>
                  <a:pt x="8227" y="6052"/>
                  <a:pt x="8235" y="6052"/>
                </a:cubicBezTo>
                <a:cubicBezTo>
                  <a:pt x="8222" y="6016"/>
                  <a:pt x="8205" y="6028"/>
                  <a:pt x="8161" y="6028"/>
                </a:cubicBezTo>
                <a:cubicBezTo>
                  <a:pt x="8094" y="6028"/>
                  <a:pt x="8064" y="6030"/>
                  <a:pt x="8012" y="6077"/>
                </a:cubicBezTo>
                <a:cubicBezTo>
                  <a:pt x="7981" y="6105"/>
                  <a:pt x="7987" y="6114"/>
                  <a:pt x="7987" y="6152"/>
                </a:cubicBezTo>
                <a:cubicBezTo>
                  <a:pt x="8035" y="6163"/>
                  <a:pt x="8068" y="6200"/>
                  <a:pt x="8111" y="6226"/>
                </a:cubicBezTo>
                <a:cubicBezTo>
                  <a:pt x="8174" y="6264"/>
                  <a:pt x="8229" y="6266"/>
                  <a:pt x="8235" y="6350"/>
                </a:cubicBezTo>
                <a:cubicBezTo>
                  <a:pt x="8237" y="6378"/>
                  <a:pt x="8250" y="6462"/>
                  <a:pt x="8210" y="6474"/>
                </a:cubicBezTo>
                <a:cubicBezTo>
                  <a:pt x="8185" y="6482"/>
                  <a:pt x="8112" y="6474"/>
                  <a:pt x="8086" y="6474"/>
                </a:cubicBezTo>
                <a:cubicBezTo>
                  <a:pt x="8097" y="6418"/>
                  <a:pt x="8130" y="6374"/>
                  <a:pt x="8161" y="6325"/>
                </a:cubicBezTo>
                <a:cubicBezTo>
                  <a:pt x="8199" y="6265"/>
                  <a:pt x="8244" y="6179"/>
                  <a:pt x="8310" y="6152"/>
                </a:cubicBezTo>
                <a:cubicBezTo>
                  <a:pt x="8318" y="6152"/>
                  <a:pt x="8326" y="6152"/>
                  <a:pt x="8334" y="6152"/>
                </a:cubicBezTo>
              </a:path>
              <a:path w="671" h="621">
                <a:moveTo>
                  <a:pt x="8508" y="6474"/>
                </a:moveTo>
                <a:cubicBezTo>
                  <a:pt x="8516" y="6474"/>
                  <a:pt x="8525" y="6474"/>
                  <a:pt x="8533" y="6474"/>
                </a:cubicBezTo>
                <a:cubicBezTo>
                  <a:pt x="8519" y="6532"/>
                  <a:pt x="8470" y="6547"/>
                  <a:pt x="8434" y="6598"/>
                </a:cubicBezTo>
                <a:cubicBezTo>
                  <a:pt x="8426" y="6615"/>
                  <a:pt x="8417" y="6631"/>
                  <a:pt x="8409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97160" y="2178000"/>
            <a:ext cx="357120" cy="171360"/>
          </a:xfrm>
          <a:custGeom>
            <a:avLst/>
            <a:gdLst/>
            <a:ahLst/>
            <a:rect l="l" t="t" r="r" b="b"/>
            <a:pathLst>
              <a:path w="993" h="473">
                <a:moveTo>
                  <a:pt x="8905" y="6375"/>
                </a:moveTo>
                <a:cubicBezTo>
                  <a:pt x="8897" y="6375"/>
                  <a:pt x="8888" y="6375"/>
                  <a:pt x="8880" y="6375"/>
                </a:cubicBezTo>
                <a:cubicBezTo>
                  <a:pt x="8889" y="6347"/>
                  <a:pt x="8914" y="6330"/>
                  <a:pt x="8954" y="6325"/>
                </a:cubicBezTo>
                <a:cubicBezTo>
                  <a:pt x="9002" y="6320"/>
                  <a:pt x="9054" y="6325"/>
                  <a:pt x="9103" y="6325"/>
                </a:cubicBezTo>
              </a:path>
              <a:path w="993" h="473">
                <a:moveTo>
                  <a:pt x="9302" y="6102"/>
                </a:moveTo>
                <a:cubicBezTo>
                  <a:pt x="9322" y="6062"/>
                  <a:pt x="9320" y="6045"/>
                  <a:pt x="9351" y="6052"/>
                </a:cubicBezTo>
                <a:cubicBezTo>
                  <a:pt x="9351" y="6180"/>
                  <a:pt x="9348" y="6303"/>
                  <a:pt x="9376" y="6424"/>
                </a:cubicBezTo>
                <a:cubicBezTo>
                  <a:pt x="9386" y="6468"/>
                  <a:pt x="9427" y="6449"/>
                  <a:pt x="9475" y="6449"/>
                </a:cubicBezTo>
                <a:cubicBezTo>
                  <a:pt x="9546" y="6449"/>
                  <a:pt x="9585" y="6435"/>
                  <a:pt x="9649" y="6424"/>
                </a:cubicBezTo>
                <a:cubicBezTo>
                  <a:pt x="9652" y="6423"/>
                  <a:pt x="9812" y="6420"/>
                  <a:pt x="9773" y="6449"/>
                </a:cubicBezTo>
                <a:cubicBezTo>
                  <a:pt x="9765" y="6449"/>
                  <a:pt x="9756" y="6449"/>
                  <a:pt x="9748" y="6449"/>
                </a:cubicBezTo>
              </a:path>
              <a:path w="993" h="473">
                <a:moveTo>
                  <a:pt x="9550" y="6276"/>
                </a:moveTo>
                <a:cubicBezTo>
                  <a:pt x="9550" y="6342"/>
                  <a:pt x="9550" y="6408"/>
                  <a:pt x="9550" y="6474"/>
                </a:cubicBezTo>
              </a:path>
              <a:path w="993" h="473">
                <a:moveTo>
                  <a:pt x="9823" y="6524"/>
                </a:moveTo>
                <a:cubicBezTo>
                  <a:pt x="9847" y="6524"/>
                  <a:pt x="9856" y="6524"/>
                  <a:pt x="9872" y="6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70200" y="2152800"/>
            <a:ext cx="115920" cy="177480"/>
          </a:xfrm>
          <a:custGeom>
            <a:avLst/>
            <a:gdLst/>
            <a:ahLst/>
            <a:rect l="l" t="t" r="r" b="b"/>
            <a:pathLst>
              <a:path w="323" h="497">
                <a:moveTo>
                  <a:pt x="10418" y="6127"/>
                </a:moveTo>
                <a:cubicBezTo>
                  <a:pt x="10447" y="6098"/>
                  <a:pt x="10459" y="6089"/>
                  <a:pt x="10468" y="6052"/>
                </a:cubicBezTo>
                <a:cubicBezTo>
                  <a:pt x="10412" y="6052"/>
                  <a:pt x="10369" y="6046"/>
                  <a:pt x="10319" y="6077"/>
                </a:cubicBezTo>
                <a:cubicBezTo>
                  <a:pt x="10272" y="6106"/>
                  <a:pt x="10216" y="6148"/>
                  <a:pt x="10195" y="6201"/>
                </a:cubicBezTo>
                <a:cubicBezTo>
                  <a:pt x="10182" y="6234"/>
                  <a:pt x="10210" y="6291"/>
                  <a:pt x="10244" y="6300"/>
                </a:cubicBezTo>
                <a:cubicBezTo>
                  <a:pt x="10295" y="6314"/>
                  <a:pt x="10383" y="6305"/>
                  <a:pt x="10418" y="6350"/>
                </a:cubicBezTo>
                <a:cubicBezTo>
                  <a:pt x="10450" y="6392"/>
                  <a:pt x="10468" y="6424"/>
                  <a:pt x="10468" y="6474"/>
                </a:cubicBezTo>
                <a:cubicBezTo>
                  <a:pt x="10392" y="6474"/>
                  <a:pt x="10353" y="6476"/>
                  <a:pt x="10294" y="6424"/>
                </a:cubicBezTo>
                <a:cubicBezTo>
                  <a:pt x="10240" y="6376"/>
                  <a:pt x="10290" y="6280"/>
                  <a:pt x="10319" y="6226"/>
                </a:cubicBezTo>
                <a:cubicBezTo>
                  <a:pt x="10371" y="6130"/>
                  <a:pt x="10441" y="6055"/>
                  <a:pt x="10517" y="5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4240" y="2732040"/>
            <a:ext cx="438120" cy="179280"/>
          </a:xfrm>
          <a:custGeom>
            <a:avLst/>
            <a:gdLst/>
            <a:ahLst/>
            <a:rect l="l" t="t" r="r" b="b"/>
            <a:pathLst>
              <a:path w="1217" h="497">
                <a:moveTo>
                  <a:pt x="2034" y="7888"/>
                </a:moveTo>
                <a:cubicBezTo>
                  <a:pt x="2007" y="7879"/>
                  <a:pt x="1988" y="7870"/>
                  <a:pt x="1984" y="7838"/>
                </a:cubicBezTo>
                <a:cubicBezTo>
                  <a:pt x="1978" y="7787"/>
                  <a:pt x="2004" y="7774"/>
                  <a:pt x="2059" y="7764"/>
                </a:cubicBezTo>
                <a:cubicBezTo>
                  <a:pt x="2130" y="7751"/>
                  <a:pt x="2195" y="7770"/>
                  <a:pt x="2232" y="7838"/>
                </a:cubicBezTo>
                <a:cubicBezTo>
                  <a:pt x="2268" y="7904"/>
                  <a:pt x="2273" y="8005"/>
                  <a:pt x="2232" y="8062"/>
                </a:cubicBezTo>
                <a:cubicBezTo>
                  <a:pt x="2193" y="8116"/>
                  <a:pt x="2107" y="8083"/>
                  <a:pt x="2059" y="8062"/>
                </a:cubicBezTo>
                <a:cubicBezTo>
                  <a:pt x="2042" y="8054"/>
                  <a:pt x="2026" y="8045"/>
                  <a:pt x="2009" y="8037"/>
                </a:cubicBezTo>
              </a:path>
              <a:path w="1217" h="497">
                <a:moveTo>
                  <a:pt x="2356" y="7739"/>
                </a:moveTo>
                <a:cubicBezTo>
                  <a:pt x="2383" y="7703"/>
                  <a:pt x="2373" y="7700"/>
                  <a:pt x="2406" y="7689"/>
                </a:cubicBezTo>
                <a:cubicBezTo>
                  <a:pt x="2366" y="7699"/>
                  <a:pt x="2319" y="7746"/>
                  <a:pt x="2307" y="7789"/>
                </a:cubicBezTo>
                <a:cubicBezTo>
                  <a:pt x="2292" y="7845"/>
                  <a:pt x="2313" y="7947"/>
                  <a:pt x="2356" y="7987"/>
                </a:cubicBezTo>
                <a:cubicBezTo>
                  <a:pt x="2404" y="8032"/>
                  <a:pt x="2458" y="8048"/>
                  <a:pt x="2505" y="8012"/>
                </a:cubicBezTo>
              </a:path>
              <a:path w="1217" h="497">
                <a:moveTo>
                  <a:pt x="2580" y="7665"/>
                </a:moveTo>
                <a:cubicBezTo>
                  <a:pt x="2596" y="7598"/>
                  <a:pt x="2611" y="7639"/>
                  <a:pt x="2654" y="7615"/>
                </a:cubicBezTo>
                <a:cubicBezTo>
                  <a:pt x="2662" y="7607"/>
                  <a:pt x="2671" y="7598"/>
                  <a:pt x="2679" y="7590"/>
                </a:cubicBezTo>
                <a:cubicBezTo>
                  <a:pt x="2694" y="7595"/>
                  <a:pt x="2745" y="7631"/>
                  <a:pt x="2729" y="7665"/>
                </a:cubicBezTo>
                <a:cubicBezTo>
                  <a:pt x="2717" y="7692"/>
                  <a:pt x="2683" y="7731"/>
                  <a:pt x="2679" y="7739"/>
                </a:cubicBezTo>
                <a:cubicBezTo>
                  <a:pt x="2679" y="7747"/>
                  <a:pt x="2679" y="7756"/>
                  <a:pt x="2679" y="7764"/>
                </a:cubicBezTo>
                <a:cubicBezTo>
                  <a:pt x="2727" y="7764"/>
                  <a:pt x="2740" y="7768"/>
                  <a:pt x="2778" y="7739"/>
                </a:cubicBezTo>
              </a:path>
              <a:path w="1217" h="497">
                <a:moveTo>
                  <a:pt x="3200" y="7913"/>
                </a:moveTo>
                <a:cubicBezTo>
                  <a:pt x="3200" y="7905"/>
                  <a:pt x="3200" y="7896"/>
                  <a:pt x="3200" y="7888"/>
                </a:cubicBezTo>
                <a:cubicBezTo>
                  <a:pt x="3140" y="7888"/>
                  <a:pt x="3101" y="7898"/>
                  <a:pt x="3051" y="7913"/>
                </a:cubicBezTo>
                <a:cubicBezTo>
                  <a:pt x="3026" y="7913"/>
                  <a:pt x="3018" y="7913"/>
                  <a:pt x="3001" y="7913"/>
                </a:cubicBezTo>
              </a:path>
              <a:path w="1217" h="497">
                <a:moveTo>
                  <a:pt x="3076" y="7764"/>
                </a:moveTo>
                <a:cubicBezTo>
                  <a:pt x="3076" y="7830"/>
                  <a:pt x="3076" y="7896"/>
                  <a:pt x="3076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76200" y="2759040"/>
            <a:ext cx="304920" cy="152280"/>
          </a:xfrm>
          <a:custGeom>
            <a:avLst/>
            <a:gdLst/>
            <a:ahLst/>
            <a:rect l="l" t="t" r="r" b="b"/>
            <a:pathLst>
              <a:path w="844" h="422">
                <a:moveTo>
                  <a:pt x="3547" y="7689"/>
                </a:moveTo>
                <a:cubicBezTo>
                  <a:pt x="3570" y="7667"/>
                  <a:pt x="3575" y="7659"/>
                  <a:pt x="3597" y="7665"/>
                </a:cubicBezTo>
                <a:cubicBezTo>
                  <a:pt x="3597" y="7718"/>
                  <a:pt x="3581" y="7739"/>
                  <a:pt x="3572" y="7789"/>
                </a:cubicBezTo>
                <a:cubicBezTo>
                  <a:pt x="3564" y="7831"/>
                  <a:pt x="3550" y="7963"/>
                  <a:pt x="3597" y="7987"/>
                </a:cubicBezTo>
                <a:cubicBezTo>
                  <a:pt x="3661" y="8020"/>
                  <a:pt x="3791" y="7980"/>
                  <a:pt x="3845" y="7962"/>
                </a:cubicBezTo>
                <a:cubicBezTo>
                  <a:pt x="3870" y="7962"/>
                  <a:pt x="3878" y="7962"/>
                  <a:pt x="3894" y="7962"/>
                </a:cubicBezTo>
              </a:path>
              <a:path w="844" h="422">
                <a:moveTo>
                  <a:pt x="3746" y="7888"/>
                </a:moveTo>
                <a:cubicBezTo>
                  <a:pt x="3702" y="7903"/>
                  <a:pt x="3721" y="7959"/>
                  <a:pt x="3721" y="8012"/>
                </a:cubicBezTo>
                <a:cubicBezTo>
                  <a:pt x="3721" y="8057"/>
                  <a:pt x="3717" y="8070"/>
                  <a:pt x="3746" y="8086"/>
                </a:cubicBezTo>
              </a:path>
              <a:path w="844" h="422">
                <a:moveTo>
                  <a:pt x="3994" y="7962"/>
                </a:moveTo>
                <a:cubicBezTo>
                  <a:pt x="3942" y="7895"/>
                  <a:pt x="3993" y="7926"/>
                  <a:pt x="4018" y="7888"/>
                </a:cubicBezTo>
                <a:cubicBezTo>
                  <a:pt x="4038" y="7857"/>
                  <a:pt x="4100" y="7852"/>
                  <a:pt x="4118" y="7913"/>
                </a:cubicBezTo>
                <a:cubicBezTo>
                  <a:pt x="4133" y="7965"/>
                  <a:pt x="4156" y="8020"/>
                  <a:pt x="4118" y="8062"/>
                </a:cubicBezTo>
                <a:cubicBezTo>
                  <a:pt x="4095" y="8084"/>
                  <a:pt x="4090" y="8092"/>
                  <a:pt x="4068" y="8086"/>
                </a:cubicBezTo>
              </a:path>
              <a:path w="844" h="422">
                <a:moveTo>
                  <a:pt x="4242" y="7838"/>
                </a:moveTo>
                <a:cubicBezTo>
                  <a:pt x="4250" y="7822"/>
                  <a:pt x="4258" y="7805"/>
                  <a:pt x="4266" y="7789"/>
                </a:cubicBezTo>
                <a:cubicBezTo>
                  <a:pt x="4218" y="7801"/>
                  <a:pt x="4184" y="7836"/>
                  <a:pt x="4167" y="7888"/>
                </a:cubicBezTo>
                <a:cubicBezTo>
                  <a:pt x="4146" y="7951"/>
                  <a:pt x="4245" y="8002"/>
                  <a:pt x="4291" y="8012"/>
                </a:cubicBezTo>
                <a:cubicBezTo>
                  <a:pt x="4341" y="8012"/>
                  <a:pt x="4357" y="8012"/>
                  <a:pt x="4390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41320" y="2751120"/>
            <a:ext cx="517680" cy="150840"/>
          </a:xfrm>
          <a:custGeom>
            <a:avLst/>
            <a:gdLst/>
            <a:ahLst/>
            <a:rect l="l" t="t" r="r" b="b"/>
            <a:pathLst>
              <a:path w="1440" h="423">
                <a:moveTo>
                  <a:pt x="5011" y="7863"/>
                </a:moveTo>
                <a:cubicBezTo>
                  <a:pt x="5031" y="7868"/>
                  <a:pt x="5115" y="7888"/>
                  <a:pt x="5060" y="7888"/>
                </a:cubicBezTo>
                <a:cubicBezTo>
                  <a:pt x="4982" y="7888"/>
                  <a:pt x="4900" y="7901"/>
                  <a:pt x="4837" y="7863"/>
                </a:cubicBezTo>
              </a:path>
              <a:path w="1440" h="423">
                <a:moveTo>
                  <a:pt x="4961" y="7739"/>
                </a:moveTo>
                <a:cubicBezTo>
                  <a:pt x="4961" y="7672"/>
                  <a:pt x="4961" y="7823"/>
                  <a:pt x="4961" y="7838"/>
                </a:cubicBezTo>
                <a:cubicBezTo>
                  <a:pt x="4961" y="7888"/>
                  <a:pt x="4961" y="7937"/>
                  <a:pt x="4961" y="7987"/>
                </a:cubicBezTo>
              </a:path>
              <a:path w="1440" h="423">
                <a:moveTo>
                  <a:pt x="5259" y="7764"/>
                </a:moveTo>
                <a:cubicBezTo>
                  <a:pt x="5259" y="7704"/>
                  <a:pt x="5267" y="7715"/>
                  <a:pt x="5308" y="7689"/>
                </a:cubicBezTo>
                <a:cubicBezTo>
                  <a:pt x="5354" y="7660"/>
                  <a:pt x="5395" y="7619"/>
                  <a:pt x="5457" y="7640"/>
                </a:cubicBezTo>
                <a:cubicBezTo>
                  <a:pt x="5531" y="7665"/>
                  <a:pt x="5547" y="7715"/>
                  <a:pt x="5531" y="7789"/>
                </a:cubicBezTo>
                <a:cubicBezTo>
                  <a:pt x="5512" y="7879"/>
                  <a:pt x="5445" y="7925"/>
                  <a:pt x="5383" y="7987"/>
                </a:cubicBezTo>
                <a:cubicBezTo>
                  <a:pt x="5353" y="8017"/>
                  <a:pt x="5358" y="8022"/>
                  <a:pt x="5358" y="8062"/>
                </a:cubicBezTo>
                <a:cubicBezTo>
                  <a:pt x="5416" y="8062"/>
                  <a:pt x="5452" y="8050"/>
                  <a:pt x="5507" y="8037"/>
                </a:cubicBezTo>
                <a:cubicBezTo>
                  <a:pt x="5562" y="8024"/>
                  <a:pt x="5596" y="8012"/>
                  <a:pt x="5655" y="8012"/>
                </a:cubicBezTo>
                <a:cubicBezTo>
                  <a:pt x="5680" y="8012"/>
                  <a:pt x="5705" y="8012"/>
                  <a:pt x="5730" y="8012"/>
                </a:cubicBezTo>
              </a:path>
              <a:path w="1440" h="423">
                <a:moveTo>
                  <a:pt x="6251" y="7888"/>
                </a:moveTo>
                <a:cubicBezTo>
                  <a:pt x="6251" y="7880"/>
                  <a:pt x="6251" y="7871"/>
                  <a:pt x="6251" y="7863"/>
                </a:cubicBezTo>
                <a:cubicBezTo>
                  <a:pt x="6201" y="7850"/>
                  <a:pt x="6187" y="7838"/>
                  <a:pt x="6127" y="7838"/>
                </a:cubicBezTo>
                <a:cubicBezTo>
                  <a:pt x="6086" y="7838"/>
                  <a:pt x="6044" y="7838"/>
                  <a:pt x="6003" y="7838"/>
                </a:cubicBezTo>
              </a:path>
              <a:path w="1440" h="423">
                <a:moveTo>
                  <a:pt x="6201" y="7938"/>
                </a:moveTo>
                <a:cubicBezTo>
                  <a:pt x="6242" y="7958"/>
                  <a:pt x="6248" y="7966"/>
                  <a:pt x="6276" y="7962"/>
                </a:cubicBezTo>
                <a:cubicBezTo>
                  <a:pt x="6263" y="8000"/>
                  <a:pt x="6246" y="7987"/>
                  <a:pt x="6201" y="7987"/>
                </a:cubicBezTo>
                <a:cubicBezTo>
                  <a:pt x="6156" y="7987"/>
                  <a:pt x="6140" y="7974"/>
                  <a:pt x="6127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74920" y="2751120"/>
            <a:ext cx="125280" cy="13320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6648" y="7863"/>
                </a:moveTo>
                <a:cubicBezTo>
                  <a:pt x="6666" y="7808"/>
                  <a:pt x="6669" y="7853"/>
                  <a:pt x="6648" y="7789"/>
                </a:cubicBezTo>
                <a:cubicBezTo>
                  <a:pt x="6638" y="7759"/>
                  <a:pt x="6659" y="7708"/>
                  <a:pt x="6672" y="7689"/>
                </a:cubicBezTo>
                <a:cubicBezTo>
                  <a:pt x="6701" y="7647"/>
                  <a:pt x="6772" y="7626"/>
                  <a:pt x="6821" y="7640"/>
                </a:cubicBezTo>
                <a:cubicBezTo>
                  <a:pt x="6894" y="7662"/>
                  <a:pt x="6934" y="7743"/>
                  <a:pt x="6945" y="7813"/>
                </a:cubicBezTo>
                <a:cubicBezTo>
                  <a:pt x="6953" y="7860"/>
                  <a:pt x="6959" y="7989"/>
                  <a:pt x="6896" y="8012"/>
                </a:cubicBezTo>
                <a:cubicBezTo>
                  <a:pt x="6842" y="8031"/>
                  <a:pt x="6720" y="8021"/>
                  <a:pt x="6672" y="7987"/>
                </a:cubicBezTo>
                <a:cubicBezTo>
                  <a:pt x="6600" y="7936"/>
                  <a:pt x="6586" y="7906"/>
                  <a:pt x="6623" y="7838"/>
                </a:cubicBezTo>
                <a:cubicBezTo>
                  <a:pt x="6631" y="7822"/>
                  <a:pt x="6640" y="7805"/>
                  <a:pt x="6648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8240" y="3044880"/>
            <a:ext cx="750960" cy="179280"/>
          </a:xfrm>
          <a:custGeom>
            <a:avLst/>
            <a:gdLst/>
            <a:ahLst/>
            <a:rect l="l" t="t" r="r" b="b"/>
            <a:pathLst>
              <a:path w="2085" h="497">
                <a:moveTo>
                  <a:pt x="2158" y="8731"/>
                </a:moveTo>
                <a:cubicBezTo>
                  <a:pt x="2170" y="8683"/>
                  <a:pt x="2201" y="8664"/>
                  <a:pt x="2257" y="8682"/>
                </a:cubicBezTo>
                <a:cubicBezTo>
                  <a:pt x="2325" y="8704"/>
                  <a:pt x="2364" y="8790"/>
                  <a:pt x="2381" y="8855"/>
                </a:cubicBezTo>
                <a:cubicBezTo>
                  <a:pt x="2400" y="8927"/>
                  <a:pt x="2331" y="8951"/>
                  <a:pt x="2282" y="8954"/>
                </a:cubicBezTo>
                <a:cubicBezTo>
                  <a:pt x="2220" y="8958"/>
                  <a:pt x="2190" y="8951"/>
                  <a:pt x="2133" y="8930"/>
                </a:cubicBezTo>
              </a:path>
              <a:path w="2085" h="497">
                <a:moveTo>
                  <a:pt x="2406" y="8632"/>
                </a:moveTo>
                <a:cubicBezTo>
                  <a:pt x="2445" y="8593"/>
                  <a:pt x="2446" y="8576"/>
                  <a:pt x="2480" y="8582"/>
                </a:cubicBezTo>
                <a:cubicBezTo>
                  <a:pt x="2469" y="8630"/>
                  <a:pt x="2432" y="8663"/>
                  <a:pt x="2406" y="8706"/>
                </a:cubicBezTo>
                <a:cubicBezTo>
                  <a:pt x="2356" y="8789"/>
                  <a:pt x="2378" y="8852"/>
                  <a:pt x="2456" y="8905"/>
                </a:cubicBezTo>
                <a:cubicBezTo>
                  <a:pt x="2512" y="8943"/>
                  <a:pt x="2531" y="8934"/>
                  <a:pt x="2580" y="8905"/>
                </a:cubicBezTo>
              </a:path>
              <a:path w="2085" h="497">
                <a:moveTo>
                  <a:pt x="2729" y="8508"/>
                </a:moveTo>
                <a:cubicBezTo>
                  <a:pt x="2729" y="8483"/>
                  <a:pt x="2729" y="8475"/>
                  <a:pt x="2729" y="8458"/>
                </a:cubicBezTo>
                <a:cubicBezTo>
                  <a:pt x="2767" y="8458"/>
                  <a:pt x="2833" y="8442"/>
                  <a:pt x="2853" y="8483"/>
                </a:cubicBezTo>
                <a:cubicBezTo>
                  <a:pt x="2873" y="8523"/>
                  <a:pt x="2844" y="8578"/>
                  <a:pt x="2828" y="8607"/>
                </a:cubicBezTo>
                <a:cubicBezTo>
                  <a:pt x="2816" y="8630"/>
                  <a:pt x="2779" y="8727"/>
                  <a:pt x="2803" y="8756"/>
                </a:cubicBezTo>
                <a:cubicBezTo>
                  <a:pt x="2848" y="8810"/>
                  <a:pt x="2930" y="8774"/>
                  <a:pt x="2977" y="8756"/>
                </a:cubicBezTo>
              </a:path>
              <a:path w="2085" h="497">
                <a:moveTo>
                  <a:pt x="3473" y="8781"/>
                </a:moveTo>
                <a:cubicBezTo>
                  <a:pt x="3426" y="8746"/>
                  <a:pt x="3386" y="8756"/>
                  <a:pt x="3324" y="8756"/>
                </a:cubicBezTo>
                <a:cubicBezTo>
                  <a:pt x="3299" y="8756"/>
                  <a:pt x="3274" y="8756"/>
                  <a:pt x="3249" y="8756"/>
                </a:cubicBezTo>
              </a:path>
              <a:path w="2085" h="497">
                <a:moveTo>
                  <a:pt x="3225" y="8682"/>
                </a:moveTo>
                <a:cubicBezTo>
                  <a:pt x="3233" y="8665"/>
                  <a:pt x="3241" y="8649"/>
                  <a:pt x="3249" y="8632"/>
                </a:cubicBezTo>
                <a:cubicBezTo>
                  <a:pt x="3283" y="8677"/>
                  <a:pt x="3296" y="8721"/>
                  <a:pt x="3299" y="8781"/>
                </a:cubicBezTo>
                <a:cubicBezTo>
                  <a:pt x="3299" y="8830"/>
                  <a:pt x="3299" y="8847"/>
                  <a:pt x="3299" y="8880"/>
                </a:cubicBezTo>
              </a:path>
              <a:path w="2085" h="497">
                <a:moveTo>
                  <a:pt x="3621" y="8533"/>
                </a:moveTo>
                <a:cubicBezTo>
                  <a:pt x="3621" y="8606"/>
                  <a:pt x="3605" y="8664"/>
                  <a:pt x="3597" y="8731"/>
                </a:cubicBezTo>
                <a:cubicBezTo>
                  <a:pt x="3590" y="8786"/>
                  <a:pt x="3582" y="8876"/>
                  <a:pt x="3646" y="8905"/>
                </a:cubicBezTo>
                <a:cubicBezTo>
                  <a:pt x="3681" y="8921"/>
                  <a:pt x="3790" y="8894"/>
                  <a:pt x="3820" y="8880"/>
                </a:cubicBezTo>
                <a:cubicBezTo>
                  <a:pt x="3826" y="8877"/>
                  <a:pt x="3921" y="8823"/>
                  <a:pt x="3919" y="8830"/>
                </a:cubicBezTo>
                <a:cubicBezTo>
                  <a:pt x="3911" y="8838"/>
                  <a:pt x="3902" y="8847"/>
                  <a:pt x="3894" y="8855"/>
                </a:cubicBezTo>
              </a:path>
              <a:path w="2085" h="497">
                <a:moveTo>
                  <a:pt x="3770" y="8706"/>
                </a:moveTo>
                <a:cubicBezTo>
                  <a:pt x="3754" y="8698"/>
                  <a:pt x="3737" y="8690"/>
                  <a:pt x="3721" y="8682"/>
                </a:cubicBezTo>
                <a:cubicBezTo>
                  <a:pt x="3721" y="8765"/>
                  <a:pt x="3721" y="8847"/>
                  <a:pt x="3721" y="8930"/>
                </a:cubicBezTo>
              </a:path>
              <a:path w="2085" h="497">
                <a:moveTo>
                  <a:pt x="3919" y="8756"/>
                </a:moveTo>
                <a:cubicBezTo>
                  <a:pt x="3968" y="8735"/>
                  <a:pt x="4004" y="8736"/>
                  <a:pt x="4043" y="8706"/>
                </a:cubicBezTo>
                <a:cubicBezTo>
                  <a:pt x="4089" y="8752"/>
                  <a:pt x="4093" y="8764"/>
                  <a:pt x="4093" y="8830"/>
                </a:cubicBezTo>
                <a:cubicBezTo>
                  <a:pt x="4093" y="8908"/>
                  <a:pt x="4063" y="8941"/>
                  <a:pt x="3994" y="8954"/>
                </a:cubicBezTo>
                <a:cubicBezTo>
                  <a:pt x="3977" y="8954"/>
                  <a:pt x="3961" y="8954"/>
                  <a:pt x="3944" y="8954"/>
                </a:cubicBezTo>
              </a:path>
              <a:path w="2085" h="497">
                <a:moveTo>
                  <a:pt x="4093" y="8830"/>
                </a:moveTo>
                <a:cubicBezTo>
                  <a:pt x="4203" y="8686"/>
                  <a:pt x="4162" y="8686"/>
                  <a:pt x="4142" y="8756"/>
                </a:cubicBezTo>
                <a:cubicBezTo>
                  <a:pt x="4120" y="8834"/>
                  <a:pt x="4126" y="8942"/>
                  <a:pt x="4192" y="8954"/>
                </a:cubicBezTo>
                <a:cubicBezTo>
                  <a:pt x="4200" y="8954"/>
                  <a:pt x="4209" y="8954"/>
                  <a:pt x="4217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14680" y="3178080"/>
            <a:ext cx="71280" cy="9720"/>
          </a:xfrm>
          <a:custGeom>
            <a:avLst/>
            <a:gdLst/>
            <a:ahLst/>
            <a:rect l="l" t="t" r="r" b="b"/>
            <a:pathLst>
              <a:path w="200" h="26">
                <a:moveTo>
                  <a:pt x="4762" y="8855"/>
                </a:moveTo>
                <a:cubicBezTo>
                  <a:pt x="4832" y="8855"/>
                  <a:pt x="4878" y="8850"/>
                  <a:pt x="4936" y="8830"/>
                </a:cubicBezTo>
                <a:cubicBezTo>
                  <a:pt x="4944" y="8830"/>
                  <a:pt x="4953" y="8830"/>
                  <a:pt x="4961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28880" y="3027240"/>
            <a:ext cx="160200" cy="214560"/>
          </a:xfrm>
          <a:custGeom>
            <a:avLst/>
            <a:gdLst/>
            <a:ahLst/>
            <a:rect l="l" t="t" r="r" b="b"/>
            <a:pathLst>
              <a:path w="447" h="596">
                <a:moveTo>
                  <a:pt x="5432" y="8582"/>
                </a:moveTo>
                <a:cubicBezTo>
                  <a:pt x="5455" y="8560"/>
                  <a:pt x="5463" y="8555"/>
                  <a:pt x="5457" y="8533"/>
                </a:cubicBezTo>
                <a:cubicBezTo>
                  <a:pt x="5435" y="8544"/>
                  <a:pt x="5355" y="8614"/>
                  <a:pt x="5358" y="8657"/>
                </a:cubicBezTo>
                <a:cubicBezTo>
                  <a:pt x="5363" y="8736"/>
                  <a:pt x="5448" y="8797"/>
                  <a:pt x="5507" y="8830"/>
                </a:cubicBezTo>
                <a:cubicBezTo>
                  <a:pt x="5560" y="8859"/>
                  <a:pt x="5646" y="8844"/>
                  <a:pt x="5680" y="8905"/>
                </a:cubicBezTo>
                <a:cubicBezTo>
                  <a:pt x="5704" y="8948"/>
                  <a:pt x="5637" y="8996"/>
                  <a:pt x="5606" y="9004"/>
                </a:cubicBezTo>
                <a:cubicBezTo>
                  <a:pt x="5548" y="9019"/>
                  <a:pt x="5468" y="9004"/>
                  <a:pt x="5407" y="9004"/>
                </a:cubicBezTo>
              </a:path>
              <a:path w="447" h="596">
                <a:moveTo>
                  <a:pt x="5779" y="8533"/>
                </a:moveTo>
                <a:cubicBezTo>
                  <a:pt x="5798" y="8459"/>
                  <a:pt x="5806" y="8452"/>
                  <a:pt x="5804" y="8409"/>
                </a:cubicBezTo>
                <a:cubicBezTo>
                  <a:pt x="5767" y="8418"/>
                  <a:pt x="5743" y="8437"/>
                  <a:pt x="5705" y="84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20920" y="3098880"/>
            <a:ext cx="46080" cy="81000"/>
          </a:xfrm>
          <a:custGeom>
            <a:avLst/>
            <a:gdLst/>
            <a:ahLst/>
            <a:rect l="l" t="t" r="r" b="b"/>
            <a:pathLst>
              <a:path w="125" h="224">
                <a:moveTo>
                  <a:pt x="6548" y="8632"/>
                </a:moveTo>
                <a:cubicBezTo>
                  <a:pt x="6548" y="8607"/>
                  <a:pt x="6548" y="8599"/>
                  <a:pt x="6573" y="8607"/>
                </a:cubicBezTo>
                <a:cubicBezTo>
                  <a:pt x="6532" y="8607"/>
                  <a:pt x="6490" y="8607"/>
                  <a:pt x="6449" y="8607"/>
                </a:cubicBezTo>
              </a:path>
              <a:path w="125" h="224">
                <a:moveTo>
                  <a:pt x="6524" y="8731"/>
                </a:moveTo>
                <a:cubicBezTo>
                  <a:pt x="6564" y="8751"/>
                  <a:pt x="6580" y="8750"/>
                  <a:pt x="6573" y="8781"/>
                </a:cubicBezTo>
                <a:cubicBezTo>
                  <a:pt x="6526" y="8790"/>
                  <a:pt x="6486" y="8795"/>
                  <a:pt x="6474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920" y="3017880"/>
            <a:ext cx="347760" cy="250920"/>
          </a:xfrm>
          <a:custGeom>
            <a:avLst/>
            <a:gdLst/>
            <a:ahLst/>
            <a:rect l="l" t="t" r="r" b="b"/>
            <a:pathLst>
              <a:path w="969" h="696">
                <a:moveTo>
                  <a:pt x="6995" y="8632"/>
                </a:moveTo>
                <a:cubicBezTo>
                  <a:pt x="6945" y="8632"/>
                  <a:pt x="7044" y="8632"/>
                  <a:pt x="7094" y="8632"/>
                </a:cubicBezTo>
                <a:cubicBezTo>
                  <a:pt x="7187" y="8632"/>
                  <a:pt x="7257" y="8637"/>
                  <a:pt x="7342" y="8657"/>
                </a:cubicBezTo>
                <a:cubicBezTo>
                  <a:pt x="7350" y="8657"/>
                  <a:pt x="7359" y="8657"/>
                  <a:pt x="7367" y="8657"/>
                </a:cubicBezTo>
              </a:path>
              <a:path w="969" h="696">
                <a:moveTo>
                  <a:pt x="7491" y="8458"/>
                </a:moveTo>
                <a:cubicBezTo>
                  <a:pt x="7528" y="8432"/>
                  <a:pt x="7540" y="8428"/>
                  <a:pt x="7565" y="8409"/>
                </a:cubicBezTo>
                <a:cubicBezTo>
                  <a:pt x="7615" y="8371"/>
                  <a:pt x="7675" y="8384"/>
                  <a:pt x="7739" y="8384"/>
                </a:cubicBezTo>
                <a:cubicBezTo>
                  <a:pt x="7817" y="8384"/>
                  <a:pt x="7869" y="8399"/>
                  <a:pt x="7938" y="8409"/>
                </a:cubicBezTo>
                <a:cubicBezTo>
                  <a:pt x="7938" y="8499"/>
                  <a:pt x="7913" y="8546"/>
                  <a:pt x="7888" y="8632"/>
                </a:cubicBezTo>
                <a:cubicBezTo>
                  <a:pt x="7852" y="8755"/>
                  <a:pt x="7805" y="8850"/>
                  <a:pt x="7789" y="8979"/>
                </a:cubicBezTo>
                <a:cubicBezTo>
                  <a:pt x="7789" y="9029"/>
                  <a:pt x="7789" y="9046"/>
                  <a:pt x="7789" y="90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51080" y="3562200"/>
            <a:ext cx="579600" cy="268560"/>
          </a:xfrm>
          <a:custGeom>
            <a:avLst/>
            <a:gdLst/>
            <a:ahLst/>
            <a:rect l="l" t="t" r="r" b="b"/>
            <a:pathLst>
              <a:path w="1613" h="745">
                <a:moveTo>
                  <a:pt x="6499" y="10294"/>
                </a:moveTo>
                <a:cubicBezTo>
                  <a:pt x="6522" y="10271"/>
                  <a:pt x="6530" y="10267"/>
                  <a:pt x="6524" y="10244"/>
                </a:cubicBezTo>
                <a:cubicBezTo>
                  <a:pt x="6463" y="10244"/>
                  <a:pt x="6444" y="10223"/>
                  <a:pt x="6375" y="10220"/>
                </a:cubicBezTo>
                <a:cubicBezTo>
                  <a:pt x="6307" y="10220"/>
                  <a:pt x="6288" y="10217"/>
                  <a:pt x="6251" y="10244"/>
                </a:cubicBezTo>
              </a:path>
              <a:path w="1613" h="745">
                <a:moveTo>
                  <a:pt x="6722" y="10220"/>
                </a:moveTo>
                <a:cubicBezTo>
                  <a:pt x="6707" y="10215"/>
                  <a:pt x="6656" y="10174"/>
                  <a:pt x="6648" y="10145"/>
                </a:cubicBezTo>
                <a:cubicBezTo>
                  <a:pt x="6632" y="10090"/>
                  <a:pt x="6658" y="9985"/>
                  <a:pt x="6697" y="9947"/>
                </a:cubicBezTo>
                <a:cubicBezTo>
                  <a:pt x="6772" y="9873"/>
                  <a:pt x="6857" y="9890"/>
                  <a:pt x="6921" y="9947"/>
                </a:cubicBezTo>
                <a:cubicBezTo>
                  <a:pt x="6989" y="10007"/>
                  <a:pt x="7029" y="10154"/>
                  <a:pt x="6995" y="10244"/>
                </a:cubicBezTo>
                <a:cubicBezTo>
                  <a:pt x="6957" y="10347"/>
                  <a:pt x="6892" y="10364"/>
                  <a:pt x="6796" y="10368"/>
                </a:cubicBezTo>
                <a:cubicBezTo>
                  <a:pt x="6780" y="10368"/>
                  <a:pt x="6763" y="10368"/>
                  <a:pt x="6747" y="10368"/>
                </a:cubicBezTo>
              </a:path>
              <a:path w="1613" h="745">
                <a:moveTo>
                  <a:pt x="7069" y="10244"/>
                </a:moveTo>
                <a:cubicBezTo>
                  <a:pt x="7133" y="10302"/>
                  <a:pt x="7174" y="10335"/>
                  <a:pt x="7218" y="10393"/>
                </a:cubicBezTo>
              </a:path>
              <a:path w="1613" h="745">
                <a:moveTo>
                  <a:pt x="7565" y="10046"/>
                </a:moveTo>
                <a:cubicBezTo>
                  <a:pt x="7584" y="9988"/>
                  <a:pt x="7593" y="9982"/>
                  <a:pt x="7590" y="9947"/>
                </a:cubicBezTo>
                <a:cubicBezTo>
                  <a:pt x="7515" y="10021"/>
                  <a:pt x="7481" y="10086"/>
                  <a:pt x="7466" y="10195"/>
                </a:cubicBezTo>
                <a:cubicBezTo>
                  <a:pt x="7454" y="10285"/>
                  <a:pt x="7447" y="10395"/>
                  <a:pt x="7541" y="10443"/>
                </a:cubicBezTo>
                <a:cubicBezTo>
                  <a:pt x="7549" y="10443"/>
                  <a:pt x="7557" y="10443"/>
                  <a:pt x="7565" y="10443"/>
                </a:cubicBezTo>
                <a:cubicBezTo>
                  <a:pt x="7600" y="10397"/>
                  <a:pt x="7599" y="10374"/>
                  <a:pt x="7565" y="10344"/>
                </a:cubicBezTo>
                <a:cubicBezTo>
                  <a:pt x="7524" y="10307"/>
                  <a:pt x="7508" y="10313"/>
                  <a:pt x="7466" y="10344"/>
                </a:cubicBezTo>
              </a:path>
              <a:path w="1613" h="745">
                <a:moveTo>
                  <a:pt x="7789" y="10368"/>
                </a:moveTo>
                <a:cubicBezTo>
                  <a:pt x="7849" y="10429"/>
                  <a:pt x="7863" y="10434"/>
                  <a:pt x="7863" y="10517"/>
                </a:cubicBezTo>
                <a:cubicBezTo>
                  <a:pt x="7863" y="10577"/>
                  <a:pt x="7849" y="10596"/>
                  <a:pt x="7813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46240" y="3537000"/>
            <a:ext cx="519120" cy="231840"/>
          </a:xfrm>
          <a:custGeom>
            <a:avLst/>
            <a:gdLst/>
            <a:ahLst/>
            <a:rect l="l" t="t" r="r" b="b"/>
            <a:pathLst>
              <a:path w="1439" h="646">
                <a:moveTo>
                  <a:pt x="8235" y="10418"/>
                </a:moveTo>
                <a:cubicBezTo>
                  <a:pt x="8213" y="10396"/>
                  <a:pt x="8208" y="10387"/>
                  <a:pt x="8186" y="10393"/>
                </a:cubicBezTo>
                <a:cubicBezTo>
                  <a:pt x="8204" y="10338"/>
                  <a:pt x="8208" y="10372"/>
                  <a:pt x="8260" y="10344"/>
                </a:cubicBezTo>
                <a:cubicBezTo>
                  <a:pt x="8309" y="10317"/>
                  <a:pt x="8397" y="10304"/>
                  <a:pt x="8458" y="10294"/>
                </a:cubicBezTo>
                <a:cubicBezTo>
                  <a:pt x="8503" y="10294"/>
                  <a:pt x="8516" y="10291"/>
                  <a:pt x="8533" y="10319"/>
                </a:cubicBezTo>
              </a:path>
              <a:path w="1439" h="646">
                <a:moveTo>
                  <a:pt x="8682" y="10120"/>
                </a:moveTo>
                <a:cubicBezTo>
                  <a:pt x="8682" y="10060"/>
                  <a:pt x="8658" y="9942"/>
                  <a:pt x="8706" y="9897"/>
                </a:cubicBezTo>
                <a:cubicBezTo>
                  <a:pt x="8772" y="9836"/>
                  <a:pt x="8831" y="9877"/>
                  <a:pt x="8880" y="9922"/>
                </a:cubicBezTo>
                <a:cubicBezTo>
                  <a:pt x="8926" y="9965"/>
                  <a:pt x="8948" y="10033"/>
                  <a:pt x="8930" y="10096"/>
                </a:cubicBezTo>
                <a:cubicBezTo>
                  <a:pt x="8918" y="10139"/>
                  <a:pt x="8884" y="10194"/>
                  <a:pt x="8905" y="10244"/>
                </a:cubicBezTo>
                <a:cubicBezTo>
                  <a:pt x="8931" y="10305"/>
                  <a:pt x="8993" y="10278"/>
                  <a:pt x="9029" y="10319"/>
                </a:cubicBezTo>
                <a:cubicBezTo>
                  <a:pt x="9045" y="10338"/>
                  <a:pt x="9027" y="10411"/>
                  <a:pt x="9004" y="10418"/>
                </a:cubicBezTo>
                <a:cubicBezTo>
                  <a:pt x="8949" y="10435"/>
                  <a:pt x="8889" y="10438"/>
                  <a:pt x="8830" y="10443"/>
                </a:cubicBezTo>
              </a:path>
              <a:path w="1439" h="646">
                <a:moveTo>
                  <a:pt x="9203" y="10468"/>
                </a:moveTo>
                <a:cubicBezTo>
                  <a:pt x="9236" y="10468"/>
                  <a:pt x="9269" y="10468"/>
                  <a:pt x="9302" y="10468"/>
                </a:cubicBezTo>
              </a:path>
              <a:path w="1439" h="646">
                <a:moveTo>
                  <a:pt x="9575" y="9947"/>
                </a:moveTo>
                <a:cubicBezTo>
                  <a:pt x="9575" y="9906"/>
                  <a:pt x="9575" y="9864"/>
                  <a:pt x="9575" y="9823"/>
                </a:cubicBezTo>
                <a:cubicBezTo>
                  <a:pt x="9530" y="9834"/>
                  <a:pt x="9449" y="9874"/>
                  <a:pt x="9426" y="9922"/>
                </a:cubicBezTo>
                <a:cubicBezTo>
                  <a:pt x="9375" y="10029"/>
                  <a:pt x="9387" y="10211"/>
                  <a:pt x="9426" y="10319"/>
                </a:cubicBezTo>
                <a:cubicBezTo>
                  <a:pt x="9467" y="10434"/>
                  <a:pt x="9521" y="10469"/>
                  <a:pt x="9624" y="10443"/>
                </a:cubicBezTo>
                <a:cubicBezTo>
                  <a:pt x="9624" y="10397"/>
                  <a:pt x="9646" y="10326"/>
                  <a:pt x="9599" y="10319"/>
                </a:cubicBezTo>
                <a:cubicBezTo>
                  <a:pt x="9548" y="10319"/>
                  <a:pt x="9529" y="10320"/>
                  <a:pt x="9500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140360" y="2276640"/>
            <a:ext cx="475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960360" y="1684440"/>
            <a:ext cx="4753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068360" y="4294080"/>
            <a:ext cx="4753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032360" y="2548080"/>
            <a:ext cx="475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232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126040" y="884160"/>
            <a:ext cx="268200" cy="312840"/>
          </a:xfrm>
          <a:custGeom>
            <a:avLst/>
            <a:gdLst/>
            <a:ahLst/>
            <a:rect l="l" t="t" r="r" b="b"/>
            <a:pathLst>
              <a:path w="745" h="869">
                <a:moveTo>
                  <a:pt x="14412" y="2803"/>
                </a:moveTo>
                <a:cubicBezTo>
                  <a:pt x="14454" y="2803"/>
                  <a:pt x="14449" y="2813"/>
                  <a:pt x="14461" y="2778"/>
                </a:cubicBezTo>
                <a:cubicBezTo>
                  <a:pt x="14409" y="2778"/>
                  <a:pt x="14350" y="2784"/>
                  <a:pt x="14312" y="2828"/>
                </a:cubicBezTo>
                <a:cubicBezTo>
                  <a:pt x="14280" y="2865"/>
                  <a:pt x="14223" y="2976"/>
                  <a:pt x="14238" y="3026"/>
                </a:cubicBezTo>
                <a:cubicBezTo>
                  <a:pt x="14256" y="3086"/>
                  <a:pt x="14328" y="3082"/>
                  <a:pt x="14362" y="3051"/>
                </a:cubicBezTo>
                <a:cubicBezTo>
                  <a:pt x="14417" y="3000"/>
                  <a:pt x="14422" y="2948"/>
                  <a:pt x="14436" y="2877"/>
                </a:cubicBezTo>
                <a:cubicBezTo>
                  <a:pt x="14466" y="2917"/>
                  <a:pt x="14474" y="2961"/>
                  <a:pt x="14511" y="3001"/>
                </a:cubicBezTo>
                <a:cubicBezTo>
                  <a:pt x="14519" y="3009"/>
                  <a:pt x="14528" y="3018"/>
                  <a:pt x="14536" y="3026"/>
                </a:cubicBezTo>
              </a:path>
              <a:path w="745" h="869">
                <a:moveTo>
                  <a:pt x="14759" y="2828"/>
                </a:moveTo>
                <a:cubicBezTo>
                  <a:pt x="14759" y="2803"/>
                  <a:pt x="14759" y="2795"/>
                  <a:pt x="14784" y="2803"/>
                </a:cubicBezTo>
                <a:cubicBezTo>
                  <a:pt x="14784" y="2869"/>
                  <a:pt x="14784" y="2935"/>
                  <a:pt x="14784" y="3001"/>
                </a:cubicBezTo>
              </a:path>
              <a:path w="745" h="869">
                <a:moveTo>
                  <a:pt x="14660" y="2580"/>
                </a:moveTo>
                <a:cubicBezTo>
                  <a:pt x="14643" y="2563"/>
                  <a:pt x="14627" y="2547"/>
                  <a:pt x="14610" y="2530"/>
                </a:cubicBezTo>
              </a:path>
              <a:path w="745" h="869">
                <a:moveTo>
                  <a:pt x="14660" y="2456"/>
                </a:moveTo>
                <a:cubicBezTo>
                  <a:pt x="14721" y="2456"/>
                  <a:pt x="14780" y="2445"/>
                  <a:pt x="14833" y="2480"/>
                </a:cubicBezTo>
                <a:cubicBezTo>
                  <a:pt x="14902" y="2526"/>
                  <a:pt x="14971" y="2622"/>
                  <a:pt x="14982" y="2704"/>
                </a:cubicBezTo>
                <a:cubicBezTo>
                  <a:pt x="15002" y="2851"/>
                  <a:pt x="14981" y="2974"/>
                  <a:pt x="14932" y="3101"/>
                </a:cubicBezTo>
                <a:cubicBezTo>
                  <a:pt x="14889" y="3210"/>
                  <a:pt x="14821" y="3247"/>
                  <a:pt x="14734" y="33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80080" y="857160"/>
            <a:ext cx="785880" cy="258840"/>
          </a:xfrm>
          <a:custGeom>
            <a:avLst/>
            <a:gdLst/>
            <a:ahLst/>
            <a:rect l="l" t="t" r="r" b="b"/>
            <a:pathLst>
              <a:path w="2184" h="721">
                <a:moveTo>
                  <a:pt x="15825" y="2778"/>
                </a:moveTo>
                <a:cubicBezTo>
                  <a:pt x="15817" y="2778"/>
                  <a:pt x="15809" y="2778"/>
                  <a:pt x="15801" y="2778"/>
                </a:cubicBezTo>
                <a:cubicBezTo>
                  <a:pt x="15813" y="2739"/>
                  <a:pt x="15822" y="2750"/>
                  <a:pt x="15850" y="2729"/>
                </a:cubicBezTo>
                <a:cubicBezTo>
                  <a:pt x="15872" y="2713"/>
                  <a:pt x="15916" y="2685"/>
                  <a:pt x="15949" y="2704"/>
                </a:cubicBezTo>
                <a:cubicBezTo>
                  <a:pt x="16001" y="2733"/>
                  <a:pt x="16024" y="2803"/>
                  <a:pt x="16049" y="2853"/>
                </a:cubicBezTo>
                <a:cubicBezTo>
                  <a:pt x="16080" y="2917"/>
                  <a:pt x="16090" y="2989"/>
                  <a:pt x="16049" y="3051"/>
                </a:cubicBezTo>
                <a:cubicBezTo>
                  <a:pt x="16023" y="3090"/>
                  <a:pt x="15920" y="3098"/>
                  <a:pt x="15875" y="3101"/>
                </a:cubicBezTo>
                <a:cubicBezTo>
                  <a:pt x="15823" y="3101"/>
                  <a:pt x="15805" y="3100"/>
                  <a:pt x="15776" y="3076"/>
                </a:cubicBezTo>
              </a:path>
              <a:path w="2184" h="721">
                <a:moveTo>
                  <a:pt x="16173" y="2654"/>
                </a:moveTo>
                <a:cubicBezTo>
                  <a:pt x="16213" y="2634"/>
                  <a:pt x="16239" y="2625"/>
                  <a:pt x="16197" y="2629"/>
                </a:cubicBezTo>
                <a:cubicBezTo>
                  <a:pt x="16149" y="2707"/>
                  <a:pt x="16067" y="2759"/>
                  <a:pt x="16049" y="2853"/>
                </a:cubicBezTo>
                <a:cubicBezTo>
                  <a:pt x="16038" y="2910"/>
                  <a:pt x="16035" y="3012"/>
                  <a:pt x="16098" y="3026"/>
                </a:cubicBezTo>
                <a:cubicBezTo>
                  <a:pt x="16161" y="3040"/>
                  <a:pt x="16195" y="3006"/>
                  <a:pt x="16247" y="2977"/>
                </a:cubicBezTo>
              </a:path>
              <a:path w="2184" h="721">
                <a:moveTo>
                  <a:pt x="16520" y="2505"/>
                </a:moveTo>
                <a:cubicBezTo>
                  <a:pt x="16513" y="2484"/>
                  <a:pt x="16475" y="2467"/>
                  <a:pt x="16495" y="2431"/>
                </a:cubicBezTo>
                <a:cubicBezTo>
                  <a:pt x="16509" y="2406"/>
                  <a:pt x="16569" y="2383"/>
                  <a:pt x="16594" y="2381"/>
                </a:cubicBezTo>
                <a:cubicBezTo>
                  <a:pt x="16646" y="2377"/>
                  <a:pt x="16681" y="2373"/>
                  <a:pt x="16718" y="2406"/>
                </a:cubicBezTo>
                <a:cubicBezTo>
                  <a:pt x="16772" y="2454"/>
                  <a:pt x="16729" y="2530"/>
                  <a:pt x="16694" y="2580"/>
                </a:cubicBezTo>
                <a:cubicBezTo>
                  <a:pt x="16655" y="2636"/>
                  <a:pt x="16625" y="2662"/>
                  <a:pt x="16619" y="2729"/>
                </a:cubicBezTo>
                <a:cubicBezTo>
                  <a:pt x="16619" y="2737"/>
                  <a:pt x="16619" y="2745"/>
                  <a:pt x="16619" y="2753"/>
                </a:cubicBezTo>
                <a:cubicBezTo>
                  <a:pt x="16643" y="2747"/>
                  <a:pt x="16697" y="2741"/>
                  <a:pt x="16718" y="2729"/>
                </a:cubicBezTo>
                <a:cubicBezTo>
                  <a:pt x="16746" y="2701"/>
                  <a:pt x="16760" y="2692"/>
                  <a:pt x="16793" y="2704"/>
                </a:cubicBezTo>
              </a:path>
              <a:path w="2184" h="721">
                <a:moveTo>
                  <a:pt x="16991" y="2853"/>
                </a:moveTo>
                <a:cubicBezTo>
                  <a:pt x="16983" y="2853"/>
                  <a:pt x="16974" y="2853"/>
                  <a:pt x="16966" y="2853"/>
                </a:cubicBezTo>
                <a:cubicBezTo>
                  <a:pt x="16980" y="2892"/>
                  <a:pt x="17016" y="2877"/>
                  <a:pt x="17066" y="2877"/>
                </a:cubicBezTo>
                <a:cubicBezTo>
                  <a:pt x="17134" y="2877"/>
                  <a:pt x="17176" y="2887"/>
                  <a:pt x="17239" y="2902"/>
                </a:cubicBezTo>
                <a:cubicBezTo>
                  <a:pt x="17264" y="2902"/>
                  <a:pt x="17272" y="2902"/>
                  <a:pt x="17289" y="2902"/>
                </a:cubicBezTo>
              </a:path>
              <a:path w="2184" h="721">
                <a:moveTo>
                  <a:pt x="17487" y="2753"/>
                </a:moveTo>
                <a:cubicBezTo>
                  <a:pt x="17479" y="2753"/>
                  <a:pt x="17470" y="2753"/>
                  <a:pt x="17462" y="2753"/>
                </a:cubicBezTo>
                <a:cubicBezTo>
                  <a:pt x="17471" y="2717"/>
                  <a:pt x="17500" y="2691"/>
                  <a:pt x="17537" y="2679"/>
                </a:cubicBezTo>
                <a:cubicBezTo>
                  <a:pt x="17578" y="2665"/>
                  <a:pt x="17659" y="2670"/>
                  <a:pt x="17686" y="2704"/>
                </a:cubicBezTo>
                <a:cubicBezTo>
                  <a:pt x="17717" y="2744"/>
                  <a:pt x="17776" y="2850"/>
                  <a:pt x="17760" y="2902"/>
                </a:cubicBezTo>
                <a:cubicBezTo>
                  <a:pt x="17743" y="2958"/>
                  <a:pt x="17679" y="2952"/>
                  <a:pt x="17636" y="2952"/>
                </a:cubicBezTo>
                <a:cubicBezTo>
                  <a:pt x="17603" y="2952"/>
                  <a:pt x="17587" y="2952"/>
                  <a:pt x="17562" y="2952"/>
                </a:cubicBezTo>
              </a:path>
              <a:path w="2184" h="721">
                <a:moveTo>
                  <a:pt x="17810" y="2679"/>
                </a:moveTo>
                <a:cubicBezTo>
                  <a:pt x="17848" y="2640"/>
                  <a:pt x="17865" y="2638"/>
                  <a:pt x="17859" y="2604"/>
                </a:cubicBezTo>
                <a:cubicBezTo>
                  <a:pt x="17794" y="2657"/>
                  <a:pt x="17749" y="2695"/>
                  <a:pt x="17711" y="2778"/>
                </a:cubicBezTo>
                <a:cubicBezTo>
                  <a:pt x="17677" y="2851"/>
                  <a:pt x="17669" y="2964"/>
                  <a:pt x="17735" y="3026"/>
                </a:cubicBezTo>
                <a:cubicBezTo>
                  <a:pt x="17813" y="3098"/>
                  <a:pt x="17899" y="3023"/>
                  <a:pt x="17959" y="29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670800" y="866880"/>
            <a:ext cx="581040" cy="241200"/>
          </a:xfrm>
          <a:custGeom>
            <a:avLst/>
            <a:gdLst/>
            <a:ahLst/>
            <a:rect l="l" t="t" r="r" b="b"/>
            <a:pathLst>
              <a:path w="1613" h="671">
                <a:moveTo>
                  <a:pt x="18752" y="2729"/>
                </a:moveTo>
                <a:cubicBezTo>
                  <a:pt x="18709" y="2696"/>
                  <a:pt x="18686" y="2704"/>
                  <a:pt x="18628" y="2704"/>
                </a:cubicBezTo>
                <a:cubicBezTo>
                  <a:pt x="18595" y="2704"/>
                  <a:pt x="18562" y="2704"/>
                  <a:pt x="18529" y="2704"/>
                </a:cubicBezTo>
              </a:path>
              <a:path w="1613" h="671">
                <a:moveTo>
                  <a:pt x="19174" y="2480"/>
                </a:moveTo>
                <a:cubicBezTo>
                  <a:pt x="19174" y="2464"/>
                  <a:pt x="19174" y="2447"/>
                  <a:pt x="19174" y="2431"/>
                </a:cubicBezTo>
                <a:cubicBezTo>
                  <a:pt x="19228" y="2404"/>
                  <a:pt x="19143" y="2525"/>
                  <a:pt x="19124" y="2580"/>
                </a:cubicBezTo>
                <a:cubicBezTo>
                  <a:pt x="19094" y="2668"/>
                  <a:pt x="19047" y="2782"/>
                  <a:pt x="19075" y="2877"/>
                </a:cubicBezTo>
                <a:cubicBezTo>
                  <a:pt x="19095" y="2946"/>
                  <a:pt x="19156" y="2967"/>
                  <a:pt x="19224" y="2952"/>
                </a:cubicBezTo>
                <a:cubicBezTo>
                  <a:pt x="19303" y="2935"/>
                  <a:pt x="19342" y="2902"/>
                  <a:pt x="19422" y="2902"/>
                </a:cubicBezTo>
                <a:cubicBezTo>
                  <a:pt x="19442" y="2902"/>
                  <a:pt x="19627" y="2904"/>
                  <a:pt x="19596" y="2927"/>
                </a:cubicBezTo>
                <a:cubicBezTo>
                  <a:pt x="19588" y="2927"/>
                  <a:pt x="19579" y="2927"/>
                  <a:pt x="19571" y="2927"/>
                </a:cubicBezTo>
              </a:path>
              <a:path w="1613" h="671">
                <a:moveTo>
                  <a:pt x="19372" y="2753"/>
                </a:moveTo>
                <a:cubicBezTo>
                  <a:pt x="19304" y="2731"/>
                  <a:pt x="19365" y="2843"/>
                  <a:pt x="19372" y="2902"/>
                </a:cubicBezTo>
                <a:cubicBezTo>
                  <a:pt x="19378" y="2957"/>
                  <a:pt x="19372" y="3020"/>
                  <a:pt x="19372" y="3076"/>
                </a:cubicBezTo>
              </a:path>
              <a:path w="1613" h="671">
                <a:moveTo>
                  <a:pt x="20067" y="2654"/>
                </a:moveTo>
                <a:cubicBezTo>
                  <a:pt x="20108" y="2654"/>
                  <a:pt x="20116" y="2654"/>
                  <a:pt x="20141" y="2654"/>
                </a:cubicBezTo>
                <a:cubicBezTo>
                  <a:pt x="20128" y="2695"/>
                  <a:pt x="20093" y="2679"/>
                  <a:pt x="20042" y="2679"/>
                </a:cubicBezTo>
                <a:cubicBezTo>
                  <a:pt x="19977" y="2679"/>
                  <a:pt x="19952" y="2689"/>
                  <a:pt x="19893" y="2704"/>
                </a:cubicBezTo>
                <a:cubicBezTo>
                  <a:pt x="19885" y="2704"/>
                  <a:pt x="19877" y="2704"/>
                  <a:pt x="19869" y="2704"/>
                </a:cubicBezTo>
              </a:path>
              <a:path w="1613" h="671">
                <a:moveTo>
                  <a:pt x="20042" y="2778"/>
                </a:moveTo>
                <a:cubicBezTo>
                  <a:pt x="20059" y="2778"/>
                  <a:pt x="20075" y="2778"/>
                  <a:pt x="20092" y="2778"/>
                </a:cubicBezTo>
                <a:cubicBezTo>
                  <a:pt x="20024" y="2778"/>
                  <a:pt x="19973" y="2770"/>
                  <a:pt x="19918" y="28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75680" y="830160"/>
            <a:ext cx="206280" cy="206640"/>
          </a:xfrm>
          <a:custGeom>
            <a:avLst/>
            <a:gdLst/>
            <a:ahLst/>
            <a:rect l="l" t="t" r="r" b="b"/>
            <a:pathLst>
              <a:path w="571" h="571">
                <a:moveTo>
                  <a:pt x="20489" y="2679"/>
                </a:moveTo>
                <a:cubicBezTo>
                  <a:pt x="20489" y="2612"/>
                  <a:pt x="20496" y="2562"/>
                  <a:pt x="20513" y="2505"/>
                </a:cubicBezTo>
                <a:cubicBezTo>
                  <a:pt x="20533" y="2435"/>
                  <a:pt x="20574" y="2399"/>
                  <a:pt x="20638" y="2356"/>
                </a:cubicBezTo>
                <a:cubicBezTo>
                  <a:pt x="20709" y="2309"/>
                  <a:pt x="20808" y="2284"/>
                  <a:pt x="20886" y="2332"/>
                </a:cubicBezTo>
                <a:cubicBezTo>
                  <a:pt x="20978" y="2389"/>
                  <a:pt x="21042" y="2502"/>
                  <a:pt x="21059" y="2604"/>
                </a:cubicBezTo>
                <a:cubicBezTo>
                  <a:pt x="21076" y="2705"/>
                  <a:pt x="21056" y="2799"/>
                  <a:pt x="20960" y="2853"/>
                </a:cubicBezTo>
                <a:cubicBezTo>
                  <a:pt x="20876" y="2900"/>
                  <a:pt x="20748" y="2884"/>
                  <a:pt x="20662" y="2853"/>
                </a:cubicBezTo>
                <a:cubicBezTo>
                  <a:pt x="20579" y="2823"/>
                  <a:pt x="20526" y="2739"/>
                  <a:pt x="20513" y="2654"/>
                </a:cubicBezTo>
                <a:cubicBezTo>
                  <a:pt x="20499" y="2564"/>
                  <a:pt x="20524" y="2508"/>
                  <a:pt x="20563" y="24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88000" y="1303200"/>
            <a:ext cx="527040" cy="196920"/>
          </a:xfrm>
          <a:custGeom>
            <a:avLst/>
            <a:gdLst/>
            <a:ahLst/>
            <a:rect l="l" t="t" r="r" b="b"/>
            <a:pathLst>
              <a:path w="1464" h="547">
                <a:moveTo>
                  <a:pt x="15801" y="3919"/>
                </a:moveTo>
                <a:cubicBezTo>
                  <a:pt x="15808" y="3896"/>
                  <a:pt x="15842" y="3866"/>
                  <a:pt x="15875" y="3845"/>
                </a:cubicBezTo>
                <a:cubicBezTo>
                  <a:pt x="15944" y="3801"/>
                  <a:pt x="16027" y="3859"/>
                  <a:pt x="16073" y="3919"/>
                </a:cubicBezTo>
                <a:cubicBezTo>
                  <a:pt x="16112" y="3970"/>
                  <a:pt x="16154" y="4062"/>
                  <a:pt x="16098" y="4118"/>
                </a:cubicBezTo>
                <a:cubicBezTo>
                  <a:pt x="16042" y="4174"/>
                  <a:pt x="15974" y="4167"/>
                  <a:pt x="15900" y="4167"/>
                </a:cubicBezTo>
              </a:path>
              <a:path w="1464" h="547">
                <a:moveTo>
                  <a:pt x="16148" y="3845"/>
                </a:moveTo>
                <a:cubicBezTo>
                  <a:pt x="16173" y="3828"/>
                  <a:pt x="16197" y="3812"/>
                  <a:pt x="16222" y="3795"/>
                </a:cubicBezTo>
                <a:cubicBezTo>
                  <a:pt x="16159" y="3846"/>
                  <a:pt x="16127" y="3856"/>
                  <a:pt x="16123" y="3944"/>
                </a:cubicBezTo>
                <a:cubicBezTo>
                  <a:pt x="16119" y="4043"/>
                  <a:pt x="16146" y="4117"/>
                  <a:pt x="16247" y="4142"/>
                </a:cubicBezTo>
                <a:cubicBezTo>
                  <a:pt x="16299" y="4142"/>
                  <a:pt x="16317" y="4141"/>
                  <a:pt x="16346" y="4118"/>
                </a:cubicBezTo>
              </a:path>
              <a:path w="1464" h="547">
                <a:moveTo>
                  <a:pt x="16520" y="3770"/>
                </a:moveTo>
                <a:cubicBezTo>
                  <a:pt x="16520" y="3724"/>
                  <a:pt x="16514" y="3706"/>
                  <a:pt x="16545" y="3671"/>
                </a:cubicBezTo>
                <a:cubicBezTo>
                  <a:pt x="16587" y="3624"/>
                  <a:pt x="16570" y="3621"/>
                  <a:pt x="16644" y="3621"/>
                </a:cubicBezTo>
                <a:cubicBezTo>
                  <a:pt x="16713" y="3621"/>
                  <a:pt x="16698" y="3678"/>
                  <a:pt x="16669" y="3721"/>
                </a:cubicBezTo>
                <a:cubicBezTo>
                  <a:pt x="16647" y="3754"/>
                  <a:pt x="16624" y="3779"/>
                  <a:pt x="16619" y="3820"/>
                </a:cubicBezTo>
                <a:cubicBezTo>
                  <a:pt x="16619" y="3845"/>
                  <a:pt x="16619" y="3853"/>
                  <a:pt x="16619" y="3870"/>
                </a:cubicBezTo>
                <a:cubicBezTo>
                  <a:pt x="16669" y="3870"/>
                  <a:pt x="16718" y="3870"/>
                  <a:pt x="16768" y="3870"/>
                </a:cubicBezTo>
              </a:path>
              <a:path w="1464" h="547">
                <a:moveTo>
                  <a:pt x="17090" y="3944"/>
                </a:moveTo>
                <a:cubicBezTo>
                  <a:pt x="17090" y="3952"/>
                  <a:pt x="17090" y="3961"/>
                  <a:pt x="17090" y="3969"/>
                </a:cubicBezTo>
                <a:cubicBezTo>
                  <a:pt x="17099" y="3941"/>
                  <a:pt x="17124" y="3922"/>
                  <a:pt x="17165" y="3919"/>
                </a:cubicBezTo>
                <a:cubicBezTo>
                  <a:pt x="17217" y="3915"/>
                  <a:pt x="17222" y="3933"/>
                  <a:pt x="17264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57960" y="1330200"/>
            <a:ext cx="357120" cy="125640"/>
          </a:xfrm>
          <a:custGeom>
            <a:avLst/>
            <a:gdLst/>
            <a:ahLst/>
            <a:rect l="l" t="t" r="r" b="b"/>
            <a:pathLst>
              <a:path w="993" h="348">
                <a:moveTo>
                  <a:pt x="17711" y="3870"/>
                </a:moveTo>
                <a:cubicBezTo>
                  <a:pt x="17688" y="3847"/>
                  <a:pt x="17684" y="3839"/>
                  <a:pt x="17661" y="3845"/>
                </a:cubicBezTo>
                <a:cubicBezTo>
                  <a:pt x="17671" y="3804"/>
                  <a:pt x="17689" y="3775"/>
                  <a:pt x="17735" y="3770"/>
                </a:cubicBezTo>
                <a:cubicBezTo>
                  <a:pt x="17812" y="3761"/>
                  <a:pt x="17831" y="3770"/>
                  <a:pt x="17835" y="3845"/>
                </a:cubicBezTo>
                <a:cubicBezTo>
                  <a:pt x="17837" y="3883"/>
                  <a:pt x="17858" y="4018"/>
                  <a:pt x="17810" y="4043"/>
                </a:cubicBezTo>
                <a:cubicBezTo>
                  <a:pt x="17796" y="4051"/>
                  <a:pt x="17703" y="4043"/>
                  <a:pt x="17686" y="4043"/>
                </a:cubicBezTo>
              </a:path>
              <a:path w="993" h="348">
                <a:moveTo>
                  <a:pt x="17934" y="3746"/>
                </a:moveTo>
                <a:cubicBezTo>
                  <a:pt x="17950" y="3729"/>
                  <a:pt x="17967" y="3713"/>
                  <a:pt x="17983" y="3696"/>
                </a:cubicBezTo>
                <a:cubicBezTo>
                  <a:pt x="17943" y="3747"/>
                  <a:pt x="17912" y="3781"/>
                  <a:pt x="17909" y="3845"/>
                </a:cubicBezTo>
                <a:cubicBezTo>
                  <a:pt x="17905" y="3926"/>
                  <a:pt x="17928" y="3985"/>
                  <a:pt x="18008" y="3994"/>
                </a:cubicBezTo>
                <a:cubicBezTo>
                  <a:pt x="18025" y="3994"/>
                  <a:pt x="18041" y="3994"/>
                  <a:pt x="18058" y="3994"/>
                </a:cubicBezTo>
              </a:path>
              <a:path w="993" h="348">
                <a:moveTo>
                  <a:pt x="18405" y="3820"/>
                </a:moveTo>
                <a:cubicBezTo>
                  <a:pt x="18451" y="3820"/>
                  <a:pt x="18463" y="3840"/>
                  <a:pt x="18504" y="3845"/>
                </a:cubicBezTo>
                <a:cubicBezTo>
                  <a:pt x="18541" y="3849"/>
                  <a:pt x="18579" y="3820"/>
                  <a:pt x="18628" y="3820"/>
                </a:cubicBezTo>
                <a:cubicBezTo>
                  <a:pt x="18636" y="3820"/>
                  <a:pt x="18645" y="3820"/>
                  <a:pt x="18653" y="38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45200" y="1177920"/>
            <a:ext cx="366840" cy="179280"/>
          </a:xfrm>
          <a:custGeom>
            <a:avLst/>
            <a:gdLst/>
            <a:ahLst/>
            <a:rect l="l" t="t" r="r" b="b"/>
            <a:pathLst>
              <a:path w="1018" h="497">
                <a:moveTo>
                  <a:pt x="19596" y="3398"/>
                </a:moveTo>
                <a:cubicBezTo>
                  <a:pt x="19571" y="3365"/>
                  <a:pt x="19550" y="3331"/>
                  <a:pt x="19596" y="3299"/>
                </a:cubicBezTo>
                <a:cubicBezTo>
                  <a:pt x="19621" y="3282"/>
                  <a:pt x="19742" y="3247"/>
                  <a:pt x="19769" y="3274"/>
                </a:cubicBezTo>
                <a:cubicBezTo>
                  <a:pt x="19824" y="3330"/>
                  <a:pt x="19789" y="3415"/>
                  <a:pt x="19769" y="3473"/>
                </a:cubicBezTo>
                <a:cubicBezTo>
                  <a:pt x="19744" y="3547"/>
                  <a:pt x="19663" y="3602"/>
                  <a:pt x="19645" y="3671"/>
                </a:cubicBezTo>
                <a:cubicBezTo>
                  <a:pt x="19622" y="3757"/>
                  <a:pt x="19675" y="3766"/>
                  <a:pt x="19745" y="3770"/>
                </a:cubicBezTo>
                <a:cubicBezTo>
                  <a:pt x="19828" y="3774"/>
                  <a:pt x="19896" y="3732"/>
                  <a:pt x="19968" y="3696"/>
                </a:cubicBezTo>
                <a:cubicBezTo>
                  <a:pt x="20016" y="3672"/>
                  <a:pt x="20030" y="3663"/>
                  <a:pt x="20067" y="3671"/>
                </a:cubicBezTo>
              </a:path>
              <a:path w="1018" h="497">
                <a:moveTo>
                  <a:pt x="20563" y="3497"/>
                </a:moveTo>
                <a:cubicBezTo>
                  <a:pt x="20571" y="3489"/>
                  <a:pt x="20580" y="3481"/>
                  <a:pt x="20588" y="3473"/>
                </a:cubicBezTo>
                <a:cubicBezTo>
                  <a:pt x="20532" y="3473"/>
                  <a:pt x="20491" y="3489"/>
                  <a:pt x="20439" y="3497"/>
                </a:cubicBezTo>
                <a:cubicBezTo>
                  <a:pt x="20387" y="3497"/>
                  <a:pt x="20369" y="3498"/>
                  <a:pt x="20340" y="3522"/>
                </a:cubicBezTo>
              </a:path>
              <a:path w="1018" h="497">
                <a:moveTo>
                  <a:pt x="20538" y="3646"/>
                </a:moveTo>
                <a:cubicBezTo>
                  <a:pt x="20555" y="3646"/>
                  <a:pt x="20571" y="3646"/>
                  <a:pt x="20588" y="3646"/>
                </a:cubicBezTo>
                <a:cubicBezTo>
                  <a:pt x="20544" y="3679"/>
                  <a:pt x="20494" y="3675"/>
                  <a:pt x="20439" y="36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99240" y="1187280"/>
            <a:ext cx="241560" cy="196920"/>
          </a:xfrm>
          <a:custGeom>
            <a:avLst/>
            <a:gdLst/>
            <a:ahLst/>
            <a:rect l="l" t="t" r="r" b="b"/>
            <a:pathLst>
              <a:path w="671" h="547">
                <a:moveTo>
                  <a:pt x="21208" y="3522"/>
                </a:moveTo>
                <a:cubicBezTo>
                  <a:pt x="21185" y="3509"/>
                  <a:pt x="21089" y="3468"/>
                  <a:pt x="21109" y="3423"/>
                </a:cubicBezTo>
                <a:cubicBezTo>
                  <a:pt x="21136" y="3363"/>
                  <a:pt x="21230" y="3342"/>
                  <a:pt x="21282" y="3324"/>
                </a:cubicBezTo>
                <a:cubicBezTo>
                  <a:pt x="21347" y="3302"/>
                  <a:pt x="21362" y="3294"/>
                  <a:pt x="21406" y="3299"/>
                </a:cubicBezTo>
                <a:cubicBezTo>
                  <a:pt x="21443" y="3360"/>
                  <a:pt x="21441" y="3426"/>
                  <a:pt x="21406" y="3497"/>
                </a:cubicBezTo>
                <a:cubicBezTo>
                  <a:pt x="21367" y="3575"/>
                  <a:pt x="21305" y="3650"/>
                  <a:pt x="21332" y="3746"/>
                </a:cubicBezTo>
                <a:cubicBezTo>
                  <a:pt x="21363" y="3855"/>
                  <a:pt x="21406" y="3845"/>
                  <a:pt x="21506" y="3845"/>
                </a:cubicBezTo>
                <a:cubicBezTo>
                  <a:pt x="21603" y="3845"/>
                  <a:pt x="21684" y="3806"/>
                  <a:pt x="21779" y="3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97760" y="1608120"/>
            <a:ext cx="393480" cy="196920"/>
          </a:xfrm>
          <a:custGeom>
            <a:avLst/>
            <a:gdLst/>
            <a:ahLst/>
            <a:rect l="l" t="t" r="r" b="b"/>
            <a:pathLst>
              <a:path w="1093" h="547">
                <a:moveTo>
                  <a:pt x="17239" y="4713"/>
                </a:moveTo>
                <a:cubicBezTo>
                  <a:pt x="17231" y="4713"/>
                  <a:pt x="17222" y="4713"/>
                  <a:pt x="17214" y="4713"/>
                </a:cubicBezTo>
                <a:cubicBezTo>
                  <a:pt x="17258" y="4687"/>
                  <a:pt x="17331" y="4672"/>
                  <a:pt x="17388" y="4688"/>
                </a:cubicBezTo>
                <a:cubicBezTo>
                  <a:pt x="17486" y="4715"/>
                  <a:pt x="17487" y="4778"/>
                  <a:pt x="17487" y="4862"/>
                </a:cubicBezTo>
                <a:cubicBezTo>
                  <a:pt x="17487" y="4935"/>
                  <a:pt x="17450" y="4953"/>
                  <a:pt x="17388" y="4986"/>
                </a:cubicBezTo>
                <a:cubicBezTo>
                  <a:pt x="17340" y="5010"/>
                  <a:pt x="17326" y="5018"/>
                  <a:pt x="17289" y="5011"/>
                </a:cubicBezTo>
              </a:path>
              <a:path w="1093" h="547">
                <a:moveTo>
                  <a:pt x="17537" y="4713"/>
                </a:moveTo>
                <a:cubicBezTo>
                  <a:pt x="17610" y="4658"/>
                  <a:pt x="17610" y="4633"/>
                  <a:pt x="17661" y="4638"/>
                </a:cubicBezTo>
                <a:cubicBezTo>
                  <a:pt x="17611" y="4663"/>
                  <a:pt x="17591" y="4729"/>
                  <a:pt x="17562" y="4787"/>
                </a:cubicBezTo>
                <a:cubicBezTo>
                  <a:pt x="17526" y="4859"/>
                  <a:pt x="17514" y="4933"/>
                  <a:pt x="17587" y="4986"/>
                </a:cubicBezTo>
                <a:cubicBezTo>
                  <a:pt x="17620" y="4986"/>
                  <a:pt x="17636" y="4986"/>
                  <a:pt x="17661" y="4986"/>
                </a:cubicBezTo>
              </a:path>
              <a:path w="1093" h="547">
                <a:moveTo>
                  <a:pt x="17983" y="4564"/>
                </a:moveTo>
                <a:cubicBezTo>
                  <a:pt x="17995" y="4518"/>
                  <a:pt x="18007" y="4509"/>
                  <a:pt x="18033" y="4490"/>
                </a:cubicBezTo>
                <a:cubicBezTo>
                  <a:pt x="18079" y="4456"/>
                  <a:pt x="18114" y="4452"/>
                  <a:pt x="18157" y="4490"/>
                </a:cubicBezTo>
                <a:cubicBezTo>
                  <a:pt x="18185" y="4514"/>
                  <a:pt x="18200" y="4578"/>
                  <a:pt x="18182" y="4614"/>
                </a:cubicBezTo>
                <a:cubicBezTo>
                  <a:pt x="18168" y="4641"/>
                  <a:pt x="18135" y="4700"/>
                  <a:pt x="18157" y="4738"/>
                </a:cubicBezTo>
                <a:cubicBezTo>
                  <a:pt x="18188" y="4793"/>
                  <a:pt x="18266" y="4753"/>
                  <a:pt x="18306" y="47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85000" y="1581120"/>
            <a:ext cx="561960" cy="177840"/>
          </a:xfrm>
          <a:custGeom>
            <a:avLst/>
            <a:gdLst/>
            <a:ahLst/>
            <a:rect l="l" t="t" r="r" b="b"/>
            <a:pathLst>
              <a:path w="1564" h="498">
                <a:moveTo>
                  <a:pt x="19372" y="4812"/>
                </a:moveTo>
                <a:cubicBezTo>
                  <a:pt x="19289" y="4812"/>
                  <a:pt x="19207" y="4812"/>
                  <a:pt x="19124" y="4812"/>
                </a:cubicBezTo>
              </a:path>
              <a:path w="1564" h="498">
                <a:moveTo>
                  <a:pt x="19596" y="4564"/>
                </a:moveTo>
                <a:cubicBezTo>
                  <a:pt x="19596" y="4525"/>
                  <a:pt x="19585" y="4490"/>
                  <a:pt x="19621" y="4465"/>
                </a:cubicBezTo>
                <a:cubicBezTo>
                  <a:pt x="19687" y="4419"/>
                  <a:pt x="19766" y="4394"/>
                  <a:pt x="19844" y="4390"/>
                </a:cubicBezTo>
                <a:cubicBezTo>
                  <a:pt x="19950" y="4384"/>
                  <a:pt x="19964" y="4446"/>
                  <a:pt x="19968" y="4539"/>
                </a:cubicBezTo>
                <a:cubicBezTo>
                  <a:pt x="19972" y="4630"/>
                  <a:pt x="19909" y="4680"/>
                  <a:pt x="19869" y="4762"/>
                </a:cubicBezTo>
                <a:cubicBezTo>
                  <a:pt x="19845" y="4811"/>
                  <a:pt x="19844" y="4834"/>
                  <a:pt x="19844" y="4887"/>
                </a:cubicBezTo>
                <a:cubicBezTo>
                  <a:pt x="19932" y="4887"/>
                  <a:pt x="20010" y="4876"/>
                  <a:pt x="20092" y="4862"/>
                </a:cubicBezTo>
                <a:cubicBezTo>
                  <a:pt x="20146" y="4853"/>
                  <a:pt x="20162" y="4845"/>
                  <a:pt x="20216" y="4837"/>
                </a:cubicBezTo>
              </a:path>
              <a:path w="1564" h="498">
                <a:moveTo>
                  <a:pt x="20638" y="4638"/>
                </a:moveTo>
                <a:cubicBezTo>
                  <a:pt x="20654" y="4638"/>
                  <a:pt x="20671" y="4638"/>
                  <a:pt x="20687" y="4638"/>
                </a:cubicBezTo>
                <a:cubicBezTo>
                  <a:pt x="20613" y="4638"/>
                  <a:pt x="20557" y="4633"/>
                  <a:pt x="20489" y="4663"/>
                </a:cubicBezTo>
              </a:path>
              <a:path w="1564" h="498">
                <a:moveTo>
                  <a:pt x="20588" y="4762"/>
                </a:moveTo>
                <a:cubicBezTo>
                  <a:pt x="20645" y="4762"/>
                  <a:pt x="20689" y="4762"/>
                  <a:pt x="20613" y="4787"/>
                </a:cubicBezTo>
                <a:cubicBezTo>
                  <a:pt x="20566" y="4803"/>
                  <a:pt x="20527" y="4808"/>
                  <a:pt x="20489" y="48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16880" y="1544760"/>
            <a:ext cx="428400" cy="187200"/>
          </a:xfrm>
          <a:custGeom>
            <a:avLst/>
            <a:gdLst/>
            <a:ahLst/>
            <a:rect l="l" t="t" r="r" b="b"/>
            <a:pathLst>
              <a:path w="1192" h="522">
                <a:moveTo>
                  <a:pt x="21183" y="4663"/>
                </a:moveTo>
                <a:cubicBezTo>
                  <a:pt x="21147" y="4580"/>
                  <a:pt x="21145" y="4591"/>
                  <a:pt x="21208" y="4539"/>
                </a:cubicBezTo>
                <a:cubicBezTo>
                  <a:pt x="21258" y="4498"/>
                  <a:pt x="21314" y="4472"/>
                  <a:pt x="21382" y="4490"/>
                </a:cubicBezTo>
                <a:cubicBezTo>
                  <a:pt x="21457" y="4510"/>
                  <a:pt x="21478" y="4596"/>
                  <a:pt x="21481" y="4663"/>
                </a:cubicBezTo>
                <a:cubicBezTo>
                  <a:pt x="21485" y="4747"/>
                  <a:pt x="21462" y="4799"/>
                  <a:pt x="21382" y="4812"/>
                </a:cubicBezTo>
                <a:cubicBezTo>
                  <a:pt x="21349" y="4812"/>
                  <a:pt x="21332" y="4812"/>
                  <a:pt x="21307" y="4812"/>
                </a:cubicBezTo>
              </a:path>
              <a:path w="1192" h="522">
                <a:moveTo>
                  <a:pt x="21555" y="4415"/>
                </a:moveTo>
                <a:cubicBezTo>
                  <a:pt x="21572" y="4390"/>
                  <a:pt x="21588" y="4366"/>
                  <a:pt x="21605" y="4341"/>
                </a:cubicBezTo>
                <a:cubicBezTo>
                  <a:pt x="21561" y="4396"/>
                  <a:pt x="21517" y="4467"/>
                  <a:pt x="21506" y="4539"/>
                </a:cubicBezTo>
                <a:cubicBezTo>
                  <a:pt x="21493" y="4629"/>
                  <a:pt x="21530" y="4741"/>
                  <a:pt x="21630" y="4762"/>
                </a:cubicBezTo>
                <a:cubicBezTo>
                  <a:pt x="21655" y="4762"/>
                  <a:pt x="21679" y="4762"/>
                  <a:pt x="21704" y="4762"/>
                </a:cubicBezTo>
              </a:path>
              <a:path w="1192" h="522">
                <a:moveTo>
                  <a:pt x="22275" y="4589"/>
                </a:moveTo>
                <a:cubicBezTo>
                  <a:pt x="22304" y="4581"/>
                  <a:pt x="22320" y="4571"/>
                  <a:pt x="22349" y="4564"/>
                </a:cubicBezTo>
                <a:cubicBezTo>
                  <a:pt x="22279" y="4564"/>
                  <a:pt x="22220" y="4543"/>
                  <a:pt x="22151" y="4539"/>
                </a:cubicBezTo>
                <a:cubicBezTo>
                  <a:pt x="22101" y="4539"/>
                  <a:pt x="22084" y="4539"/>
                  <a:pt x="22051" y="4539"/>
                </a:cubicBezTo>
              </a:path>
              <a:path w="1192" h="522">
                <a:moveTo>
                  <a:pt x="22200" y="4291"/>
                </a:moveTo>
                <a:cubicBezTo>
                  <a:pt x="22242" y="4361"/>
                  <a:pt x="22225" y="4453"/>
                  <a:pt x="22225" y="4539"/>
                </a:cubicBezTo>
                <a:cubicBezTo>
                  <a:pt x="22225" y="4607"/>
                  <a:pt x="22208" y="4649"/>
                  <a:pt x="22200" y="4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188200" y="1455840"/>
            <a:ext cx="214560" cy="250560"/>
          </a:xfrm>
          <a:custGeom>
            <a:avLst/>
            <a:gdLst/>
            <a:ahLst/>
            <a:rect l="l" t="t" r="r" b="b"/>
            <a:pathLst>
              <a:path w="596" h="696">
                <a:moveTo>
                  <a:pt x="22796" y="4142"/>
                </a:moveTo>
                <a:cubicBezTo>
                  <a:pt x="22767" y="4142"/>
                  <a:pt x="22797" y="4128"/>
                  <a:pt x="22820" y="4093"/>
                </a:cubicBezTo>
                <a:cubicBezTo>
                  <a:pt x="22854" y="4041"/>
                  <a:pt x="22887" y="4043"/>
                  <a:pt x="22944" y="4043"/>
                </a:cubicBezTo>
                <a:cubicBezTo>
                  <a:pt x="22996" y="4043"/>
                  <a:pt x="23027" y="4145"/>
                  <a:pt x="23019" y="4192"/>
                </a:cubicBezTo>
                <a:cubicBezTo>
                  <a:pt x="23001" y="4292"/>
                  <a:pt x="22909" y="4390"/>
                  <a:pt x="22845" y="4465"/>
                </a:cubicBezTo>
                <a:cubicBezTo>
                  <a:pt x="22803" y="4514"/>
                  <a:pt x="22723" y="4614"/>
                  <a:pt x="22746" y="4688"/>
                </a:cubicBezTo>
                <a:cubicBezTo>
                  <a:pt x="22766" y="4754"/>
                  <a:pt x="22869" y="4747"/>
                  <a:pt x="22920" y="4738"/>
                </a:cubicBezTo>
                <a:cubicBezTo>
                  <a:pt x="23033" y="4718"/>
                  <a:pt x="23127" y="4668"/>
                  <a:pt x="23242" y="4663"/>
                </a:cubicBezTo>
                <a:cubicBezTo>
                  <a:pt x="23292" y="4663"/>
                  <a:pt x="23308" y="4663"/>
                  <a:pt x="23341" y="46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19960" y="1857240"/>
            <a:ext cx="331920" cy="98640"/>
          </a:xfrm>
          <a:custGeom>
            <a:avLst/>
            <a:gdLst/>
            <a:ahLst/>
            <a:rect l="l" t="t" r="r" b="b"/>
            <a:pathLst>
              <a:path w="918" h="274">
                <a:moveTo>
                  <a:pt x="20638" y="5259"/>
                </a:moveTo>
                <a:cubicBezTo>
                  <a:pt x="20638" y="5234"/>
                  <a:pt x="20638" y="5226"/>
                  <a:pt x="20638" y="5209"/>
                </a:cubicBezTo>
                <a:cubicBezTo>
                  <a:pt x="20598" y="5222"/>
                  <a:pt x="20613" y="5257"/>
                  <a:pt x="20613" y="5308"/>
                </a:cubicBezTo>
                <a:cubicBezTo>
                  <a:pt x="20613" y="5375"/>
                  <a:pt x="20650" y="5401"/>
                  <a:pt x="20712" y="5407"/>
                </a:cubicBezTo>
                <a:cubicBezTo>
                  <a:pt x="20788" y="5414"/>
                  <a:pt x="20786" y="5355"/>
                  <a:pt x="20811" y="5308"/>
                </a:cubicBezTo>
                <a:cubicBezTo>
                  <a:pt x="20836" y="5262"/>
                  <a:pt x="20836" y="5255"/>
                  <a:pt x="20836" y="5209"/>
                </a:cubicBezTo>
              </a:path>
              <a:path w="918" h="274">
                <a:moveTo>
                  <a:pt x="21034" y="5184"/>
                </a:moveTo>
                <a:cubicBezTo>
                  <a:pt x="21113" y="5150"/>
                  <a:pt x="21110" y="5127"/>
                  <a:pt x="21034" y="5159"/>
                </a:cubicBezTo>
                <a:cubicBezTo>
                  <a:pt x="21006" y="5171"/>
                  <a:pt x="20966" y="5226"/>
                  <a:pt x="20985" y="5259"/>
                </a:cubicBezTo>
                <a:cubicBezTo>
                  <a:pt x="21010" y="5302"/>
                  <a:pt x="21077" y="5312"/>
                  <a:pt x="21109" y="5333"/>
                </a:cubicBezTo>
                <a:cubicBezTo>
                  <a:pt x="21134" y="5358"/>
                  <a:pt x="21142" y="5366"/>
                  <a:pt x="21158" y="5383"/>
                </a:cubicBezTo>
                <a:cubicBezTo>
                  <a:pt x="21149" y="5411"/>
                  <a:pt x="21124" y="5428"/>
                  <a:pt x="21084" y="5432"/>
                </a:cubicBezTo>
                <a:cubicBezTo>
                  <a:pt x="21060" y="5435"/>
                  <a:pt x="21034" y="5432"/>
                  <a:pt x="21010" y="5432"/>
                </a:cubicBezTo>
              </a:path>
              <a:path w="918" h="274">
                <a:moveTo>
                  <a:pt x="21183" y="5308"/>
                </a:moveTo>
                <a:cubicBezTo>
                  <a:pt x="21225" y="5293"/>
                  <a:pt x="21340" y="5267"/>
                  <a:pt x="21357" y="5209"/>
                </a:cubicBezTo>
                <a:cubicBezTo>
                  <a:pt x="21357" y="5192"/>
                  <a:pt x="21357" y="5176"/>
                  <a:pt x="21357" y="5159"/>
                </a:cubicBezTo>
                <a:cubicBezTo>
                  <a:pt x="21312" y="5159"/>
                  <a:pt x="21286" y="5157"/>
                  <a:pt x="21282" y="5209"/>
                </a:cubicBezTo>
                <a:cubicBezTo>
                  <a:pt x="21276" y="5289"/>
                  <a:pt x="21275" y="5349"/>
                  <a:pt x="21357" y="5383"/>
                </a:cubicBezTo>
                <a:cubicBezTo>
                  <a:pt x="21415" y="5407"/>
                  <a:pt x="21482" y="5357"/>
                  <a:pt x="21530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082000" y="1820880"/>
            <a:ext cx="1440" cy="46080"/>
          </a:xfrm>
          <a:custGeom>
            <a:avLst/>
            <a:gdLst/>
            <a:ahLst/>
            <a:rect l="l" t="t" r="r" b="b"/>
            <a:pathLst>
              <a:path w="1" h="125">
                <a:moveTo>
                  <a:pt x="22448" y="5060"/>
                </a:moveTo>
                <a:cubicBezTo>
                  <a:pt x="22448" y="5101"/>
                  <a:pt x="22448" y="5143"/>
                  <a:pt x="22448" y="51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188200" y="1830240"/>
            <a:ext cx="268560" cy="17964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22944" y="5184"/>
                </a:moveTo>
                <a:cubicBezTo>
                  <a:pt x="22969" y="5184"/>
                  <a:pt x="22977" y="5184"/>
                  <a:pt x="22994" y="5184"/>
                </a:cubicBezTo>
                <a:cubicBezTo>
                  <a:pt x="22984" y="5213"/>
                  <a:pt x="22952" y="5227"/>
                  <a:pt x="22920" y="5259"/>
                </a:cubicBezTo>
                <a:cubicBezTo>
                  <a:pt x="22875" y="5304"/>
                  <a:pt x="22844" y="5340"/>
                  <a:pt x="22796" y="5383"/>
                </a:cubicBezTo>
                <a:cubicBezTo>
                  <a:pt x="22771" y="5407"/>
                  <a:pt x="22762" y="5415"/>
                  <a:pt x="22746" y="5432"/>
                </a:cubicBezTo>
              </a:path>
              <a:path w="745" h="497">
                <a:moveTo>
                  <a:pt x="22969" y="5457"/>
                </a:moveTo>
                <a:cubicBezTo>
                  <a:pt x="22936" y="5424"/>
                  <a:pt x="22903" y="5391"/>
                  <a:pt x="22870" y="5358"/>
                </a:cubicBezTo>
                <a:cubicBezTo>
                  <a:pt x="22831" y="5319"/>
                  <a:pt x="22789" y="5293"/>
                  <a:pt x="22746" y="5259"/>
                </a:cubicBezTo>
              </a:path>
              <a:path w="745" h="497">
                <a:moveTo>
                  <a:pt x="23168" y="5110"/>
                </a:moveTo>
                <a:cubicBezTo>
                  <a:pt x="23168" y="5102"/>
                  <a:pt x="23168" y="5093"/>
                  <a:pt x="23168" y="5085"/>
                </a:cubicBezTo>
                <a:cubicBezTo>
                  <a:pt x="23168" y="5126"/>
                  <a:pt x="23168" y="5168"/>
                  <a:pt x="23168" y="5209"/>
                </a:cubicBezTo>
              </a:path>
              <a:path w="745" h="497">
                <a:moveTo>
                  <a:pt x="23416" y="5308"/>
                </a:moveTo>
                <a:cubicBezTo>
                  <a:pt x="23380" y="5317"/>
                  <a:pt x="23345" y="5324"/>
                  <a:pt x="23341" y="5358"/>
                </a:cubicBezTo>
                <a:cubicBezTo>
                  <a:pt x="23335" y="5410"/>
                  <a:pt x="23370" y="5438"/>
                  <a:pt x="23416" y="5457"/>
                </a:cubicBezTo>
                <a:cubicBezTo>
                  <a:pt x="23451" y="5471"/>
                  <a:pt x="23485" y="5471"/>
                  <a:pt x="23490" y="5507"/>
                </a:cubicBezTo>
                <a:cubicBezTo>
                  <a:pt x="23497" y="5559"/>
                  <a:pt x="23432" y="5578"/>
                  <a:pt x="23391" y="5581"/>
                </a:cubicBezTo>
                <a:cubicBezTo>
                  <a:pt x="23374" y="5581"/>
                  <a:pt x="23358" y="5581"/>
                  <a:pt x="23341" y="5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2438280"/>
            <a:ext cx="134640" cy="16056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9103" y="6846"/>
                </a:moveTo>
                <a:cubicBezTo>
                  <a:pt x="9118" y="6907"/>
                  <a:pt x="9154" y="6908"/>
                  <a:pt x="9203" y="6945"/>
                </a:cubicBezTo>
                <a:cubicBezTo>
                  <a:pt x="9253" y="6983"/>
                  <a:pt x="9299" y="7035"/>
                  <a:pt x="9351" y="7069"/>
                </a:cubicBezTo>
                <a:cubicBezTo>
                  <a:pt x="9393" y="7097"/>
                  <a:pt x="9416" y="7109"/>
                  <a:pt x="9451" y="7144"/>
                </a:cubicBezTo>
              </a:path>
              <a:path w="373" h="447">
                <a:moveTo>
                  <a:pt x="9451" y="6796"/>
                </a:moveTo>
                <a:cubicBezTo>
                  <a:pt x="9459" y="6788"/>
                  <a:pt x="9467" y="6780"/>
                  <a:pt x="9475" y="6772"/>
                </a:cubicBezTo>
                <a:cubicBezTo>
                  <a:pt x="9435" y="6822"/>
                  <a:pt x="9391" y="6870"/>
                  <a:pt x="9351" y="6921"/>
                </a:cubicBezTo>
                <a:cubicBezTo>
                  <a:pt x="9291" y="6999"/>
                  <a:pt x="9225" y="7085"/>
                  <a:pt x="9178" y="7169"/>
                </a:cubicBezTo>
                <a:cubicBezTo>
                  <a:pt x="9170" y="7185"/>
                  <a:pt x="9161" y="7202"/>
                  <a:pt x="9153" y="72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84160" y="3625920"/>
            <a:ext cx="160560" cy="152280"/>
          </a:xfrm>
          <a:custGeom>
            <a:avLst/>
            <a:gdLst/>
            <a:ahLst/>
            <a:rect l="l" t="t" r="r" b="b"/>
            <a:pathLst>
              <a:path w="447" h="422">
                <a:moveTo>
                  <a:pt x="2803" y="10145"/>
                </a:moveTo>
                <a:cubicBezTo>
                  <a:pt x="2740" y="10161"/>
                  <a:pt x="2725" y="10208"/>
                  <a:pt x="2679" y="10244"/>
                </a:cubicBezTo>
                <a:cubicBezTo>
                  <a:pt x="2608" y="10301"/>
                  <a:pt x="2561" y="10346"/>
                  <a:pt x="2505" y="10418"/>
                </a:cubicBezTo>
                <a:cubicBezTo>
                  <a:pt x="2480" y="10443"/>
                  <a:pt x="2472" y="10451"/>
                  <a:pt x="2456" y="10468"/>
                </a:cubicBezTo>
              </a:path>
              <a:path w="447" h="422">
                <a:moveTo>
                  <a:pt x="2456" y="10071"/>
                </a:moveTo>
                <a:cubicBezTo>
                  <a:pt x="2499" y="10082"/>
                  <a:pt x="2522" y="10112"/>
                  <a:pt x="2555" y="10145"/>
                </a:cubicBezTo>
                <a:cubicBezTo>
                  <a:pt x="2627" y="10218"/>
                  <a:pt x="2697" y="10304"/>
                  <a:pt x="2778" y="10368"/>
                </a:cubicBezTo>
                <a:cubicBezTo>
                  <a:pt x="2841" y="10418"/>
                  <a:pt x="2856" y="10435"/>
                  <a:pt x="2902" y="10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2089080"/>
            <a:ext cx="295200" cy="285840"/>
          </a:xfrm>
          <a:custGeom>
            <a:avLst/>
            <a:gdLst/>
            <a:ahLst/>
            <a:rect l="l" t="t" r="r" b="b"/>
            <a:pathLst>
              <a:path w="820" h="795">
                <a:moveTo>
                  <a:pt x="14536" y="6300"/>
                </a:moveTo>
                <a:cubicBezTo>
                  <a:pt x="14557" y="6263"/>
                  <a:pt x="14576" y="6238"/>
                  <a:pt x="14585" y="6201"/>
                </a:cubicBezTo>
                <a:cubicBezTo>
                  <a:pt x="14531" y="6201"/>
                  <a:pt x="14483" y="6192"/>
                  <a:pt x="14436" y="6226"/>
                </a:cubicBezTo>
                <a:cubicBezTo>
                  <a:pt x="14349" y="6290"/>
                  <a:pt x="14318" y="6347"/>
                  <a:pt x="14312" y="6449"/>
                </a:cubicBezTo>
                <a:cubicBezTo>
                  <a:pt x="14312" y="6474"/>
                  <a:pt x="14312" y="6482"/>
                  <a:pt x="14312" y="6499"/>
                </a:cubicBezTo>
                <a:cubicBezTo>
                  <a:pt x="14397" y="6487"/>
                  <a:pt x="14397" y="6453"/>
                  <a:pt x="14436" y="6375"/>
                </a:cubicBezTo>
                <a:cubicBezTo>
                  <a:pt x="14458" y="6331"/>
                  <a:pt x="14461" y="6319"/>
                  <a:pt x="14486" y="6300"/>
                </a:cubicBezTo>
                <a:cubicBezTo>
                  <a:pt x="14524" y="6347"/>
                  <a:pt x="14547" y="6402"/>
                  <a:pt x="14585" y="6449"/>
                </a:cubicBezTo>
              </a:path>
              <a:path w="820" h="795">
                <a:moveTo>
                  <a:pt x="14784" y="6226"/>
                </a:moveTo>
                <a:cubicBezTo>
                  <a:pt x="14792" y="6209"/>
                  <a:pt x="14800" y="6193"/>
                  <a:pt x="14808" y="6176"/>
                </a:cubicBezTo>
                <a:cubicBezTo>
                  <a:pt x="14808" y="6257"/>
                  <a:pt x="14798" y="6321"/>
                  <a:pt x="14784" y="6400"/>
                </a:cubicBezTo>
                <a:cubicBezTo>
                  <a:pt x="14784" y="6433"/>
                  <a:pt x="14784" y="6449"/>
                  <a:pt x="14784" y="6474"/>
                </a:cubicBezTo>
              </a:path>
              <a:path w="820" h="795">
                <a:moveTo>
                  <a:pt x="14932" y="6201"/>
                </a:moveTo>
                <a:cubicBezTo>
                  <a:pt x="14955" y="6178"/>
                  <a:pt x="14959" y="6170"/>
                  <a:pt x="14982" y="6176"/>
                </a:cubicBezTo>
                <a:cubicBezTo>
                  <a:pt x="14982" y="6275"/>
                  <a:pt x="14982" y="6375"/>
                  <a:pt x="14982" y="6474"/>
                </a:cubicBezTo>
              </a:path>
              <a:path w="820" h="795">
                <a:moveTo>
                  <a:pt x="14957" y="6102"/>
                </a:moveTo>
                <a:cubicBezTo>
                  <a:pt x="14957" y="6085"/>
                  <a:pt x="14957" y="6069"/>
                  <a:pt x="14957" y="6052"/>
                </a:cubicBezTo>
              </a:path>
              <a:path w="820" h="795">
                <a:moveTo>
                  <a:pt x="14858" y="6003"/>
                </a:moveTo>
                <a:cubicBezTo>
                  <a:pt x="14818" y="5983"/>
                  <a:pt x="14811" y="5974"/>
                  <a:pt x="14784" y="5978"/>
                </a:cubicBezTo>
              </a:path>
              <a:path w="820" h="795">
                <a:moveTo>
                  <a:pt x="14734" y="5854"/>
                </a:moveTo>
                <a:cubicBezTo>
                  <a:pt x="14836" y="5798"/>
                  <a:pt x="14880" y="5776"/>
                  <a:pt x="14982" y="5854"/>
                </a:cubicBezTo>
                <a:cubicBezTo>
                  <a:pt x="15069" y="5920"/>
                  <a:pt x="15134" y="6067"/>
                  <a:pt x="15131" y="6176"/>
                </a:cubicBezTo>
                <a:cubicBezTo>
                  <a:pt x="15128" y="6294"/>
                  <a:pt x="15080" y="6454"/>
                  <a:pt x="15007" y="6548"/>
                </a:cubicBezTo>
                <a:cubicBezTo>
                  <a:pt x="14990" y="6565"/>
                  <a:pt x="14974" y="6581"/>
                  <a:pt x="14957" y="6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43720" y="2178000"/>
            <a:ext cx="241200" cy="127080"/>
          </a:xfrm>
          <a:custGeom>
            <a:avLst/>
            <a:gdLst/>
            <a:ahLst/>
            <a:rect l="l" t="t" r="r" b="b"/>
            <a:pathLst>
              <a:path w="670" h="349">
                <a:moveTo>
                  <a:pt x="15701" y="6201"/>
                </a:moveTo>
                <a:cubicBezTo>
                  <a:pt x="15671" y="6160"/>
                  <a:pt x="15665" y="6143"/>
                  <a:pt x="15701" y="6102"/>
                </a:cubicBezTo>
                <a:cubicBezTo>
                  <a:pt x="15745" y="6052"/>
                  <a:pt x="15759" y="6052"/>
                  <a:pt x="15825" y="6052"/>
                </a:cubicBezTo>
                <a:cubicBezTo>
                  <a:pt x="15864" y="6052"/>
                  <a:pt x="15918" y="6160"/>
                  <a:pt x="15925" y="6201"/>
                </a:cubicBezTo>
                <a:cubicBezTo>
                  <a:pt x="15935" y="6258"/>
                  <a:pt x="15936" y="6366"/>
                  <a:pt x="15875" y="6400"/>
                </a:cubicBezTo>
                <a:cubicBezTo>
                  <a:pt x="15830" y="6425"/>
                  <a:pt x="15759" y="6375"/>
                  <a:pt x="15726" y="6350"/>
                </a:cubicBezTo>
                <a:cubicBezTo>
                  <a:pt x="15687" y="6321"/>
                  <a:pt x="15701" y="6270"/>
                  <a:pt x="15701" y="6226"/>
                </a:cubicBezTo>
              </a:path>
              <a:path w="670" h="349">
                <a:moveTo>
                  <a:pt x="16073" y="6127"/>
                </a:moveTo>
                <a:cubicBezTo>
                  <a:pt x="16113" y="6140"/>
                  <a:pt x="16098" y="6175"/>
                  <a:pt x="16098" y="6226"/>
                </a:cubicBezTo>
                <a:cubicBezTo>
                  <a:pt x="16098" y="6249"/>
                  <a:pt x="16098" y="6405"/>
                  <a:pt x="16098" y="6350"/>
                </a:cubicBezTo>
                <a:cubicBezTo>
                  <a:pt x="16098" y="6298"/>
                  <a:pt x="16126" y="6224"/>
                  <a:pt x="16148" y="6176"/>
                </a:cubicBezTo>
                <a:cubicBezTo>
                  <a:pt x="16174" y="6118"/>
                  <a:pt x="16214" y="6067"/>
                  <a:pt x="16272" y="6052"/>
                </a:cubicBezTo>
                <a:cubicBezTo>
                  <a:pt x="16283" y="6106"/>
                  <a:pt x="16304" y="6175"/>
                  <a:pt x="16321" y="6226"/>
                </a:cubicBezTo>
                <a:cubicBezTo>
                  <a:pt x="16341" y="6266"/>
                  <a:pt x="16350" y="6273"/>
                  <a:pt x="16346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18120" y="2071800"/>
            <a:ext cx="812880" cy="233280"/>
          </a:xfrm>
          <a:custGeom>
            <a:avLst/>
            <a:gdLst/>
            <a:ahLst/>
            <a:rect l="l" t="t" r="r" b="b"/>
            <a:pathLst>
              <a:path w="2259" h="646">
                <a:moveTo>
                  <a:pt x="16743" y="6201"/>
                </a:moveTo>
                <a:cubicBezTo>
                  <a:pt x="16704" y="6150"/>
                  <a:pt x="16724" y="6146"/>
                  <a:pt x="16768" y="6102"/>
                </a:cubicBezTo>
                <a:cubicBezTo>
                  <a:pt x="16805" y="6065"/>
                  <a:pt x="16846" y="6017"/>
                  <a:pt x="16892" y="6077"/>
                </a:cubicBezTo>
                <a:cubicBezTo>
                  <a:pt x="16935" y="6133"/>
                  <a:pt x="16961" y="6209"/>
                  <a:pt x="16966" y="6276"/>
                </a:cubicBezTo>
                <a:cubicBezTo>
                  <a:pt x="16971" y="6343"/>
                  <a:pt x="16889" y="6346"/>
                  <a:pt x="16842" y="6350"/>
                </a:cubicBezTo>
                <a:cubicBezTo>
                  <a:pt x="16809" y="6353"/>
                  <a:pt x="16776" y="6350"/>
                  <a:pt x="16743" y="6350"/>
                </a:cubicBezTo>
              </a:path>
              <a:path w="2259" h="646">
                <a:moveTo>
                  <a:pt x="17115" y="6102"/>
                </a:moveTo>
                <a:cubicBezTo>
                  <a:pt x="17094" y="6060"/>
                  <a:pt x="17062" y="6137"/>
                  <a:pt x="17041" y="6176"/>
                </a:cubicBezTo>
                <a:cubicBezTo>
                  <a:pt x="17015" y="6225"/>
                  <a:pt x="16989" y="6310"/>
                  <a:pt x="17041" y="6350"/>
                </a:cubicBezTo>
                <a:cubicBezTo>
                  <a:pt x="17107" y="6401"/>
                  <a:pt x="17145" y="6405"/>
                  <a:pt x="17214" y="6375"/>
                </a:cubicBezTo>
              </a:path>
              <a:path w="2259" h="646">
                <a:moveTo>
                  <a:pt x="17413" y="6226"/>
                </a:moveTo>
                <a:cubicBezTo>
                  <a:pt x="17479" y="6226"/>
                  <a:pt x="17525" y="6216"/>
                  <a:pt x="17587" y="6201"/>
                </a:cubicBezTo>
                <a:cubicBezTo>
                  <a:pt x="17595" y="6201"/>
                  <a:pt x="17603" y="6201"/>
                  <a:pt x="17611" y="6201"/>
                </a:cubicBezTo>
              </a:path>
              <a:path w="2259" h="646">
                <a:moveTo>
                  <a:pt x="17934" y="6102"/>
                </a:moveTo>
                <a:cubicBezTo>
                  <a:pt x="17957" y="6079"/>
                  <a:pt x="17965" y="6075"/>
                  <a:pt x="17959" y="6052"/>
                </a:cubicBezTo>
                <a:cubicBezTo>
                  <a:pt x="17885" y="6052"/>
                  <a:pt x="17857" y="6060"/>
                  <a:pt x="17810" y="6127"/>
                </a:cubicBezTo>
                <a:cubicBezTo>
                  <a:pt x="17775" y="6177"/>
                  <a:pt x="17773" y="6226"/>
                  <a:pt x="17810" y="6251"/>
                </a:cubicBezTo>
                <a:cubicBezTo>
                  <a:pt x="17849" y="6241"/>
                  <a:pt x="17872" y="6213"/>
                  <a:pt x="17909" y="6201"/>
                </a:cubicBezTo>
                <a:cubicBezTo>
                  <a:pt x="17965" y="6182"/>
                  <a:pt x="17968" y="6233"/>
                  <a:pt x="18008" y="6251"/>
                </a:cubicBezTo>
                <a:cubicBezTo>
                  <a:pt x="18036" y="6251"/>
                  <a:pt x="18047" y="6253"/>
                  <a:pt x="18058" y="6276"/>
                </a:cubicBezTo>
              </a:path>
              <a:path w="2259" h="646">
                <a:moveTo>
                  <a:pt x="18355" y="6003"/>
                </a:moveTo>
                <a:cubicBezTo>
                  <a:pt x="18372" y="5995"/>
                  <a:pt x="18388" y="5986"/>
                  <a:pt x="18405" y="5978"/>
                </a:cubicBezTo>
                <a:cubicBezTo>
                  <a:pt x="18361" y="6022"/>
                  <a:pt x="18323" y="6091"/>
                  <a:pt x="18281" y="6127"/>
                </a:cubicBezTo>
                <a:cubicBezTo>
                  <a:pt x="18238" y="6164"/>
                  <a:pt x="18189" y="6189"/>
                  <a:pt x="18182" y="6251"/>
                </a:cubicBezTo>
                <a:cubicBezTo>
                  <a:pt x="18182" y="6259"/>
                  <a:pt x="18182" y="6268"/>
                  <a:pt x="18182" y="6276"/>
                </a:cubicBezTo>
              </a:path>
              <a:path w="2259" h="646">
                <a:moveTo>
                  <a:pt x="18405" y="6251"/>
                </a:moveTo>
                <a:cubicBezTo>
                  <a:pt x="18405" y="6209"/>
                  <a:pt x="18405" y="6201"/>
                  <a:pt x="18405" y="6176"/>
                </a:cubicBezTo>
                <a:cubicBezTo>
                  <a:pt x="18356" y="6164"/>
                  <a:pt x="18305" y="6127"/>
                  <a:pt x="18256" y="6102"/>
                </a:cubicBezTo>
                <a:cubicBezTo>
                  <a:pt x="18213" y="6080"/>
                  <a:pt x="18201" y="6076"/>
                  <a:pt x="18182" y="6052"/>
                </a:cubicBezTo>
              </a:path>
              <a:path w="2259" h="646">
                <a:moveTo>
                  <a:pt x="18479" y="6028"/>
                </a:moveTo>
                <a:cubicBezTo>
                  <a:pt x="18487" y="6028"/>
                  <a:pt x="18496" y="6028"/>
                  <a:pt x="18504" y="6028"/>
                </a:cubicBezTo>
                <a:cubicBezTo>
                  <a:pt x="18504" y="6086"/>
                  <a:pt x="18504" y="6143"/>
                  <a:pt x="18504" y="6201"/>
                </a:cubicBezTo>
              </a:path>
              <a:path w="2259" h="646">
                <a:moveTo>
                  <a:pt x="18579" y="5829"/>
                </a:moveTo>
                <a:cubicBezTo>
                  <a:pt x="18615" y="5749"/>
                  <a:pt x="18593" y="5735"/>
                  <a:pt x="18653" y="5779"/>
                </a:cubicBezTo>
              </a:path>
              <a:path w="2259" h="646">
                <a:moveTo>
                  <a:pt x="18951" y="5904"/>
                </a:moveTo>
                <a:cubicBezTo>
                  <a:pt x="18951" y="5887"/>
                  <a:pt x="18951" y="5871"/>
                  <a:pt x="18951" y="5854"/>
                </a:cubicBezTo>
                <a:cubicBezTo>
                  <a:pt x="18897" y="5854"/>
                  <a:pt x="18890" y="5866"/>
                  <a:pt x="18852" y="5904"/>
                </a:cubicBezTo>
                <a:cubicBezTo>
                  <a:pt x="18805" y="5951"/>
                  <a:pt x="18827" y="5983"/>
                  <a:pt x="18852" y="6028"/>
                </a:cubicBezTo>
                <a:cubicBezTo>
                  <a:pt x="18886" y="6088"/>
                  <a:pt x="18952" y="6080"/>
                  <a:pt x="18976" y="6127"/>
                </a:cubicBezTo>
                <a:cubicBezTo>
                  <a:pt x="19008" y="6191"/>
                  <a:pt x="18950" y="6231"/>
                  <a:pt x="18901" y="6251"/>
                </a:cubicBezTo>
                <a:cubicBezTo>
                  <a:pt x="18876" y="6259"/>
                  <a:pt x="18852" y="6268"/>
                  <a:pt x="18827" y="62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54760" y="2562120"/>
            <a:ext cx="258480" cy="260280"/>
          </a:xfrm>
          <a:custGeom>
            <a:avLst/>
            <a:gdLst/>
            <a:ahLst/>
            <a:rect l="l" t="t" r="r" b="b"/>
            <a:pathLst>
              <a:path w="721" h="720">
                <a:moveTo>
                  <a:pt x="14064" y="7293"/>
                </a:moveTo>
                <a:cubicBezTo>
                  <a:pt x="14064" y="7251"/>
                  <a:pt x="14064" y="7243"/>
                  <a:pt x="14064" y="7218"/>
                </a:cubicBezTo>
                <a:cubicBezTo>
                  <a:pt x="14064" y="7313"/>
                  <a:pt x="14042" y="7395"/>
                  <a:pt x="14039" y="7491"/>
                </a:cubicBezTo>
                <a:cubicBezTo>
                  <a:pt x="14037" y="7558"/>
                  <a:pt x="14049" y="7663"/>
                  <a:pt x="14089" y="7689"/>
                </a:cubicBezTo>
                <a:cubicBezTo>
                  <a:pt x="14119" y="7641"/>
                  <a:pt x="14135" y="7577"/>
                  <a:pt x="14188" y="7541"/>
                </a:cubicBezTo>
                <a:cubicBezTo>
                  <a:pt x="14196" y="7541"/>
                  <a:pt x="14205" y="7541"/>
                  <a:pt x="14213" y="7541"/>
                </a:cubicBezTo>
                <a:cubicBezTo>
                  <a:pt x="14287" y="7592"/>
                  <a:pt x="14299" y="7645"/>
                  <a:pt x="14312" y="7739"/>
                </a:cubicBezTo>
                <a:cubicBezTo>
                  <a:pt x="14322" y="7809"/>
                  <a:pt x="14291" y="7833"/>
                  <a:pt x="14238" y="7838"/>
                </a:cubicBezTo>
                <a:cubicBezTo>
                  <a:pt x="14184" y="7843"/>
                  <a:pt x="14128" y="7795"/>
                  <a:pt x="14089" y="7764"/>
                </a:cubicBezTo>
              </a:path>
              <a:path w="721" h="720">
                <a:moveTo>
                  <a:pt x="14461" y="7615"/>
                </a:moveTo>
                <a:cubicBezTo>
                  <a:pt x="14469" y="7615"/>
                  <a:pt x="14478" y="7615"/>
                  <a:pt x="14486" y="7615"/>
                </a:cubicBezTo>
                <a:cubicBezTo>
                  <a:pt x="14486" y="7656"/>
                  <a:pt x="14486" y="7698"/>
                  <a:pt x="14486" y="7739"/>
                </a:cubicBezTo>
              </a:path>
              <a:path w="721" h="720">
                <a:moveTo>
                  <a:pt x="14486" y="7516"/>
                </a:moveTo>
                <a:cubicBezTo>
                  <a:pt x="14486" y="7499"/>
                  <a:pt x="14486" y="7483"/>
                  <a:pt x="14486" y="7466"/>
                </a:cubicBezTo>
              </a:path>
              <a:path w="721" h="720">
                <a:moveTo>
                  <a:pt x="14461" y="7119"/>
                </a:moveTo>
                <a:cubicBezTo>
                  <a:pt x="14627" y="7174"/>
                  <a:pt x="14674" y="7219"/>
                  <a:pt x="14734" y="7392"/>
                </a:cubicBezTo>
                <a:cubicBezTo>
                  <a:pt x="14778" y="7519"/>
                  <a:pt x="14783" y="7674"/>
                  <a:pt x="14709" y="7789"/>
                </a:cubicBezTo>
                <a:cubicBezTo>
                  <a:pt x="14693" y="7805"/>
                  <a:pt x="14676" y="7822"/>
                  <a:pt x="14660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91080" y="2687760"/>
            <a:ext cx="358920" cy="125280"/>
          </a:xfrm>
          <a:custGeom>
            <a:avLst/>
            <a:gdLst/>
            <a:ahLst/>
            <a:rect l="l" t="t" r="r" b="b"/>
            <a:pathLst>
              <a:path w="993" h="348">
                <a:moveTo>
                  <a:pt x="15255" y="7541"/>
                </a:moveTo>
                <a:cubicBezTo>
                  <a:pt x="15255" y="7516"/>
                  <a:pt x="15255" y="7508"/>
                  <a:pt x="15280" y="7516"/>
                </a:cubicBezTo>
                <a:cubicBezTo>
                  <a:pt x="15242" y="7529"/>
                  <a:pt x="15255" y="7545"/>
                  <a:pt x="15255" y="7590"/>
                </a:cubicBezTo>
                <a:cubicBezTo>
                  <a:pt x="15255" y="7664"/>
                  <a:pt x="15283" y="7734"/>
                  <a:pt x="15354" y="7764"/>
                </a:cubicBezTo>
                <a:cubicBezTo>
                  <a:pt x="15404" y="7785"/>
                  <a:pt x="15460" y="7673"/>
                  <a:pt x="15478" y="7640"/>
                </a:cubicBezTo>
                <a:cubicBezTo>
                  <a:pt x="15498" y="7599"/>
                  <a:pt x="15507" y="7593"/>
                  <a:pt x="15503" y="7565"/>
                </a:cubicBezTo>
              </a:path>
              <a:path w="993" h="348">
                <a:moveTo>
                  <a:pt x="15751" y="7491"/>
                </a:moveTo>
                <a:cubicBezTo>
                  <a:pt x="15742" y="7463"/>
                  <a:pt x="15700" y="7443"/>
                  <a:pt x="15677" y="7491"/>
                </a:cubicBezTo>
                <a:cubicBezTo>
                  <a:pt x="15650" y="7546"/>
                  <a:pt x="15696" y="7565"/>
                  <a:pt x="15726" y="7590"/>
                </a:cubicBezTo>
                <a:cubicBezTo>
                  <a:pt x="15768" y="7625"/>
                  <a:pt x="15810" y="7650"/>
                  <a:pt x="15850" y="7689"/>
                </a:cubicBezTo>
                <a:cubicBezTo>
                  <a:pt x="15889" y="7728"/>
                  <a:pt x="15878" y="7784"/>
                  <a:pt x="15825" y="7813"/>
                </a:cubicBezTo>
                <a:cubicBezTo>
                  <a:pt x="15788" y="7833"/>
                  <a:pt x="15727" y="7813"/>
                  <a:pt x="15701" y="7789"/>
                </a:cubicBezTo>
                <a:cubicBezTo>
                  <a:pt x="15693" y="7781"/>
                  <a:pt x="15685" y="7772"/>
                  <a:pt x="15677" y="7764"/>
                </a:cubicBezTo>
              </a:path>
              <a:path w="993" h="348">
                <a:moveTo>
                  <a:pt x="15925" y="7590"/>
                </a:moveTo>
                <a:cubicBezTo>
                  <a:pt x="15955" y="7596"/>
                  <a:pt x="16015" y="7634"/>
                  <a:pt x="16049" y="7615"/>
                </a:cubicBezTo>
                <a:cubicBezTo>
                  <a:pt x="16071" y="7603"/>
                  <a:pt x="16134" y="7516"/>
                  <a:pt x="16123" y="7491"/>
                </a:cubicBezTo>
                <a:cubicBezTo>
                  <a:pt x="16115" y="7483"/>
                  <a:pt x="16106" y="7474"/>
                  <a:pt x="16098" y="7466"/>
                </a:cubicBezTo>
                <a:cubicBezTo>
                  <a:pt x="16041" y="7480"/>
                  <a:pt x="16027" y="7505"/>
                  <a:pt x="16024" y="7565"/>
                </a:cubicBezTo>
                <a:cubicBezTo>
                  <a:pt x="16020" y="7653"/>
                  <a:pt x="16053" y="7737"/>
                  <a:pt x="16148" y="7764"/>
                </a:cubicBezTo>
                <a:cubicBezTo>
                  <a:pt x="16197" y="7764"/>
                  <a:pt x="16214" y="7764"/>
                  <a:pt x="16247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05680" y="2670120"/>
            <a:ext cx="304560" cy="214200"/>
          </a:xfrm>
          <a:custGeom>
            <a:avLst/>
            <a:gdLst/>
            <a:ahLst/>
            <a:rect l="l" t="t" r="r" b="b"/>
            <a:pathLst>
              <a:path w="845" h="596">
                <a:moveTo>
                  <a:pt x="17239" y="7466"/>
                </a:moveTo>
                <a:cubicBezTo>
                  <a:pt x="17239" y="7383"/>
                  <a:pt x="17238" y="7563"/>
                  <a:pt x="17239" y="7565"/>
                </a:cubicBezTo>
                <a:cubicBezTo>
                  <a:pt x="17284" y="7641"/>
                  <a:pt x="17325" y="7649"/>
                  <a:pt x="17388" y="7615"/>
                </a:cubicBezTo>
                <a:cubicBezTo>
                  <a:pt x="17452" y="7581"/>
                  <a:pt x="17468" y="7550"/>
                  <a:pt x="17537" y="7541"/>
                </a:cubicBezTo>
                <a:cubicBezTo>
                  <a:pt x="17595" y="7645"/>
                  <a:pt x="17632" y="7716"/>
                  <a:pt x="17636" y="7838"/>
                </a:cubicBezTo>
                <a:cubicBezTo>
                  <a:pt x="17639" y="7922"/>
                  <a:pt x="17624" y="8004"/>
                  <a:pt x="17537" y="8012"/>
                </a:cubicBezTo>
                <a:cubicBezTo>
                  <a:pt x="17444" y="8020"/>
                  <a:pt x="17395" y="8003"/>
                  <a:pt x="17314" y="7962"/>
                </a:cubicBezTo>
              </a:path>
              <a:path w="845" h="596">
                <a:moveTo>
                  <a:pt x="18083" y="7441"/>
                </a:moveTo>
                <a:cubicBezTo>
                  <a:pt x="18039" y="7410"/>
                  <a:pt x="18016" y="7417"/>
                  <a:pt x="17959" y="7417"/>
                </a:cubicBezTo>
                <a:cubicBezTo>
                  <a:pt x="17934" y="7417"/>
                  <a:pt x="17909" y="7417"/>
                  <a:pt x="17884" y="7417"/>
                </a:cubicBezTo>
              </a:path>
              <a:path w="845" h="596">
                <a:moveTo>
                  <a:pt x="18083" y="7565"/>
                </a:moveTo>
                <a:cubicBezTo>
                  <a:pt x="18033" y="7565"/>
                  <a:pt x="17984" y="7565"/>
                  <a:pt x="17934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34080" y="2544840"/>
            <a:ext cx="1447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8455" y="7169"/>
                </a:moveTo>
                <a:cubicBezTo>
                  <a:pt x="18422" y="7119"/>
                  <a:pt x="18462" y="7147"/>
                  <a:pt x="18504" y="7119"/>
                </a:cubicBezTo>
                <a:cubicBezTo>
                  <a:pt x="18560" y="7081"/>
                  <a:pt x="18583" y="7069"/>
                  <a:pt x="18653" y="7069"/>
                </a:cubicBezTo>
                <a:cubicBezTo>
                  <a:pt x="18729" y="7069"/>
                  <a:pt x="18746" y="7099"/>
                  <a:pt x="18752" y="7169"/>
                </a:cubicBezTo>
                <a:cubicBezTo>
                  <a:pt x="18758" y="7245"/>
                  <a:pt x="18701" y="7258"/>
                  <a:pt x="18653" y="7293"/>
                </a:cubicBezTo>
                <a:cubicBezTo>
                  <a:pt x="18626" y="7313"/>
                  <a:pt x="18583" y="7353"/>
                  <a:pt x="18604" y="7392"/>
                </a:cubicBezTo>
                <a:cubicBezTo>
                  <a:pt x="18620" y="7422"/>
                  <a:pt x="18698" y="7448"/>
                  <a:pt x="18728" y="7466"/>
                </a:cubicBezTo>
                <a:cubicBezTo>
                  <a:pt x="18778" y="7496"/>
                  <a:pt x="18813" y="7509"/>
                  <a:pt x="18827" y="7565"/>
                </a:cubicBezTo>
                <a:cubicBezTo>
                  <a:pt x="18772" y="7598"/>
                  <a:pt x="18721" y="7590"/>
                  <a:pt x="18653" y="7590"/>
                </a:cubicBezTo>
                <a:cubicBezTo>
                  <a:pt x="18587" y="7590"/>
                  <a:pt x="18570" y="7590"/>
                  <a:pt x="18529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16680" y="3017880"/>
            <a:ext cx="331560" cy="322200"/>
          </a:xfrm>
          <a:custGeom>
            <a:avLst/>
            <a:gdLst/>
            <a:ahLst/>
            <a:rect l="l" t="t" r="r" b="b"/>
            <a:pathLst>
              <a:path w="919" h="894">
                <a:moveTo>
                  <a:pt x="14238" y="8756"/>
                </a:moveTo>
                <a:cubicBezTo>
                  <a:pt x="14238" y="8715"/>
                  <a:pt x="14238" y="8707"/>
                  <a:pt x="14238" y="8682"/>
                </a:cubicBezTo>
                <a:cubicBezTo>
                  <a:pt x="14238" y="8613"/>
                  <a:pt x="14241" y="8768"/>
                  <a:pt x="14238" y="8781"/>
                </a:cubicBezTo>
                <a:cubicBezTo>
                  <a:pt x="14217" y="8876"/>
                  <a:pt x="14213" y="8956"/>
                  <a:pt x="14213" y="9054"/>
                </a:cubicBezTo>
                <a:cubicBezTo>
                  <a:pt x="14213" y="9062"/>
                  <a:pt x="14213" y="9071"/>
                  <a:pt x="14213" y="9079"/>
                </a:cubicBezTo>
                <a:cubicBezTo>
                  <a:pt x="14243" y="9069"/>
                  <a:pt x="14256" y="9037"/>
                  <a:pt x="14288" y="9004"/>
                </a:cubicBezTo>
                <a:cubicBezTo>
                  <a:pt x="14331" y="8960"/>
                  <a:pt x="14325" y="8963"/>
                  <a:pt x="14387" y="8954"/>
                </a:cubicBezTo>
                <a:cubicBezTo>
                  <a:pt x="14415" y="9010"/>
                  <a:pt x="14476" y="9087"/>
                  <a:pt x="14461" y="9153"/>
                </a:cubicBezTo>
                <a:cubicBezTo>
                  <a:pt x="14447" y="9214"/>
                  <a:pt x="14397" y="9246"/>
                  <a:pt x="14337" y="9227"/>
                </a:cubicBezTo>
                <a:cubicBezTo>
                  <a:pt x="14301" y="9215"/>
                  <a:pt x="14230" y="9165"/>
                  <a:pt x="14213" y="9128"/>
                </a:cubicBezTo>
                <a:cubicBezTo>
                  <a:pt x="14213" y="9120"/>
                  <a:pt x="14213" y="9111"/>
                  <a:pt x="14213" y="9103"/>
                </a:cubicBezTo>
              </a:path>
              <a:path w="919" h="894">
                <a:moveTo>
                  <a:pt x="14709" y="9004"/>
                </a:moveTo>
                <a:cubicBezTo>
                  <a:pt x="14709" y="9062"/>
                  <a:pt x="14709" y="9120"/>
                  <a:pt x="14709" y="9178"/>
                </a:cubicBezTo>
              </a:path>
              <a:path w="919" h="894">
                <a:moveTo>
                  <a:pt x="14808" y="8905"/>
                </a:moveTo>
                <a:cubicBezTo>
                  <a:pt x="14868" y="8920"/>
                  <a:pt x="14858" y="8944"/>
                  <a:pt x="14858" y="9004"/>
                </a:cubicBezTo>
                <a:cubicBezTo>
                  <a:pt x="14858" y="9045"/>
                  <a:pt x="14858" y="9087"/>
                  <a:pt x="14858" y="9128"/>
                </a:cubicBezTo>
              </a:path>
              <a:path w="919" h="894">
                <a:moveTo>
                  <a:pt x="14833" y="8806"/>
                </a:moveTo>
                <a:cubicBezTo>
                  <a:pt x="14825" y="8806"/>
                  <a:pt x="14816" y="8806"/>
                  <a:pt x="14808" y="8806"/>
                </a:cubicBezTo>
              </a:path>
              <a:path w="919" h="894">
                <a:moveTo>
                  <a:pt x="14709" y="8682"/>
                </a:moveTo>
                <a:cubicBezTo>
                  <a:pt x="14668" y="8682"/>
                  <a:pt x="14652" y="8674"/>
                  <a:pt x="14660" y="8706"/>
                </a:cubicBezTo>
              </a:path>
              <a:path w="919" h="894">
                <a:moveTo>
                  <a:pt x="14808" y="8384"/>
                </a:moveTo>
                <a:cubicBezTo>
                  <a:pt x="14852" y="8384"/>
                  <a:pt x="14858" y="8390"/>
                  <a:pt x="14883" y="8409"/>
                </a:cubicBezTo>
                <a:cubicBezTo>
                  <a:pt x="14940" y="8452"/>
                  <a:pt x="14991" y="8526"/>
                  <a:pt x="15032" y="8582"/>
                </a:cubicBezTo>
                <a:cubicBezTo>
                  <a:pt x="15090" y="8661"/>
                  <a:pt x="15146" y="8779"/>
                  <a:pt x="15131" y="8880"/>
                </a:cubicBezTo>
                <a:cubicBezTo>
                  <a:pt x="15117" y="8975"/>
                  <a:pt x="15055" y="9030"/>
                  <a:pt x="15007" y="9103"/>
                </a:cubicBezTo>
                <a:cubicBezTo>
                  <a:pt x="14955" y="9182"/>
                  <a:pt x="14917" y="9209"/>
                  <a:pt x="14833" y="9252"/>
                </a:cubicBezTo>
                <a:cubicBezTo>
                  <a:pt x="14817" y="9260"/>
                  <a:pt x="14800" y="9269"/>
                  <a:pt x="14784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53080" y="3116160"/>
            <a:ext cx="865080" cy="196920"/>
          </a:xfrm>
          <a:custGeom>
            <a:avLst/>
            <a:gdLst/>
            <a:ahLst/>
            <a:rect l="l" t="t" r="r" b="b"/>
            <a:pathLst>
              <a:path w="2407" h="547">
                <a:moveTo>
                  <a:pt x="15751" y="8880"/>
                </a:moveTo>
                <a:cubicBezTo>
                  <a:pt x="15728" y="8903"/>
                  <a:pt x="15724" y="8911"/>
                  <a:pt x="15701" y="8905"/>
                </a:cubicBezTo>
                <a:cubicBezTo>
                  <a:pt x="15701" y="8864"/>
                  <a:pt x="15706" y="8825"/>
                  <a:pt x="15751" y="8806"/>
                </a:cubicBezTo>
                <a:cubicBezTo>
                  <a:pt x="15821" y="8776"/>
                  <a:pt x="15870" y="8830"/>
                  <a:pt x="15900" y="8880"/>
                </a:cubicBezTo>
                <a:cubicBezTo>
                  <a:pt x="15926" y="8925"/>
                  <a:pt x="15945" y="9028"/>
                  <a:pt x="15925" y="9079"/>
                </a:cubicBezTo>
                <a:cubicBezTo>
                  <a:pt x="15913" y="9110"/>
                  <a:pt x="15831" y="9151"/>
                  <a:pt x="15801" y="9153"/>
                </a:cubicBezTo>
                <a:cubicBezTo>
                  <a:pt x="15784" y="9153"/>
                  <a:pt x="15768" y="9153"/>
                  <a:pt x="15751" y="9153"/>
                </a:cubicBezTo>
              </a:path>
              <a:path w="2407" h="547">
                <a:moveTo>
                  <a:pt x="16073" y="8930"/>
                </a:moveTo>
                <a:cubicBezTo>
                  <a:pt x="16081" y="8922"/>
                  <a:pt x="16090" y="8913"/>
                  <a:pt x="16098" y="8905"/>
                </a:cubicBezTo>
                <a:cubicBezTo>
                  <a:pt x="16064" y="8905"/>
                  <a:pt x="15990" y="8921"/>
                  <a:pt x="15974" y="8954"/>
                </a:cubicBezTo>
                <a:cubicBezTo>
                  <a:pt x="15951" y="9000"/>
                  <a:pt x="15973" y="9121"/>
                  <a:pt x="15999" y="9153"/>
                </a:cubicBezTo>
                <a:cubicBezTo>
                  <a:pt x="16052" y="9218"/>
                  <a:pt x="16065" y="9213"/>
                  <a:pt x="16123" y="9178"/>
                </a:cubicBezTo>
              </a:path>
              <a:path w="2407" h="547">
                <a:moveTo>
                  <a:pt x="16297" y="8731"/>
                </a:moveTo>
                <a:cubicBezTo>
                  <a:pt x="16284" y="8692"/>
                  <a:pt x="16285" y="8721"/>
                  <a:pt x="16272" y="8682"/>
                </a:cubicBezTo>
                <a:cubicBezTo>
                  <a:pt x="16312" y="8682"/>
                  <a:pt x="16400" y="8664"/>
                  <a:pt x="16421" y="8706"/>
                </a:cubicBezTo>
                <a:cubicBezTo>
                  <a:pt x="16440" y="8743"/>
                  <a:pt x="16417" y="8804"/>
                  <a:pt x="16396" y="8830"/>
                </a:cubicBezTo>
                <a:cubicBezTo>
                  <a:pt x="16370" y="8862"/>
                  <a:pt x="16356" y="8891"/>
                  <a:pt x="16346" y="8930"/>
                </a:cubicBezTo>
                <a:cubicBezTo>
                  <a:pt x="16391" y="8930"/>
                  <a:pt x="16407" y="8915"/>
                  <a:pt x="16446" y="8905"/>
                </a:cubicBezTo>
              </a:path>
              <a:path w="2407" h="547">
                <a:moveTo>
                  <a:pt x="16669" y="8954"/>
                </a:moveTo>
                <a:cubicBezTo>
                  <a:pt x="16661" y="8954"/>
                  <a:pt x="16652" y="8954"/>
                  <a:pt x="16644" y="8954"/>
                </a:cubicBezTo>
                <a:cubicBezTo>
                  <a:pt x="16653" y="8982"/>
                  <a:pt x="16700" y="8997"/>
                  <a:pt x="16743" y="8979"/>
                </a:cubicBezTo>
                <a:cubicBezTo>
                  <a:pt x="16785" y="8962"/>
                  <a:pt x="16815" y="8935"/>
                  <a:pt x="16867" y="8930"/>
                </a:cubicBezTo>
                <a:cubicBezTo>
                  <a:pt x="16875" y="8930"/>
                  <a:pt x="16884" y="8930"/>
                  <a:pt x="16892" y="8930"/>
                </a:cubicBezTo>
              </a:path>
              <a:path w="2407" h="547">
                <a:moveTo>
                  <a:pt x="17239" y="8682"/>
                </a:moveTo>
                <a:cubicBezTo>
                  <a:pt x="17239" y="8613"/>
                  <a:pt x="17242" y="8769"/>
                  <a:pt x="17239" y="8781"/>
                </a:cubicBezTo>
                <a:cubicBezTo>
                  <a:pt x="17219" y="8853"/>
                  <a:pt x="17171" y="8908"/>
                  <a:pt x="17165" y="8979"/>
                </a:cubicBezTo>
                <a:cubicBezTo>
                  <a:pt x="17165" y="8987"/>
                  <a:pt x="17165" y="8996"/>
                  <a:pt x="17165" y="9004"/>
                </a:cubicBezTo>
                <a:cubicBezTo>
                  <a:pt x="17270" y="9004"/>
                  <a:pt x="17363" y="9002"/>
                  <a:pt x="17462" y="8979"/>
                </a:cubicBezTo>
                <a:cubicBezTo>
                  <a:pt x="17517" y="8966"/>
                  <a:pt x="17542" y="8999"/>
                  <a:pt x="17587" y="9004"/>
                </a:cubicBezTo>
                <a:cubicBezTo>
                  <a:pt x="17596" y="9005"/>
                  <a:pt x="17677" y="9004"/>
                  <a:pt x="17611" y="9004"/>
                </a:cubicBezTo>
              </a:path>
              <a:path w="2407" h="547">
                <a:moveTo>
                  <a:pt x="17512" y="8954"/>
                </a:moveTo>
                <a:cubicBezTo>
                  <a:pt x="17459" y="8939"/>
                  <a:pt x="17427" y="8937"/>
                  <a:pt x="17413" y="9004"/>
                </a:cubicBezTo>
                <a:cubicBezTo>
                  <a:pt x="17404" y="9048"/>
                  <a:pt x="17413" y="9108"/>
                  <a:pt x="17413" y="9153"/>
                </a:cubicBezTo>
              </a:path>
              <a:path w="2407" h="547">
                <a:moveTo>
                  <a:pt x="18107" y="8682"/>
                </a:moveTo>
                <a:cubicBezTo>
                  <a:pt x="18095" y="8731"/>
                  <a:pt x="18083" y="8731"/>
                  <a:pt x="18033" y="8731"/>
                </a:cubicBezTo>
                <a:cubicBezTo>
                  <a:pt x="17992" y="8731"/>
                  <a:pt x="17950" y="8731"/>
                  <a:pt x="17909" y="8731"/>
                </a:cubicBezTo>
              </a:path>
              <a:path w="2407" h="547">
                <a:moveTo>
                  <a:pt x="18083" y="8756"/>
                </a:moveTo>
                <a:cubicBezTo>
                  <a:pt x="18083" y="8837"/>
                  <a:pt x="18066" y="8801"/>
                  <a:pt x="18008" y="8830"/>
                </a:cubicBezTo>
                <a:cubicBezTo>
                  <a:pt x="17966" y="8851"/>
                  <a:pt x="17929" y="8869"/>
                  <a:pt x="17884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26160" y="3036960"/>
            <a:ext cx="133560" cy="17784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18479" y="8607"/>
                </a:moveTo>
                <a:cubicBezTo>
                  <a:pt x="18467" y="8603"/>
                  <a:pt x="18427" y="8556"/>
                  <a:pt x="18455" y="8533"/>
                </a:cubicBezTo>
                <a:cubicBezTo>
                  <a:pt x="18483" y="8510"/>
                  <a:pt x="18544" y="8483"/>
                  <a:pt x="18579" y="8458"/>
                </a:cubicBezTo>
                <a:cubicBezTo>
                  <a:pt x="18626" y="8423"/>
                  <a:pt x="18681" y="8420"/>
                  <a:pt x="18728" y="8458"/>
                </a:cubicBezTo>
                <a:cubicBezTo>
                  <a:pt x="18796" y="8513"/>
                  <a:pt x="18791" y="8628"/>
                  <a:pt x="18777" y="8706"/>
                </a:cubicBezTo>
                <a:cubicBezTo>
                  <a:pt x="18764" y="8780"/>
                  <a:pt x="18734" y="8906"/>
                  <a:pt x="18653" y="8930"/>
                </a:cubicBezTo>
                <a:cubicBezTo>
                  <a:pt x="18582" y="8951"/>
                  <a:pt x="18470" y="8917"/>
                  <a:pt x="18430" y="8855"/>
                </a:cubicBezTo>
                <a:cubicBezTo>
                  <a:pt x="18390" y="8794"/>
                  <a:pt x="18392" y="8668"/>
                  <a:pt x="18430" y="8607"/>
                </a:cubicBezTo>
                <a:cubicBezTo>
                  <a:pt x="18481" y="8556"/>
                  <a:pt x="18499" y="8536"/>
                  <a:pt x="18504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892840" y="3527280"/>
            <a:ext cx="411120" cy="187560"/>
          </a:xfrm>
          <a:custGeom>
            <a:avLst/>
            <a:gdLst/>
            <a:ahLst/>
            <a:rect l="l" t="t" r="r" b="b"/>
            <a:pathLst>
              <a:path w="1142" h="522">
                <a:moveTo>
                  <a:pt x="16371" y="10046"/>
                </a:moveTo>
                <a:cubicBezTo>
                  <a:pt x="16371" y="10071"/>
                  <a:pt x="16371" y="10079"/>
                  <a:pt x="16371" y="10096"/>
                </a:cubicBezTo>
                <a:cubicBezTo>
                  <a:pt x="16398" y="10080"/>
                  <a:pt x="16485" y="10027"/>
                  <a:pt x="16520" y="10046"/>
                </a:cubicBezTo>
                <a:cubicBezTo>
                  <a:pt x="16590" y="10083"/>
                  <a:pt x="16619" y="10172"/>
                  <a:pt x="16594" y="10244"/>
                </a:cubicBezTo>
                <a:cubicBezTo>
                  <a:pt x="16573" y="10305"/>
                  <a:pt x="16513" y="10345"/>
                  <a:pt x="16446" y="10319"/>
                </a:cubicBezTo>
                <a:cubicBezTo>
                  <a:pt x="16418" y="10291"/>
                  <a:pt x="16404" y="10282"/>
                  <a:pt x="16371" y="10294"/>
                </a:cubicBezTo>
              </a:path>
              <a:path w="1142" h="522">
                <a:moveTo>
                  <a:pt x="16694" y="9996"/>
                </a:moveTo>
                <a:cubicBezTo>
                  <a:pt x="16694" y="9988"/>
                  <a:pt x="16694" y="9979"/>
                  <a:pt x="16694" y="9971"/>
                </a:cubicBezTo>
                <a:cubicBezTo>
                  <a:pt x="16654" y="9981"/>
                  <a:pt x="16622" y="9999"/>
                  <a:pt x="16619" y="10046"/>
                </a:cubicBezTo>
                <a:cubicBezTo>
                  <a:pt x="16614" y="10114"/>
                  <a:pt x="16618" y="10174"/>
                  <a:pt x="16694" y="10195"/>
                </a:cubicBezTo>
                <a:cubicBezTo>
                  <a:pt x="16729" y="10205"/>
                  <a:pt x="16781" y="10195"/>
                  <a:pt x="16818" y="10195"/>
                </a:cubicBezTo>
              </a:path>
              <a:path w="1142" h="522">
                <a:moveTo>
                  <a:pt x="16892" y="9823"/>
                </a:moveTo>
                <a:cubicBezTo>
                  <a:pt x="16867" y="9823"/>
                  <a:pt x="16859" y="9823"/>
                  <a:pt x="16867" y="9798"/>
                </a:cubicBezTo>
                <a:cubicBezTo>
                  <a:pt x="16929" y="9798"/>
                  <a:pt x="16994" y="9783"/>
                  <a:pt x="17041" y="9823"/>
                </a:cubicBezTo>
                <a:cubicBezTo>
                  <a:pt x="17069" y="9847"/>
                  <a:pt x="17086" y="9899"/>
                  <a:pt x="17041" y="9922"/>
                </a:cubicBezTo>
                <a:cubicBezTo>
                  <a:pt x="17000" y="9943"/>
                  <a:pt x="16979" y="9946"/>
                  <a:pt x="16966" y="9996"/>
                </a:cubicBezTo>
                <a:cubicBezTo>
                  <a:pt x="16999" y="9996"/>
                  <a:pt x="17016" y="9996"/>
                  <a:pt x="17041" y="9996"/>
                </a:cubicBezTo>
              </a:path>
              <a:path w="1142" h="522">
                <a:moveTo>
                  <a:pt x="17338" y="10096"/>
                </a:moveTo>
                <a:cubicBezTo>
                  <a:pt x="17314" y="10096"/>
                  <a:pt x="17305" y="10096"/>
                  <a:pt x="17289" y="10096"/>
                </a:cubicBezTo>
                <a:cubicBezTo>
                  <a:pt x="17300" y="10063"/>
                  <a:pt x="17368" y="10054"/>
                  <a:pt x="17413" y="10071"/>
                </a:cubicBezTo>
                <a:cubicBezTo>
                  <a:pt x="17450" y="10085"/>
                  <a:pt x="17465" y="10096"/>
                  <a:pt x="17512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02240" y="3527280"/>
            <a:ext cx="135000" cy="13356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17835" y="9922"/>
                </a:moveTo>
                <a:cubicBezTo>
                  <a:pt x="17793" y="9922"/>
                  <a:pt x="17777" y="9930"/>
                  <a:pt x="17785" y="9897"/>
                </a:cubicBezTo>
                <a:cubicBezTo>
                  <a:pt x="17801" y="9865"/>
                  <a:pt x="17860" y="9809"/>
                  <a:pt x="17909" y="9798"/>
                </a:cubicBezTo>
                <a:cubicBezTo>
                  <a:pt x="17956" y="9787"/>
                  <a:pt x="18026" y="9796"/>
                  <a:pt x="18033" y="9847"/>
                </a:cubicBezTo>
                <a:cubicBezTo>
                  <a:pt x="18048" y="9951"/>
                  <a:pt x="18011" y="9955"/>
                  <a:pt x="17959" y="10021"/>
                </a:cubicBezTo>
                <a:cubicBezTo>
                  <a:pt x="17939" y="10047"/>
                  <a:pt x="17872" y="10115"/>
                  <a:pt x="17859" y="10145"/>
                </a:cubicBezTo>
                <a:cubicBezTo>
                  <a:pt x="17859" y="10153"/>
                  <a:pt x="17859" y="10162"/>
                  <a:pt x="17859" y="10170"/>
                </a:cubicBezTo>
                <a:cubicBezTo>
                  <a:pt x="17958" y="10170"/>
                  <a:pt x="18058" y="10170"/>
                  <a:pt x="18157" y="10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88080" y="3562200"/>
            <a:ext cx="71640" cy="6372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8777" y="9897"/>
                </a:moveTo>
                <a:cubicBezTo>
                  <a:pt x="18711" y="9897"/>
                  <a:pt x="18645" y="9897"/>
                  <a:pt x="18579" y="9897"/>
                </a:cubicBezTo>
              </a:path>
              <a:path w="199" h="175">
                <a:moveTo>
                  <a:pt x="18777" y="10021"/>
                </a:moveTo>
                <a:cubicBezTo>
                  <a:pt x="18777" y="10029"/>
                  <a:pt x="18777" y="10038"/>
                  <a:pt x="18777" y="10046"/>
                </a:cubicBezTo>
                <a:cubicBezTo>
                  <a:pt x="18733" y="10055"/>
                  <a:pt x="18700" y="10071"/>
                  <a:pt x="18653" y="10071"/>
                </a:cubicBezTo>
                <a:cubicBezTo>
                  <a:pt x="18645" y="10071"/>
                  <a:pt x="18636" y="10071"/>
                  <a:pt x="18628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85000" y="3446640"/>
            <a:ext cx="133200" cy="16164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19149" y="9699"/>
                </a:moveTo>
                <a:cubicBezTo>
                  <a:pt x="19110" y="9648"/>
                  <a:pt x="19129" y="9643"/>
                  <a:pt x="19174" y="9599"/>
                </a:cubicBezTo>
                <a:cubicBezTo>
                  <a:pt x="19197" y="9576"/>
                  <a:pt x="19264" y="9557"/>
                  <a:pt x="19298" y="9575"/>
                </a:cubicBezTo>
                <a:cubicBezTo>
                  <a:pt x="19346" y="9600"/>
                  <a:pt x="19370" y="9673"/>
                  <a:pt x="19348" y="9723"/>
                </a:cubicBezTo>
                <a:cubicBezTo>
                  <a:pt x="19315" y="9799"/>
                  <a:pt x="19257" y="9864"/>
                  <a:pt x="19199" y="9922"/>
                </a:cubicBezTo>
                <a:cubicBezTo>
                  <a:pt x="19166" y="9955"/>
                  <a:pt x="19174" y="9976"/>
                  <a:pt x="19174" y="10021"/>
                </a:cubicBezTo>
                <a:cubicBezTo>
                  <a:pt x="19237" y="10021"/>
                  <a:pt x="19266" y="10023"/>
                  <a:pt x="19323" y="9996"/>
                </a:cubicBezTo>
                <a:cubicBezTo>
                  <a:pt x="19377" y="9970"/>
                  <a:pt x="19414" y="9971"/>
                  <a:pt x="19472" y="9971"/>
                </a:cubicBezTo>
                <a:cubicBezTo>
                  <a:pt x="19480" y="9971"/>
                  <a:pt x="19488" y="9971"/>
                  <a:pt x="19496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37200" y="3902040"/>
            <a:ext cx="312840" cy="115920"/>
          </a:xfrm>
          <a:custGeom>
            <a:avLst/>
            <a:gdLst/>
            <a:ahLst/>
            <a:rect l="l" t="t" r="r" b="b"/>
            <a:pathLst>
              <a:path w="869" h="323">
                <a:moveTo>
                  <a:pt x="16768" y="10840"/>
                </a:moveTo>
                <a:cubicBezTo>
                  <a:pt x="16768" y="10893"/>
                  <a:pt x="16758" y="10925"/>
                  <a:pt x="16793" y="10964"/>
                </a:cubicBezTo>
                <a:cubicBezTo>
                  <a:pt x="16839" y="11014"/>
                  <a:pt x="16894" y="11021"/>
                  <a:pt x="16942" y="10964"/>
                </a:cubicBezTo>
                <a:cubicBezTo>
                  <a:pt x="16965" y="10916"/>
                  <a:pt x="16973" y="10901"/>
                  <a:pt x="16966" y="10864"/>
                </a:cubicBezTo>
              </a:path>
              <a:path w="869" h="323">
                <a:moveTo>
                  <a:pt x="17190" y="10889"/>
                </a:moveTo>
                <a:cubicBezTo>
                  <a:pt x="17198" y="10881"/>
                  <a:pt x="17206" y="10872"/>
                  <a:pt x="17214" y="10864"/>
                </a:cubicBezTo>
                <a:cubicBezTo>
                  <a:pt x="17173" y="10864"/>
                  <a:pt x="17120" y="10847"/>
                  <a:pt x="17115" y="10889"/>
                </a:cubicBezTo>
                <a:cubicBezTo>
                  <a:pt x="17109" y="10937"/>
                  <a:pt x="17136" y="10975"/>
                  <a:pt x="17165" y="11013"/>
                </a:cubicBezTo>
                <a:cubicBezTo>
                  <a:pt x="17192" y="11048"/>
                  <a:pt x="17190" y="11044"/>
                  <a:pt x="17190" y="11088"/>
                </a:cubicBezTo>
                <a:cubicBezTo>
                  <a:pt x="17131" y="11088"/>
                  <a:pt x="17087" y="11098"/>
                  <a:pt x="17041" y="11063"/>
                </a:cubicBezTo>
              </a:path>
              <a:path w="869" h="323">
                <a:moveTo>
                  <a:pt x="17264" y="11063"/>
                </a:moveTo>
                <a:cubicBezTo>
                  <a:pt x="17339" y="11063"/>
                  <a:pt x="17381" y="11066"/>
                  <a:pt x="17438" y="11013"/>
                </a:cubicBezTo>
                <a:cubicBezTo>
                  <a:pt x="17467" y="10986"/>
                  <a:pt x="17478" y="10974"/>
                  <a:pt x="17487" y="10939"/>
                </a:cubicBezTo>
                <a:cubicBezTo>
                  <a:pt x="17433" y="10915"/>
                  <a:pt x="17384" y="10882"/>
                  <a:pt x="17363" y="10964"/>
                </a:cubicBezTo>
                <a:cubicBezTo>
                  <a:pt x="17344" y="11038"/>
                  <a:pt x="17408" y="11105"/>
                  <a:pt x="17462" y="11137"/>
                </a:cubicBezTo>
                <a:cubicBezTo>
                  <a:pt x="17521" y="11172"/>
                  <a:pt x="17569" y="11162"/>
                  <a:pt x="17636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88080" y="3894120"/>
            <a:ext cx="571680" cy="177840"/>
          </a:xfrm>
          <a:custGeom>
            <a:avLst/>
            <a:gdLst/>
            <a:ahLst/>
            <a:rect l="l" t="t" r="r" b="b"/>
            <a:pathLst>
              <a:path w="1588" h="497">
                <a:moveTo>
                  <a:pt x="18604" y="10964"/>
                </a:moveTo>
                <a:cubicBezTo>
                  <a:pt x="18569" y="10952"/>
                  <a:pt x="18579" y="10900"/>
                  <a:pt x="18579" y="10939"/>
                </a:cubicBezTo>
                <a:cubicBezTo>
                  <a:pt x="18579" y="11005"/>
                  <a:pt x="18589" y="11056"/>
                  <a:pt x="18628" y="11112"/>
                </a:cubicBezTo>
                <a:cubicBezTo>
                  <a:pt x="18682" y="11191"/>
                  <a:pt x="18737" y="11144"/>
                  <a:pt x="18802" y="11112"/>
                </a:cubicBezTo>
                <a:cubicBezTo>
                  <a:pt x="18842" y="11092"/>
                  <a:pt x="18893" y="11065"/>
                  <a:pt x="18926" y="11112"/>
                </a:cubicBezTo>
                <a:cubicBezTo>
                  <a:pt x="18956" y="11155"/>
                  <a:pt x="18971" y="11245"/>
                  <a:pt x="18926" y="11286"/>
                </a:cubicBezTo>
                <a:cubicBezTo>
                  <a:pt x="18874" y="11333"/>
                  <a:pt x="18805" y="11310"/>
                  <a:pt x="18752" y="11286"/>
                </a:cubicBezTo>
                <a:cubicBezTo>
                  <a:pt x="18709" y="11264"/>
                  <a:pt x="18698" y="11260"/>
                  <a:pt x="18678" y="11237"/>
                </a:cubicBezTo>
              </a:path>
              <a:path w="1588" h="497">
                <a:moveTo>
                  <a:pt x="19273" y="10988"/>
                </a:moveTo>
                <a:cubicBezTo>
                  <a:pt x="19290" y="10980"/>
                  <a:pt x="19306" y="10972"/>
                  <a:pt x="19323" y="10964"/>
                </a:cubicBezTo>
                <a:cubicBezTo>
                  <a:pt x="19265" y="10964"/>
                  <a:pt x="19207" y="10964"/>
                  <a:pt x="19149" y="10964"/>
                </a:cubicBezTo>
              </a:path>
              <a:path w="1588" h="497">
                <a:moveTo>
                  <a:pt x="19298" y="11088"/>
                </a:moveTo>
                <a:cubicBezTo>
                  <a:pt x="19306" y="11088"/>
                  <a:pt x="19315" y="11088"/>
                  <a:pt x="19323" y="11088"/>
                </a:cubicBezTo>
                <a:cubicBezTo>
                  <a:pt x="19323" y="11151"/>
                  <a:pt x="19314" y="11137"/>
                  <a:pt x="19248" y="11137"/>
                </a:cubicBezTo>
                <a:cubicBezTo>
                  <a:pt x="19196" y="11137"/>
                  <a:pt x="19192" y="11123"/>
                  <a:pt x="19149" y="11112"/>
                </a:cubicBezTo>
              </a:path>
              <a:path w="1588" h="497">
                <a:moveTo>
                  <a:pt x="19645" y="10914"/>
                </a:moveTo>
                <a:cubicBezTo>
                  <a:pt x="19637" y="10897"/>
                  <a:pt x="19629" y="10881"/>
                  <a:pt x="19621" y="10864"/>
                </a:cubicBezTo>
                <a:cubicBezTo>
                  <a:pt x="19671" y="10824"/>
                  <a:pt x="19726" y="10796"/>
                  <a:pt x="19794" y="10815"/>
                </a:cubicBezTo>
                <a:cubicBezTo>
                  <a:pt x="19862" y="10834"/>
                  <a:pt x="19889" y="10876"/>
                  <a:pt x="19893" y="10939"/>
                </a:cubicBezTo>
                <a:cubicBezTo>
                  <a:pt x="19898" y="11023"/>
                  <a:pt x="19849" y="11057"/>
                  <a:pt x="19794" y="11112"/>
                </a:cubicBezTo>
                <a:cubicBezTo>
                  <a:pt x="19771" y="11135"/>
                  <a:pt x="19763" y="11139"/>
                  <a:pt x="19769" y="11162"/>
                </a:cubicBezTo>
                <a:cubicBezTo>
                  <a:pt x="19831" y="11211"/>
                  <a:pt x="19885" y="11225"/>
                  <a:pt x="19968" y="11212"/>
                </a:cubicBezTo>
                <a:cubicBezTo>
                  <a:pt x="20067" y="11187"/>
                  <a:pt x="20100" y="11179"/>
                  <a:pt x="20166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85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0:44:06Z</dcterms:created>
  <dc:creator>N Holden</dc:creator>
  <dc:description/>
  <dc:language>en-US</dc:language>
  <cp:lastModifiedBy>N Holden</cp:lastModifiedBy>
  <dcterms:modified xsi:type="dcterms:W3CDTF">2009-02-19T12:03:57Z</dcterms:modified>
  <cp:revision>3</cp:revision>
  <dc:subject/>
  <dc:title>IGCSE Revision Lesson 4</dc:title>
</cp:coreProperties>
</file>